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AC5F-876F-4528-B02B-98531B86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6586-0B9B-4059-8A0B-4F666187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3A0-6ECB-4EF4-9E71-41CCB3A5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87E5-F9DF-4FDD-8BAD-7E657839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CC6-2D87-4B5B-A467-D88EA407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E81-DDF9-4D3C-8EB6-FC18BC89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80C-7559-4E4E-8345-F58431B1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C26-0004-4870-94BF-912AFC4F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85EC-D74D-4243-B650-43014EC0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EFDF-CBBF-4C99-8930-D8CE6FD4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25D6-574F-49C7-9F51-34D30106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A4C-0DE6-4CC1-8777-47A9FDA7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B36B-F0AC-4A55-A960-F4D3443DF5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752480" y="1447920"/>
            <a:ext cx="60199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Home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Chec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Questions from last night’s hw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(pg 434 #15-17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Ink 3"/>
          <p:cNvSpPr/>
          <p:nvPr/>
        </p:nvSpPr>
        <p:spPr>
          <a:xfrm>
            <a:off x="509760" y="1384200"/>
            <a:ext cx="785520" cy="473040"/>
          </a:xfrm>
          <a:custGeom>
            <a:avLst/>
            <a:gdLst/>
            <a:ahLst/>
            <a:rect l="l" t="t" r="r" b="b"/>
            <a:pathLst>
              <a:path w="2184" h="1315">
                <a:moveTo>
                  <a:pt x="1463" y="4316"/>
                </a:moveTo>
                <a:cubicBezTo>
                  <a:pt x="1472" y="4386"/>
                  <a:pt x="1488" y="4441"/>
                  <a:pt x="1488" y="4514"/>
                </a:cubicBezTo>
                <a:cubicBezTo>
                  <a:pt x="1488" y="4598"/>
                  <a:pt x="1463" y="4647"/>
                  <a:pt x="1463" y="4738"/>
                </a:cubicBezTo>
                <a:cubicBezTo>
                  <a:pt x="1463" y="4807"/>
                  <a:pt x="1455" y="4918"/>
                  <a:pt x="1439" y="4986"/>
                </a:cubicBezTo>
                <a:cubicBezTo>
                  <a:pt x="1431" y="5002"/>
                  <a:pt x="1422" y="5019"/>
                  <a:pt x="1414" y="5035"/>
                </a:cubicBezTo>
              </a:path>
              <a:path w="2184" h="1315">
                <a:moveTo>
                  <a:pt x="1712" y="4366"/>
                </a:moveTo>
                <a:cubicBezTo>
                  <a:pt x="1783" y="4366"/>
                  <a:pt x="1821" y="4345"/>
                  <a:pt x="1885" y="4341"/>
                </a:cubicBezTo>
                <a:cubicBezTo>
                  <a:pt x="1937" y="4338"/>
                  <a:pt x="1941" y="4327"/>
                  <a:pt x="1984" y="4316"/>
                </a:cubicBezTo>
              </a:path>
              <a:path w="2184" h="1315">
                <a:moveTo>
                  <a:pt x="1687" y="4390"/>
                </a:moveTo>
                <a:cubicBezTo>
                  <a:pt x="1647" y="4469"/>
                  <a:pt x="1617" y="4530"/>
                  <a:pt x="1612" y="4614"/>
                </a:cubicBezTo>
                <a:cubicBezTo>
                  <a:pt x="1612" y="4663"/>
                  <a:pt x="1612" y="4680"/>
                  <a:pt x="1612" y="4713"/>
                </a:cubicBezTo>
                <a:cubicBezTo>
                  <a:pt x="1659" y="4666"/>
                  <a:pt x="1738" y="4547"/>
                  <a:pt x="1811" y="4564"/>
                </a:cubicBezTo>
                <a:cubicBezTo>
                  <a:pt x="1868" y="4578"/>
                  <a:pt x="1914" y="4638"/>
                  <a:pt x="1935" y="4688"/>
                </a:cubicBezTo>
                <a:cubicBezTo>
                  <a:pt x="1965" y="4761"/>
                  <a:pt x="1979" y="4924"/>
                  <a:pt x="1910" y="4986"/>
                </a:cubicBezTo>
                <a:cubicBezTo>
                  <a:pt x="1884" y="5010"/>
                  <a:pt x="1751" y="5072"/>
                  <a:pt x="1712" y="5060"/>
                </a:cubicBezTo>
                <a:cubicBezTo>
                  <a:pt x="1654" y="5042"/>
                  <a:pt x="1650" y="5006"/>
                  <a:pt x="1637" y="4961"/>
                </a:cubicBezTo>
              </a:path>
              <a:path w="2184" h="1315">
                <a:moveTo>
                  <a:pt x="1662" y="3969"/>
                </a:moveTo>
                <a:cubicBezTo>
                  <a:pt x="1740" y="3997"/>
                  <a:pt x="1811" y="4031"/>
                  <a:pt x="1885" y="4068"/>
                </a:cubicBezTo>
                <a:cubicBezTo>
                  <a:pt x="1974" y="4113"/>
                  <a:pt x="2038" y="4196"/>
                  <a:pt x="2108" y="4266"/>
                </a:cubicBezTo>
                <a:cubicBezTo>
                  <a:pt x="2156" y="4314"/>
                  <a:pt x="2180" y="4399"/>
                  <a:pt x="2183" y="4465"/>
                </a:cubicBezTo>
                <a:cubicBezTo>
                  <a:pt x="2188" y="4573"/>
                  <a:pt x="2195" y="4633"/>
                  <a:pt x="2183" y="4738"/>
                </a:cubicBezTo>
                <a:cubicBezTo>
                  <a:pt x="2172" y="4829"/>
                  <a:pt x="2149" y="4878"/>
                  <a:pt x="2108" y="4961"/>
                </a:cubicBezTo>
                <a:cubicBezTo>
                  <a:pt x="2080" y="5019"/>
                  <a:pt x="2028" y="5060"/>
                  <a:pt x="1984" y="5110"/>
                </a:cubicBezTo>
                <a:cubicBezTo>
                  <a:pt x="1976" y="5119"/>
                  <a:pt x="1893" y="5199"/>
                  <a:pt x="1960" y="5135"/>
                </a:cubicBezTo>
              </a:path>
              <a:path w="2184" h="1315">
                <a:moveTo>
                  <a:pt x="2530" y="4762"/>
                </a:moveTo>
                <a:cubicBezTo>
                  <a:pt x="2482" y="4846"/>
                  <a:pt x="2507" y="4872"/>
                  <a:pt x="2480" y="4961"/>
                </a:cubicBezTo>
                <a:cubicBezTo>
                  <a:pt x="2466" y="5006"/>
                  <a:pt x="2456" y="5028"/>
                  <a:pt x="2456" y="5085"/>
                </a:cubicBezTo>
                <a:cubicBezTo>
                  <a:pt x="2456" y="5002"/>
                  <a:pt x="2465" y="4918"/>
                  <a:pt x="2480" y="4837"/>
                </a:cubicBezTo>
                <a:cubicBezTo>
                  <a:pt x="2499" y="4734"/>
                  <a:pt x="2525" y="4641"/>
                  <a:pt x="2530" y="4539"/>
                </a:cubicBezTo>
                <a:cubicBezTo>
                  <a:pt x="2533" y="4466"/>
                  <a:pt x="2536" y="4361"/>
                  <a:pt x="2555" y="4291"/>
                </a:cubicBezTo>
                <a:cubicBezTo>
                  <a:pt x="2574" y="4219"/>
                  <a:pt x="2581" y="4138"/>
                  <a:pt x="2604" y="4068"/>
                </a:cubicBezTo>
                <a:cubicBezTo>
                  <a:pt x="2620" y="4020"/>
                  <a:pt x="2630" y="3958"/>
                  <a:pt x="2654" y="3919"/>
                </a:cubicBezTo>
                <a:cubicBezTo>
                  <a:pt x="2682" y="3891"/>
                  <a:pt x="2691" y="3878"/>
                  <a:pt x="2679" y="3845"/>
                </a:cubicBezTo>
                <a:cubicBezTo>
                  <a:pt x="2708" y="3892"/>
                  <a:pt x="2726" y="3937"/>
                  <a:pt x="2729" y="3994"/>
                </a:cubicBezTo>
                <a:cubicBezTo>
                  <a:pt x="2732" y="4049"/>
                  <a:pt x="2760" y="4114"/>
                  <a:pt x="2778" y="4167"/>
                </a:cubicBezTo>
                <a:cubicBezTo>
                  <a:pt x="2815" y="4276"/>
                  <a:pt x="2868" y="4382"/>
                  <a:pt x="2902" y="4490"/>
                </a:cubicBezTo>
                <a:cubicBezTo>
                  <a:pt x="2931" y="4579"/>
                  <a:pt x="2945" y="4670"/>
                  <a:pt x="2977" y="4762"/>
                </a:cubicBezTo>
                <a:cubicBezTo>
                  <a:pt x="3011" y="4859"/>
                  <a:pt x="3151" y="5083"/>
                  <a:pt x="3051" y="5060"/>
                </a:cubicBezTo>
                <a:cubicBezTo>
                  <a:pt x="3031" y="5020"/>
                  <a:pt x="3022" y="5014"/>
                  <a:pt x="3026" y="4986"/>
                </a:cubicBezTo>
              </a:path>
              <a:path w="2184" h="1315">
                <a:moveTo>
                  <a:pt x="2480" y="4614"/>
                </a:moveTo>
                <a:cubicBezTo>
                  <a:pt x="2621" y="4614"/>
                  <a:pt x="2761" y="4614"/>
                  <a:pt x="2902" y="4614"/>
                </a:cubicBezTo>
              </a:path>
              <a:path w="2184" h="1315">
                <a:moveTo>
                  <a:pt x="3274" y="4514"/>
                </a:moveTo>
                <a:cubicBezTo>
                  <a:pt x="3372" y="4514"/>
                  <a:pt x="3452" y="4494"/>
                  <a:pt x="3547" y="4490"/>
                </a:cubicBezTo>
                <a:cubicBezTo>
                  <a:pt x="3564" y="4490"/>
                  <a:pt x="3580" y="4490"/>
                  <a:pt x="3597" y="4490"/>
                </a:cubicBezTo>
              </a:path>
              <a:path w="2184" h="1315">
                <a:moveTo>
                  <a:pt x="3274" y="4663"/>
                </a:moveTo>
                <a:cubicBezTo>
                  <a:pt x="3329" y="4696"/>
                  <a:pt x="3380" y="4688"/>
                  <a:pt x="3448" y="4688"/>
                </a:cubicBezTo>
                <a:cubicBezTo>
                  <a:pt x="3509" y="4688"/>
                  <a:pt x="3525" y="4697"/>
                  <a:pt x="3547" y="46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Ink 4"/>
          <p:cNvSpPr/>
          <p:nvPr/>
        </p:nvSpPr>
        <p:spPr>
          <a:xfrm>
            <a:off x="1438200" y="1438200"/>
            <a:ext cx="428760" cy="347760"/>
          </a:xfrm>
          <a:custGeom>
            <a:avLst/>
            <a:gdLst/>
            <a:ahLst/>
            <a:rect l="l" t="t" r="r" b="b"/>
            <a:pathLst>
              <a:path w="1191" h="968">
                <a:moveTo>
                  <a:pt x="3994" y="4266"/>
                </a:moveTo>
                <a:cubicBezTo>
                  <a:pt x="4099" y="4266"/>
                  <a:pt x="4318" y="4298"/>
                  <a:pt x="4415" y="4242"/>
                </a:cubicBezTo>
              </a:path>
              <a:path w="1191" h="968">
                <a:moveTo>
                  <a:pt x="4043" y="4291"/>
                </a:moveTo>
                <a:cubicBezTo>
                  <a:pt x="4034" y="4334"/>
                  <a:pt x="3971" y="4503"/>
                  <a:pt x="3994" y="4564"/>
                </a:cubicBezTo>
                <a:cubicBezTo>
                  <a:pt x="4002" y="4572"/>
                  <a:pt x="4010" y="4581"/>
                  <a:pt x="4018" y="4589"/>
                </a:cubicBezTo>
                <a:cubicBezTo>
                  <a:pt x="4073" y="4534"/>
                  <a:pt x="4111" y="4481"/>
                  <a:pt x="4192" y="4465"/>
                </a:cubicBezTo>
                <a:cubicBezTo>
                  <a:pt x="4265" y="4450"/>
                  <a:pt x="4303" y="4519"/>
                  <a:pt x="4341" y="4564"/>
                </a:cubicBezTo>
                <a:cubicBezTo>
                  <a:pt x="4381" y="4612"/>
                  <a:pt x="4387" y="4675"/>
                  <a:pt x="4390" y="4738"/>
                </a:cubicBezTo>
                <a:cubicBezTo>
                  <a:pt x="4393" y="4797"/>
                  <a:pt x="4368" y="4854"/>
                  <a:pt x="4316" y="4887"/>
                </a:cubicBezTo>
                <a:cubicBezTo>
                  <a:pt x="4231" y="4941"/>
                  <a:pt x="4201" y="4956"/>
                  <a:pt x="4093" y="4961"/>
                </a:cubicBezTo>
                <a:cubicBezTo>
                  <a:pt x="4033" y="4964"/>
                  <a:pt x="4030" y="4960"/>
                  <a:pt x="4018" y="4911"/>
                </a:cubicBezTo>
              </a:path>
              <a:path w="1191" h="968">
                <a:moveTo>
                  <a:pt x="4812" y="4316"/>
                </a:moveTo>
                <a:cubicBezTo>
                  <a:pt x="4790" y="4238"/>
                  <a:pt x="4733" y="4220"/>
                  <a:pt x="4638" y="4242"/>
                </a:cubicBezTo>
                <a:cubicBezTo>
                  <a:pt x="4593" y="4252"/>
                  <a:pt x="4487" y="4305"/>
                  <a:pt x="4490" y="4366"/>
                </a:cubicBezTo>
                <a:cubicBezTo>
                  <a:pt x="4493" y="4422"/>
                  <a:pt x="4553" y="4477"/>
                  <a:pt x="4589" y="4514"/>
                </a:cubicBezTo>
                <a:cubicBezTo>
                  <a:pt x="4647" y="4572"/>
                  <a:pt x="4737" y="4609"/>
                  <a:pt x="4787" y="4663"/>
                </a:cubicBezTo>
                <a:cubicBezTo>
                  <a:pt x="4839" y="4719"/>
                  <a:pt x="4877" y="4817"/>
                  <a:pt x="4887" y="4887"/>
                </a:cubicBezTo>
                <a:cubicBezTo>
                  <a:pt x="4859" y="4914"/>
                  <a:pt x="4793" y="4965"/>
                  <a:pt x="4762" y="4961"/>
                </a:cubicBezTo>
                <a:cubicBezTo>
                  <a:pt x="4684" y="4950"/>
                  <a:pt x="4597" y="4909"/>
                  <a:pt x="4589" y="4837"/>
                </a:cubicBezTo>
                <a:cubicBezTo>
                  <a:pt x="4580" y="4758"/>
                  <a:pt x="4591" y="4700"/>
                  <a:pt x="4638" y="4638"/>
                </a:cubicBezTo>
                <a:cubicBezTo>
                  <a:pt x="4696" y="4561"/>
                  <a:pt x="4717" y="4515"/>
                  <a:pt x="4762" y="4440"/>
                </a:cubicBezTo>
                <a:cubicBezTo>
                  <a:pt x="4785" y="4403"/>
                  <a:pt x="4790" y="4378"/>
                  <a:pt x="4812" y="4341"/>
                </a:cubicBezTo>
              </a:path>
              <a:path w="1191" h="968">
                <a:moveTo>
                  <a:pt x="4961" y="4043"/>
                </a:moveTo>
                <a:cubicBezTo>
                  <a:pt x="4961" y="4106"/>
                  <a:pt x="4947" y="4168"/>
                  <a:pt x="4986" y="4217"/>
                </a:cubicBezTo>
                <a:cubicBezTo>
                  <a:pt x="5031" y="4273"/>
                  <a:pt x="5108" y="4283"/>
                  <a:pt x="5159" y="4242"/>
                </a:cubicBezTo>
                <a:cubicBezTo>
                  <a:pt x="5211" y="4201"/>
                  <a:pt x="5192" y="4111"/>
                  <a:pt x="5159" y="4068"/>
                </a:cubicBezTo>
                <a:cubicBezTo>
                  <a:pt x="5130" y="4031"/>
                  <a:pt x="5088" y="3977"/>
                  <a:pt x="5035" y="3994"/>
                </a:cubicBezTo>
                <a:cubicBezTo>
                  <a:pt x="5027" y="4002"/>
                  <a:pt x="5019" y="4010"/>
                  <a:pt x="5011" y="40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Ink 5"/>
          <p:cNvSpPr/>
          <p:nvPr/>
        </p:nvSpPr>
        <p:spPr>
          <a:xfrm>
            <a:off x="2089080" y="1482840"/>
            <a:ext cx="992160" cy="339480"/>
          </a:xfrm>
          <a:custGeom>
            <a:avLst/>
            <a:gdLst/>
            <a:ahLst/>
            <a:rect l="l" t="t" r="r" b="b"/>
            <a:pathLst>
              <a:path w="2755" h="943">
                <a:moveTo>
                  <a:pt x="6127" y="4539"/>
                </a:moveTo>
                <a:cubicBezTo>
                  <a:pt x="6127" y="4556"/>
                  <a:pt x="6127" y="4572"/>
                  <a:pt x="6127" y="4589"/>
                </a:cubicBezTo>
                <a:cubicBezTo>
                  <a:pt x="6097" y="4540"/>
                  <a:pt x="6096" y="4510"/>
                  <a:pt x="6052" y="4465"/>
                </a:cubicBezTo>
                <a:cubicBezTo>
                  <a:pt x="6022" y="4434"/>
                  <a:pt x="5965" y="4460"/>
                  <a:pt x="5928" y="4490"/>
                </a:cubicBezTo>
                <a:cubicBezTo>
                  <a:pt x="5882" y="4526"/>
                  <a:pt x="5849" y="4633"/>
                  <a:pt x="5829" y="4688"/>
                </a:cubicBezTo>
                <a:cubicBezTo>
                  <a:pt x="5792" y="4790"/>
                  <a:pt x="5804" y="4842"/>
                  <a:pt x="5854" y="4936"/>
                </a:cubicBezTo>
                <a:cubicBezTo>
                  <a:pt x="5897" y="5017"/>
                  <a:pt x="5959" y="4984"/>
                  <a:pt x="6028" y="4936"/>
                </a:cubicBezTo>
                <a:cubicBezTo>
                  <a:pt x="6099" y="4886"/>
                  <a:pt x="6083" y="4805"/>
                  <a:pt x="6102" y="4738"/>
                </a:cubicBezTo>
                <a:cubicBezTo>
                  <a:pt x="6110" y="4721"/>
                  <a:pt x="6119" y="4705"/>
                  <a:pt x="6127" y="4688"/>
                </a:cubicBezTo>
                <a:cubicBezTo>
                  <a:pt x="6127" y="4762"/>
                  <a:pt x="6125" y="4804"/>
                  <a:pt x="6176" y="4862"/>
                </a:cubicBezTo>
                <a:cubicBezTo>
                  <a:pt x="6223" y="4915"/>
                  <a:pt x="6209" y="4905"/>
                  <a:pt x="6276" y="4887"/>
                </a:cubicBezTo>
              </a:path>
              <a:path w="2755" h="943">
                <a:moveTo>
                  <a:pt x="6449" y="4539"/>
                </a:moveTo>
                <a:cubicBezTo>
                  <a:pt x="6510" y="4531"/>
                  <a:pt x="6588" y="4530"/>
                  <a:pt x="6648" y="4514"/>
                </a:cubicBezTo>
                <a:cubicBezTo>
                  <a:pt x="6664" y="4506"/>
                  <a:pt x="6681" y="4498"/>
                  <a:pt x="6697" y="4490"/>
                </a:cubicBezTo>
              </a:path>
              <a:path w="2755" h="943">
                <a:moveTo>
                  <a:pt x="6424" y="4688"/>
                </a:moveTo>
                <a:cubicBezTo>
                  <a:pt x="6508" y="4716"/>
                  <a:pt x="6582" y="4713"/>
                  <a:pt x="6672" y="4713"/>
                </a:cubicBezTo>
                <a:cubicBezTo>
                  <a:pt x="6721" y="4713"/>
                  <a:pt x="6821" y="4713"/>
                  <a:pt x="6772" y="4713"/>
                </a:cubicBezTo>
              </a:path>
              <a:path w="2755" h="943">
                <a:moveTo>
                  <a:pt x="7218" y="4242"/>
                </a:moveTo>
                <a:cubicBezTo>
                  <a:pt x="7232" y="4269"/>
                  <a:pt x="7232" y="4340"/>
                  <a:pt x="7218" y="4390"/>
                </a:cubicBezTo>
                <a:cubicBezTo>
                  <a:pt x="7202" y="4446"/>
                  <a:pt x="7171" y="4520"/>
                  <a:pt x="7144" y="4564"/>
                </a:cubicBezTo>
                <a:cubicBezTo>
                  <a:pt x="7216" y="4575"/>
                  <a:pt x="7260" y="4589"/>
                  <a:pt x="7342" y="4589"/>
                </a:cubicBezTo>
                <a:cubicBezTo>
                  <a:pt x="7405" y="4589"/>
                  <a:pt x="7445" y="4564"/>
                  <a:pt x="7516" y="4564"/>
                </a:cubicBezTo>
              </a:path>
              <a:path w="2755" h="943">
                <a:moveTo>
                  <a:pt x="7541" y="4118"/>
                </a:moveTo>
                <a:cubicBezTo>
                  <a:pt x="7523" y="4239"/>
                  <a:pt x="7516" y="4344"/>
                  <a:pt x="7516" y="4465"/>
                </a:cubicBezTo>
                <a:cubicBezTo>
                  <a:pt x="7516" y="4611"/>
                  <a:pt x="7525" y="4746"/>
                  <a:pt x="7541" y="4887"/>
                </a:cubicBezTo>
                <a:cubicBezTo>
                  <a:pt x="7541" y="4953"/>
                  <a:pt x="7541" y="4970"/>
                  <a:pt x="7541" y="5011"/>
                </a:cubicBezTo>
              </a:path>
              <a:path w="2755" h="943">
                <a:moveTo>
                  <a:pt x="7739" y="4911"/>
                </a:moveTo>
                <a:cubicBezTo>
                  <a:pt x="7739" y="5009"/>
                  <a:pt x="7766" y="4874"/>
                  <a:pt x="7689" y="4911"/>
                </a:cubicBezTo>
              </a:path>
              <a:path w="2755" h="943">
                <a:moveTo>
                  <a:pt x="8136" y="4242"/>
                </a:moveTo>
                <a:cubicBezTo>
                  <a:pt x="8248" y="4242"/>
                  <a:pt x="8416" y="4273"/>
                  <a:pt x="8508" y="4217"/>
                </a:cubicBezTo>
              </a:path>
              <a:path w="2755" h="943">
                <a:moveTo>
                  <a:pt x="8136" y="4266"/>
                </a:moveTo>
                <a:cubicBezTo>
                  <a:pt x="8097" y="4328"/>
                  <a:pt x="8029" y="4416"/>
                  <a:pt x="8012" y="4490"/>
                </a:cubicBezTo>
                <a:cubicBezTo>
                  <a:pt x="8000" y="4542"/>
                  <a:pt x="8014" y="4575"/>
                  <a:pt x="8037" y="4614"/>
                </a:cubicBezTo>
                <a:cubicBezTo>
                  <a:pt x="8129" y="4601"/>
                  <a:pt x="8110" y="4564"/>
                  <a:pt x="8161" y="4490"/>
                </a:cubicBezTo>
                <a:cubicBezTo>
                  <a:pt x="8199" y="4435"/>
                  <a:pt x="8291" y="4489"/>
                  <a:pt x="8334" y="4514"/>
                </a:cubicBezTo>
                <a:cubicBezTo>
                  <a:pt x="8394" y="4550"/>
                  <a:pt x="8520" y="4667"/>
                  <a:pt x="8533" y="4738"/>
                </a:cubicBezTo>
                <a:cubicBezTo>
                  <a:pt x="8549" y="4824"/>
                  <a:pt x="8561" y="4879"/>
                  <a:pt x="8508" y="4961"/>
                </a:cubicBezTo>
                <a:cubicBezTo>
                  <a:pt x="8461" y="5033"/>
                  <a:pt x="8376" y="5016"/>
                  <a:pt x="8310" y="5035"/>
                </a:cubicBezTo>
                <a:cubicBezTo>
                  <a:pt x="8255" y="5051"/>
                  <a:pt x="8141" y="5099"/>
                  <a:pt x="8186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6"/>
          <p:cNvSpPr/>
          <p:nvPr/>
        </p:nvSpPr>
        <p:spPr>
          <a:xfrm>
            <a:off x="3330720" y="1527120"/>
            <a:ext cx="849240" cy="303120"/>
          </a:xfrm>
          <a:custGeom>
            <a:avLst/>
            <a:gdLst/>
            <a:ahLst/>
            <a:rect l="l" t="t" r="r" b="b"/>
            <a:pathLst>
              <a:path w="2358" h="844">
                <a:moveTo>
                  <a:pt x="9302" y="4242"/>
                </a:moveTo>
                <a:cubicBezTo>
                  <a:pt x="9278" y="4290"/>
                  <a:pt x="9260" y="4378"/>
                  <a:pt x="9277" y="4440"/>
                </a:cubicBezTo>
                <a:cubicBezTo>
                  <a:pt x="9300" y="4524"/>
                  <a:pt x="9302" y="4597"/>
                  <a:pt x="9302" y="4688"/>
                </a:cubicBezTo>
                <a:cubicBezTo>
                  <a:pt x="9302" y="4763"/>
                  <a:pt x="9289" y="4827"/>
                  <a:pt x="9277" y="4887"/>
                </a:cubicBezTo>
                <a:cubicBezTo>
                  <a:pt x="9277" y="4945"/>
                  <a:pt x="9277" y="4970"/>
                  <a:pt x="9277" y="5011"/>
                </a:cubicBezTo>
                <a:cubicBezTo>
                  <a:pt x="9247" y="5025"/>
                  <a:pt x="9254" y="4946"/>
                  <a:pt x="9277" y="4887"/>
                </a:cubicBezTo>
                <a:cubicBezTo>
                  <a:pt x="9299" y="4830"/>
                  <a:pt x="9343" y="4768"/>
                  <a:pt x="9376" y="4713"/>
                </a:cubicBezTo>
                <a:cubicBezTo>
                  <a:pt x="9425" y="4632"/>
                  <a:pt x="9426" y="4619"/>
                  <a:pt x="9525" y="4614"/>
                </a:cubicBezTo>
                <a:cubicBezTo>
                  <a:pt x="9582" y="4611"/>
                  <a:pt x="9637" y="4650"/>
                  <a:pt x="9649" y="4713"/>
                </a:cubicBezTo>
                <a:cubicBezTo>
                  <a:pt x="9659" y="4769"/>
                  <a:pt x="9647" y="4865"/>
                  <a:pt x="9624" y="4911"/>
                </a:cubicBezTo>
                <a:cubicBezTo>
                  <a:pt x="9594" y="4970"/>
                  <a:pt x="9479" y="5010"/>
                  <a:pt x="9426" y="5035"/>
                </a:cubicBezTo>
                <a:cubicBezTo>
                  <a:pt x="9302" y="5094"/>
                  <a:pt x="9259" y="5077"/>
                  <a:pt x="9351" y="4961"/>
                </a:cubicBezTo>
              </a:path>
              <a:path w="2358" h="844">
                <a:moveTo>
                  <a:pt x="9897" y="4663"/>
                </a:moveTo>
                <a:cubicBezTo>
                  <a:pt x="9971" y="4643"/>
                  <a:pt x="10027" y="4624"/>
                  <a:pt x="10096" y="4614"/>
                </a:cubicBezTo>
              </a:path>
              <a:path w="2358" h="844">
                <a:moveTo>
                  <a:pt x="9847" y="4762"/>
                </a:moveTo>
                <a:cubicBezTo>
                  <a:pt x="9930" y="4755"/>
                  <a:pt x="9994" y="4742"/>
                  <a:pt x="10071" y="4713"/>
                </a:cubicBezTo>
              </a:path>
              <a:path w="2358" h="844">
                <a:moveTo>
                  <a:pt x="10418" y="4316"/>
                </a:moveTo>
                <a:cubicBezTo>
                  <a:pt x="10382" y="4376"/>
                  <a:pt x="10393" y="4440"/>
                  <a:pt x="10393" y="4514"/>
                </a:cubicBezTo>
                <a:cubicBezTo>
                  <a:pt x="10393" y="4596"/>
                  <a:pt x="10372" y="4661"/>
                  <a:pt x="10368" y="4738"/>
                </a:cubicBezTo>
                <a:cubicBezTo>
                  <a:pt x="10365" y="4794"/>
                  <a:pt x="10368" y="5001"/>
                  <a:pt x="10368" y="4961"/>
                </a:cubicBezTo>
              </a:path>
              <a:path w="2358" h="844">
                <a:moveTo>
                  <a:pt x="10418" y="4490"/>
                </a:moveTo>
                <a:cubicBezTo>
                  <a:pt x="10458" y="4424"/>
                  <a:pt x="10503" y="4310"/>
                  <a:pt x="10592" y="4291"/>
                </a:cubicBezTo>
                <a:cubicBezTo>
                  <a:pt x="10642" y="4280"/>
                  <a:pt x="10713" y="4291"/>
                  <a:pt x="10765" y="4291"/>
                </a:cubicBezTo>
                <a:cubicBezTo>
                  <a:pt x="10792" y="4382"/>
                  <a:pt x="10781" y="4437"/>
                  <a:pt x="10765" y="4514"/>
                </a:cubicBezTo>
                <a:cubicBezTo>
                  <a:pt x="10751" y="4582"/>
                  <a:pt x="10742" y="4633"/>
                  <a:pt x="10691" y="4688"/>
                </a:cubicBezTo>
                <a:cubicBezTo>
                  <a:pt x="10639" y="4744"/>
                  <a:pt x="10612" y="4802"/>
                  <a:pt x="10567" y="4862"/>
                </a:cubicBezTo>
                <a:cubicBezTo>
                  <a:pt x="10520" y="4925"/>
                  <a:pt x="10479" y="4930"/>
                  <a:pt x="10468" y="5011"/>
                </a:cubicBezTo>
                <a:cubicBezTo>
                  <a:pt x="10578" y="5011"/>
                  <a:pt x="10688" y="5024"/>
                  <a:pt x="10790" y="4986"/>
                </a:cubicBezTo>
              </a:path>
              <a:path w="2358" h="844">
                <a:moveTo>
                  <a:pt x="10988" y="4986"/>
                </a:moveTo>
                <a:cubicBezTo>
                  <a:pt x="11005" y="4986"/>
                  <a:pt x="11021" y="4986"/>
                  <a:pt x="11038" y="4986"/>
                </a:cubicBezTo>
              </a:path>
              <a:path w="2358" h="844">
                <a:moveTo>
                  <a:pt x="11534" y="4390"/>
                </a:moveTo>
                <a:cubicBezTo>
                  <a:pt x="11490" y="4357"/>
                  <a:pt x="11423" y="4301"/>
                  <a:pt x="11361" y="4316"/>
                </a:cubicBezTo>
                <a:cubicBezTo>
                  <a:pt x="11324" y="4325"/>
                  <a:pt x="11226" y="4342"/>
                  <a:pt x="11212" y="4390"/>
                </a:cubicBezTo>
                <a:cubicBezTo>
                  <a:pt x="11188" y="4473"/>
                  <a:pt x="11195" y="4486"/>
                  <a:pt x="11261" y="4564"/>
                </a:cubicBezTo>
                <a:cubicBezTo>
                  <a:pt x="11310" y="4622"/>
                  <a:pt x="11363" y="4677"/>
                  <a:pt x="11410" y="4738"/>
                </a:cubicBezTo>
                <a:cubicBezTo>
                  <a:pt x="11465" y="4810"/>
                  <a:pt x="11500" y="4868"/>
                  <a:pt x="11534" y="4936"/>
                </a:cubicBezTo>
                <a:cubicBezTo>
                  <a:pt x="11558" y="4983"/>
                  <a:pt x="11576" y="5028"/>
                  <a:pt x="11509" y="5060"/>
                </a:cubicBezTo>
                <a:cubicBezTo>
                  <a:pt x="11435" y="5095"/>
                  <a:pt x="11375" y="5094"/>
                  <a:pt x="11311" y="5060"/>
                </a:cubicBezTo>
                <a:cubicBezTo>
                  <a:pt x="11229" y="5016"/>
                  <a:pt x="11263" y="4956"/>
                  <a:pt x="11311" y="4887"/>
                </a:cubicBezTo>
                <a:cubicBezTo>
                  <a:pt x="11352" y="4828"/>
                  <a:pt x="11379" y="4758"/>
                  <a:pt x="11435" y="4713"/>
                </a:cubicBezTo>
                <a:cubicBezTo>
                  <a:pt x="11489" y="4670"/>
                  <a:pt x="11512" y="4641"/>
                  <a:pt x="11559" y="4589"/>
                </a:cubicBezTo>
                <a:cubicBezTo>
                  <a:pt x="11589" y="4556"/>
                  <a:pt x="11600" y="4532"/>
                  <a:pt x="11609" y="44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7"/>
          <p:cNvSpPr/>
          <p:nvPr/>
        </p:nvSpPr>
        <p:spPr>
          <a:xfrm>
            <a:off x="4660920" y="1465200"/>
            <a:ext cx="2286000" cy="428760"/>
          </a:xfrm>
          <a:custGeom>
            <a:avLst/>
            <a:gdLst/>
            <a:ahLst/>
            <a:rect l="l" t="t" r="r" b="b"/>
            <a:pathLst>
              <a:path w="6351" h="1192">
                <a:moveTo>
                  <a:pt x="13221" y="4366"/>
                </a:moveTo>
                <a:cubicBezTo>
                  <a:pt x="13221" y="4626"/>
                  <a:pt x="13178" y="5336"/>
                  <a:pt x="13246" y="5085"/>
                </a:cubicBezTo>
                <a:cubicBezTo>
                  <a:pt x="13246" y="5068"/>
                  <a:pt x="13246" y="5052"/>
                  <a:pt x="13246" y="5035"/>
                </a:cubicBezTo>
              </a:path>
              <a:path w="6351" h="1192">
                <a:moveTo>
                  <a:pt x="13419" y="4490"/>
                </a:moveTo>
                <a:cubicBezTo>
                  <a:pt x="13516" y="4490"/>
                  <a:pt x="13609" y="4481"/>
                  <a:pt x="13692" y="4465"/>
                </a:cubicBezTo>
                <a:cubicBezTo>
                  <a:pt x="13737" y="4465"/>
                  <a:pt x="13750" y="4462"/>
                  <a:pt x="13767" y="4490"/>
                </a:cubicBezTo>
                <a:cubicBezTo>
                  <a:pt x="13736" y="4528"/>
                  <a:pt x="13679" y="4588"/>
                  <a:pt x="13667" y="4638"/>
                </a:cubicBezTo>
                <a:cubicBezTo>
                  <a:pt x="13652" y="4701"/>
                  <a:pt x="13629" y="4774"/>
                  <a:pt x="13618" y="4837"/>
                </a:cubicBezTo>
                <a:cubicBezTo>
                  <a:pt x="13605" y="4915"/>
                  <a:pt x="13618" y="5007"/>
                  <a:pt x="13618" y="5085"/>
                </a:cubicBezTo>
                <a:cubicBezTo>
                  <a:pt x="13627" y="5024"/>
                  <a:pt x="13635" y="5018"/>
                  <a:pt x="13667" y="4961"/>
                </a:cubicBezTo>
              </a:path>
              <a:path w="6351" h="1192">
                <a:moveTo>
                  <a:pt x="13791" y="4390"/>
                </a:moveTo>
                <a:cubicBezTo>
                  <a:pt x="13701" y="4230"/>
                  <a:pt x="13683" y="4223"/>
                  <a:pt x="13494" y="4217"/>
                </a:cubicBezTo>
                <a:cubicBezTo>
                  <a:pt x="13412" y="4214"/>
                  <a:pt x="13326" y="4258"/>
                  <a:pt x="13246" y="4291"/>
                </a:cubicBezTo>
                <a:cubicBezTo>
                  <a:pt x="13164" y="4325"/>
                  <a:pt x="13074" y="4392"/>
                  <a:pt x="13022" y="4465"/>
                </a:cubicBezTo>
                <a:cubicBezTo>
                  <a:pt x="12972" y="4534"/>
                  <a:pt x="12952" y="4632"/>
                  <a:pt x="12948" y="4713"/>
                </a:cubicBezTo>
                <a:cubicBezTo>
                  <a:pt x="12943" y="4819"/>
                  <a:pt x="12956" y="4913"/>
                  <a:pt x="12998" y="5011"/>
                </a:cubicBezTo>
                <a:cubicBezTo>
                  <a:pt x="13028" y="5082"/>
                  <a:pt x="13109" y="5164"/>
                  <a:pt x="13171" y="5209"/>
                </a:cubicBezTo>
                <a:cubicBezTo>
                  <a:pt x="13228" y="5251"/>
                  <a:pt x="13349" y="5255"/>
                  <a:pt x="13419" y="5259"/>
                </a:cubicBezTo>
                <a:cubicBezTo>
                  <a:pt x="13494" y="5263"/>
                  <a:pt x="13597" y="5236"/>
                  <a:pt x="13667" y="5209"/>
                </a:cubicBezTo>
                <a:cubicBezTo>
                  <a:pt x="13735" y="5183"/>
                  <a:pt x="13874" y="5072"/>
                  <a:pt x="13915" y="5011"/>
                </a:cubicBezTo>
                <a:cubicBezTo>
                  <a:pt x="13968" y="4931"/>
                  <a:pt x="13986" y="4830"/>
                  <a:pt x="13990" y="4738"/>
                </a:cubicBezTo>
                <a:cubicBezTo>
                  <a:pt x="13993" y="4678"/>
                  <a:pt x="13989" y="4591"/>
                  <a:pt x="13965" y="4539"/>
                </a:cubicBezTo>
                <a:cubicBezTo>
                  <a:pt x="13941" y="4487"/>
                  <a:pt x="13903" y="4449"/>
                  <a:pt x="13866" y="4415"/>
                </a:cubicBezTo>
                <a:cubicBezTo>
                  <a:pt x="13841" y="4390"/>
                  <a:pt x="13833" y="4382"/>
                  <a:pt x="13816" y="4366"/>
                </a:cubicBezTo>
              </a:path>
              <a:path w="6351" h="1192">
                <a:moveTo>
                  <a:pt x="14536" y="4366"/>
                </a:moveTo>
                <a:cubicBezTo>
                  <a:pt x="14513" y="4450"/>
                  <a:pt x="14492" y="4488"/>
                  <a:pt x="14461" y="4564"/>
                </a:cubicBezTo>
                <a:cubicBezTo>
                  <a:pt x="14427" y="4647"/>
                  <a:pt x="14415" y="4735"/>
                  <a:pt x="14387" y="4812"/>
                </a:cubicBezTo>
                <a:cubicBezTo>
                  <a:pt x="14360" y="4887"/>
                  <a:pt x="14335" y="4992"/>
                  <a:pt x="14288" y="5060"/>
                </a:cubicBezTo>
                <a:cubicBezTo>
                  <a:pt x="14280" y="5068"/>
                  <a:pt x="14271" y="5077"/>
                  <a:pt x="14263" y="5085"/>
                </a:cubicBezTo>
                <a:cubicBezTo>
                  <a:pt x="14322" y="5011"/>
                  <a:pt x="14307" y="4953"/>
                  <a:pt x="14337" y="4862"/>
                </a:cubicBezTo>
                <a:cubicBezTo>
                  <a:pt x="14377" y="4741"/>
                  <a:pt x="14416" y="4639"/>
                  <a:pt x="14461" y="4514"/>
                </a:cubicBezTo>
                <a:cubicBezTo>
                  <a:pt x="14496" y="4415"/>
                  <a:pt x="14544" y="4322"/>
                  <a:pt x="14560" y="4217"/>
                </a:cubicBezTo>
                <a:cubicBezTo>
                  <a:pt x="14571" y="4150"/>
                  <a:pt x="14599" y="4130"/>
                  <a:pt x="14635" y="4068"/>
                </a:cubicBezTo>
                <a:cubicBezTo>
                  <a:pt x="14709" y="4122"/>
                  <a:pt x="14729" y="4169"/>
                  <a:pt x="14734" y="4266"/>
                </a:cubicBezTo>
                <a:cubicBezTo>
                  <a:pt x="14738" y="4342"/>
                  <a:pt x="14745" y="4437"/>
                  <a:pt x="14759" y="4514"/>
                </a:cubicBezTo>
                <a:cubicBezTo>
                  <a:pt x="14776" y="4605"/>
                  <a:pt x="14788" y="4699"/>
                  <a:pt x="14808" y="4787"/>
                </a:cubicBezTo>
                <a:cubicBezTo>
                  <a:pt x="14831" y="4887"/>
                  <a:pt x="14842" y="5021"/>
                  <a:pt x="14883" y="5110"/>
                </a:cubicBezTo>
                <a:cubicBezTo>
                  <a:pt x="14911" y="5138"/>
                  <a:pt x="14920" y="5142"/>
                  <a:pt x="14908" y="5085"/>
                </a:cubicBezTo>
              </a:path>
              <a:path w="6351" h="1192">
                <a:moveTo>
                  <a:pt x="14511" y="4713"/>
                </a:moveTo>
                <a:cubicBezTo>
                  <a:pt x="14557" y="4690"/>
                  <a:pt x="14636" y="4673"/>
                  <a:pt x="14684" y="4663"/>
                </a:cubicBezTo>
                <a:cubicBezTo>
                  <a:pt x="14701" y="4663"/>
                  <a:pt x="14717" y="4663"/>
                  <a:pt x="14734" y="4663"/>
                </a:cubicBezTo>
              </a:path>
              <a:path w="6351" h="1192">
                <a:moveTo>
                  <a:pt x="15106" y="4614"/>
                </a:moveTo>
                <a:cubicBezTo>
                  <a:pt x="15178" y="4614"/>
                  <a:pt x="15215" y="4593"/>
                  <a:pt x="15280" y="4589"/>
                </a:cubicBezTo>
                <a:cubicBezTo>
                  <a:pt x="15296" y="4589"/>
                  <a:pt x="15313" y="4589"/>
                  <a:pt x="15329" y="4589"/>
                </a:cubicBezTo>
              </a:path>
              <a:path w="6351" h="1192">
                <a:moveTo>
                  <a:pt x="15106" y="4713"/>
                </a:moveTo>
                <a:cubicBezTo>
                  <a:pt x="15189" y="4741"/>
                  <a:pt x="15252" y="4752"/>
                  <a:pt x="15329" y="4713"/>
                </a:cubicBezTo>
              </a:path>
              <a:path w="6351" h="1192">
                <a:moveTo>
                  <a:pt x="15701" y="4366"/>
                </a:moveTo>
                <a:cubicBezTo>
                  <a:pt x="15825" y="4366"/>
                  <a:pt x="15949" y="4366"/>
                  <a:pt x="16073" y="4366"/>
                </a:cubicBezTo>
              </a:path>
              <a:path w="6351" h="1192">
                <a:moveTo>
                  <a:pt x="15701" y="4415"/>
                </a:moveTo>
                <a:cubicBezTo>
                  <a:pt x="15668" y="4492"/>
                  <a:pt x="15620" y="4597"/>
                  <a:pt x="15652" y="4688"/>
                </a:cubicBezTo>
                <a:cubicBezTo>
                  <a:pt x="15660" y="4696"/>
                  <a:pt x="15669" y="4705"/>
                  <a:pt x="15677" y="4713"/>
                </a:cubicBezTo>
                <a:cubicBezTo>
                  <a:pt x="15713" y="4683"/>
                  <a:pt x="15777" y="4623"/>
                  <a:pt x="15825" y="4614"/>
                </a:cubicBezTo>
                <a:cubicBezTo>
                  <a:pt x="15908" y="4599"/>
                  <a:pt x="15924" y="4637"/>
                  <a:pt x="15974" y="4688"/>
                </a:cubicBezTo>
                <a:cubicBezTo>
                  <a:pt x="16012" y="4726"/>
                  <a:pt x="16021" y="4808"/>
                  <a:pt x="16024" y="4862"/>
                </a:cubicBezTo>
                <a:cubicBezTo>
                  <a:pt x="16027" y="4911"/>
                  <a:pt x="16001" y="4991"/>
                  <a:pt x="15974" y="5035"/>
                </a:cubicBezTo>
                <a:cubicBezTo>
                  <a:pt x="15951" y="5072"/>
                  <a:pt x="15891" y="5125"/>
                  <a:pt x="15850" y="5135"/>
                </a:cubicBezTo>
                <a:cubicBezTo>
                  <a:pt x="15814" y="5144"/>
                  <a:pt x="15639" y="5139"/>
                  <a:pt x="15627" y="5085"/>
                </a:cubicBezTo>
                <a:cubicBezTo>
                  <a:pt x="15649" y="5041"/>
                  <a:pt x="15652" y="5030"/>
                  <a:pt x="15677" y="5011"/>
                </a:cubicBezTo>
              </a:path>
              <a:path w="6351" h="1192">
                <a:moveTo>
                  <a:pt x="16421" y="4490"/>
                </a:moveTo>
                <a:cubicBezTo>
                  <a:pt x="16395" y="4388"/>
                  <a:pt x="16400" y="4305"/>
                  <a:pt x="16272" y="4341"/>
                </a:cubicBezTo>
                <a:cubicBezTo>
                  <a:pt x="16191" y="4364"/>
                  <a:pt x="16077" y="4379"/>
                  <a:pt x="16073" y="4490"/>
                </a:cubicBezTo>
                <a:cubicBezTo>
                  <a:pt x="16072" y="4528"/>
                  <a:pt x="16148" y="4688"/>
                  <a:pt x="16173" y="4713"/>
                </a:cubicBezTo>
                <a:cubicBezTo>
                  <a:pt x="16232" y="4773"/>
                  <a:pt x="16247" y="4837"/>
                  <a:pt x="16297" y="4911"/>
                </a:cubicBezTo>
                <a:cubicBezTo>
                  <a:pt x="16330" y="4960"/>
                  <a:pt x="16371" y="5019"/>
                  <a:pt x="16346" y="5085"/>
                </a:cubicBezTo>
                <a:cubicBezTo>
                  <a:pt x="16318" y="5158"/>
                  <a:pt x="16248" y="5133"/>
                  <a:pt x="16197" y="5110"/>
                </a:cubicBezTo>
                <a:cubicBezTo>
                  <a:pt x="16129" y="5079"/>
                  <a:pt x="16103" y="5091"/>
                  <a:pt x="16098" y="5011"/>
                </a:cubicBezTo>
                <a:cubicBezTo>
                  <a:pt x="16093" y="4925"/>
                  <a:pt x="16155" y="4882"/>
                  <a:pt x="16197" y="4812"/>
                </a:cubicBezTo>
                <a:cubicBezTo>
                  <a:pt x="16231" y="4755"/>
                  <a:pt x="16255" y="4689"/>
                  <a:pt x="16297" y="4638"/>
                </a:cubicBezTo>
                <a:cubicBezTo>
                  <a:pt x="16332" y="4595"/>
                  <a:pt x="16362" y="4556"/>
                  <a:pt x="16396" y="4514"/>
                </a:cubicBezTo>
              </a:path>
              <a:path w="6351" h="1192">
                <a:moveTo>
                  <a:pt x="16520" y="4316"/>
                </a:moveTo>
                <a:cubicBezTo>
                  <a:pt x="16503" y="4430"/>
                  <a:pt x="16472" y="4460"/>
                  <a:pt x="16520" y="4539"/>
                </a:cubicBezTo>
                <a:cubicBezTo>
                  <a:pt x="16567" y="4532"/>
                  <a:pt x="16619" y="4518"/>
                  <a:pt x="16644" y="4465"/>
                </a:cubicBezTo>
                <a:cubicBezTo>
                  <a:pt x="16684" y="4380"/>
                  <a:pt x="16678" y="4350"/>
                  <a:pt x="16619" y="4291"/>
                </a:cubicBezTo>
                <a:cubicBezTo>
                  <a:pt x="16568" y="4240"/>
                  <a:pt x="16591" y="4246"/>
                  <a:pt x="16520" y="4266"/>
                </a:cubicBezTo>
              </a:path>
              <a:path w="6351" h="1192">
                <a:moveTo>
                  <a:pt x="17289" y="4911"/>
                </a:moveTo>
                <a:cubicBezTo>
                  <a:pt x="17314" y="4911"/>
                  <a:pt x="17338" y="4911"/>
                  <a:pt x="17363" y="4911"/>
                </a:cubicBezTo>
                <a:cubicBezTo>
                  <a:pt x="17354" y="4850"/>
                  <a:pt x="17334" y="4811"/>
                  <a:pt x="17289" y="4762"/>
                </a:cubicBezTo>
                <a:cubicBezTo>
                  <a:pt x="17240" y="4708"/>
                  <a:pt x="17184" y="4747"/>
                  <a:pt x="17140" y="4787"/>
                </a:cubicBezTo>
                <a:cubicBezTo>
                  <a:pt x="17089" y="4832"/>
                  <a:pt x="17048" y="4877"/>
                  <a:pt x="17016" y="4936"/>
                </a:cubicBezTo>
                <a:cubicBezTo>
                  <a:pt x="16974" y="5016"/>
                  <a:pt x="16964" y="5082"/>
                  <a:pt x="16991" y="5159"/>
                </a:cubicBezTo>
                <a:cubicBezTo>
                  <a:pt x="17024" y="5253"/>
                  <a:pt x="17062" y="5236"/>
                  <a:pt x="17140" y="5209"/>
                </a:cubicBezTo>
                <a:cubicBezTo>
                  <a:pt x="17199" y="5188"/>
                  <a:pt x="17283" y="5137"/>
                  <a:pt x="17314" y="5085"/>
                </a:cubicBezTo>
                <a:cubicBezTo>
                  <a:pt x="17333" y="5052"/>
                  <a:pt x="17338" y="4838"/>
                  <a:pt x="17338" y="4961"/>
                </a:cubicBezTo>
                <a:cubicBezTo>
                  <a:pt x="17338" y="5038"/>
                  <a:pt x="17342" y="5093"/>
                  <a:pt x="17388" y="5159"/>
                </a:cubicBezTo>
                <a:cubicBezTo>
                  <a:pt x="17423" y="5208"/>
                  <a:pt x="17478" y="5226"/>
                  <a:pt x="17537" y="5209"/>
                </a:cubicBezTo>
                <a:cubicBezTo>
                  <a:pt x="17554" y="5201"/>
                  <a:pt x="17570" y="5192"/>
                  <a:pt x="17587" y="5184"/>
                </a:cubicBezTo>
              </a:path>
              <a:path w="6351" h="1192">
                <a:moveTo>
                  <a:pt x="17661" y="4837"/>
                </a:moveTo>
                <a:cubicBezTo>
                  <a:pt x="17744" y="4837"/>
                  <a:pt x="17826" y="4837"/>
                  <a:pt x="17909" y="4837"/>
                </a:cubicBezTo>
              </a:path>
              <a:path w="6351" h="1192">
                <a:moveTo>
                  <a:pt x="17661" y="4961"/>
                </a:moveTo>
                <a:cubicBezTo>
                  <a:pt x="17768" y="4980"/>
                  <a:pt x="17837" y="5005"/>
                  <a:pt x="17934" y="4961"/>
                </a:cubicBezTo>
                <a:cubicBezTo>
                  <a:pt x="17950" y="4953"/>
                  <a:pt x="17967" y="4944"/>
                  <a:pt x="17983" y="4936"/>
                </a:cubicBezTo>
              </a:path>
              <a:path w="6351" h="1192">
                <a:moveTo>
                  <a:pt x="18331" y="4390"/>
                </a:moveTo>
                <a:cubicBezTo>
                  <a:pt x="18331" y="4520"/>
                  <a:pt x="18318" y="4634"/>
                  <a:pt x="18306" y="4762"/>
                </a:cubicBezTo>
                <a:cubicBezTo>
                  <a:pt x="18298" y="4852"/>
                  <a:pt x="18292" y="5147"/>
                  <a:pt x="18331" y="5135"/>
                </a:cubicBezTo>
              </a:path>
              <a:path w="6351" h="1192">
                <a:moveTo>
                  <a:pt x="18529" y="4390"/>
                </a:moveTo>
                <a:cubicBezTo>
                  <a:pt x="18529" y="4602"/>
                  <a:pt x="18448" y="5008"/>
                  <a:pt x="18554" y="5184"/>
                </a:cubicBezTo>
              </a:path>
              <a:path w="6351" h="1192">
                <a:moveTo>
                  <a:pt x="18728" y="5110"/>
                </a:moveTo>
                <a:cubicBezTo>
                  <a:pt x="18736" y="5110"/>
                  <a:pt x="18744" y="5110"/>
                  <a:pt x="18752" y="5110"/>
                </a:cubicBezTo>
              </a:path>
              <a:path w="6351" h="1192">
                <a:moveTo>
                  <a:pt x="19000" y="4514"/>
                </a:moveTo>
                <a:cubicBezTo>
                  <a:pt x="18960" y="4628"/>
                  <a:pt x="18918" y="4670"/>
                  <a:pt x="19000" y="4762"/>
                </a:cubicBezTo>
                <a:cubicBezTo>
                  <a:pt x="19047" y="4814"/>
                  <a:pt x="19120" y="4786"/>
                  <a:pt x="19174" y="4762"/>
                </a:cubicBezTo>
                <a:cubicBezTo>
                  <a:pt x="19228" y="4736"/>
                  <a:pt x="19248" y="4724"/>
                  <a:pt x="19273" y="4688"/>
                </a:cubicBezTo>
              </a:path>
              <a:path w="6351" h="1192">
                <a:moveTo>
                  <a:pt x="19298" y="4341"/>
                </a:moveTo>
                <a:cubicBezTo>
                  <a:pt x="19261" y="4433"/>
                  <a:pt x="19248" y="4462"/>
                  <a:pt x="19248" y="4564"/>
                </a:cubicBezTo>
                <a:cubicBezTo>
                  <a:pt x="19248" y="4692"/>
                  <a:pt x="19257" y="4816"/>
                  <a:pt x="19273" y="4936"/>
                </a:cubicBezTo>
                <a:cubicBezTo>
                  <a:pt x="19282" y="5007"/>
                  <a:pt x="19272" y="5047"/>
                  <a:pt x="19248" y="51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8"/>
          <p:cNvSpPr/>
          <p:nvPr/>
        </p:nvSpPr>
        <p:spPr>
          <a:xfrm>
            <a:off x="7250040" y="1544760"/>
            <a:ext cx="911160" cy="330120"/>
          </a:xfrm>
          <a:custGeom>
            <a:avLst/>
            <a:gdLst/>
            <a:ahLst/>
            <a:rect l="l" t="t" r="r" b="b"/>
            <a:pathLst>
              <a:path w="2531" h="919">
                <a:moveTo>
                  <a:pt x="20241" y="4291"/>
                </a:moveTo>
                <a:cubicBezTo>
                  <a:pt x="20183" y="4377"/>
                  <a:pt x="20213" y="4422"/>
                  <a:pt x="20191" y="4514"/>
                </a:cubicBezTo>
                <a:cubicBezTo>
                  <a:pt x="20164" y="4628"/>
                  <a:pt x="20166" y="4740"/>
                  <a:pt x="20166" y="4862"/>
                </a:cubicBezTo>
                <a:cubicBezTo>
                  <a:pt x="20166" y="4930"/>
                  <a:pt x="20121" y="4989"/>
                  <a:pt x="20141" y="5060"/>
                </a:cubicBezTo>
                <a:cubicBezTo>
                  <a:pt x="20149" y="5077"/>
                  <a:pt x="20158" y="5093"/>
                  <a:pt x="20166" y="5110"/>
                </a:cubicBezTo>
                <a:cubicBezTo>
                  <a:pt x="20166" y="5041"/>
                  <a:pt x="20161" y="4992"/>
                  <a:pt x="20191" y="4936"/>
                </a:cubicBezTo>
                <a:cubicBezTo>
                  <a:pt x="20222" y="4879"/>
                  <a:pt x="20206" y="4804"/>
                  <a:pt x="20265" y="4762"/>
                </a:cubicBezTo>
                <a:cubicBezTo>
                  <a:pt x="20316" y="4726"/>
                  <a:pt x="20374" y="4695"/>
                  <a:pt x="20439" y="4713"/>
                </a:cubicBezTo>
                <a:cubicBezTo>
                  <a:pt x="20546" y="4743"/>
                  <a:pt x="20582" y="4827"/>
                  <a:pt x="20563" y="4936"/>
                </a:cubicBezTo>
                <a:cubicBezTo>
                  <a:pt x="20557" y="4972"/>
                  <a:pt x="20493" y="5064"/>
                  <a:pt x="20464" y="5085"/>
                </a:cubicBezTo>
                <a:cubicBezTo>
                  <a:pt x="20391" y="5137"/>
                  <a:pt x="20327" y="5135"/>
                  <a:pt x="20241" y="5135"/>
                </a:cubicBezTo>
                <a:cubicBezTo>
                  <a:pt x="20191" y="5135"/>
                  <a:pt x="20174" y="5135"/>
                  <a:pt x="20191" y="5085"/>
                </a:cubicBezTo>
              </a:path>
              <a:path w="2531" h="919">
                <a:moveTo>
                  <a:pt x="20811" y="4762"/>
                </a:moveTo>
                <a:cubicBezTo>
                  <a:pt x="20902" y="4762"/>
                  <a:pt x="20981" y="4761"/>
                  <a:pt x="21059" y="4738"/>
                </a:cubicBezTo>
                <a:cubicBezTo>
                  <a:pt x="21067" y="4738"/>
                  <a:pt x="21076" y="4738"/>
                  <a:pt x="21084" y="4738"/>
                </a:cubicBezTo>
              </a:path>
              <a:path w="2531" h="919">
                <a:moveTo>
                  <a:pt x="20786" y="4911"/>
                </a:moveTo>
                <a:cubicBezTo>
                  <a:pt x="20861" y="4911"/>
                  <a:pt x="20938" y="4904"/>
                  <a:pt x="21010" y="4887"/>
                </a:cubicBezTo>
                <a:cubicBezTo>
                  <a:pt x="21035" y="4879"/>
                  <a:pt x="21059" y="4870"/>
                  <a:pt x="21084" y="4862"/>
                </a:cubicBezTo>
              </a:path>
              <a:path w="2531" h="919">
                <a:moveTo>
                  <a:pt x="21332" y="4490"/>
                </a:moveTo>
                <a:cubicBezTo>
                  <a:pt x="21332" y="4646"/>
                  <a:pt x="21330" y="4789"/>
                  <a:pt x="21307" y="4936"/>
                </a:cubicBezTo>
                <a:cubicBezTo>
                  <a:pt x="21297" y="4998"/>
                  <a:pt x="21332" y="5067"/>
                  <a:pt x="21332" y="5135"/>
                </a:cubicBezTo>
                <a:cubicBezTo>
                  <a:pt x="21332" y="5176"/>
                  <a:pt x="21332" y="5200"/>
                  <a:pt x="21332" y="5159"/>
                </a:cubicBezTo>
              </a:path>
              <a:path w="2531" h="919">
                <a:moveTo>
                  <a:pt x="21530" y="4589"/>
                </a:moveTo>
                <a:cubicBezTo>
                  <a:pt x="21604" y="4497"/>
                  <a:pt x="21619" y="4508"/>
                  <a:pt x="21704" y="4465"/>
                </a:cubicBezTo>
                <a:cubicBezTo>
                  <a:pt x="21738" y="4448"/>
                  <a:pt x="21856" y="4423"/>
                  <a:pt x="21878" y="4490"/>
                </a:cubicBezTo>
                <a:cubicBezTo>
                  <a:pt x="21905" y="4571"/>
                  <a:pt x="21853" y="4656"/>
                  <a:pt x="21803" y="4713"/>
                </a:cubicBezTo>
                <a:cubicBezTo>
                  <a:pt x="21763" y="4759"/>
                  <a:pt x="21740" y="4814"/>
                  <a:pt x="21704" y="4862"/>
                </a:cubicBezTo>
                <a:cubicBezTo>
                  <a:pt x="21670" y="4907"/>
                  <a:pt x="21620" y="4942"/>
                  <a:pt x="21580" y="4986"/>
                </a:cubicBezTo>
                <a:cubicBezTo>
                  <a:pt x="21543" y="5027"/>
                  <a:pt x="21515" y="5067"/>
                  <a:pt x="21481" y="5110"/>
                </a:cubicBezTo>
                <a:cubicBezTo>
                  <a:pt x="21536" y="5143"/>
                  <a:pt x="21586" y="5135"/>
                  <a:pt x="21654" y="5135"/>
                </a:cubicBezTo>
                <a:cubicBezTo>
                  <a:pt x="21696" y="5135"/>
                  <a:pt x="21737" y="5135"/>
                  <a:pt x="21779" y="5135"/>
                </a:cubicBezTo>
              </a:path>
              <a:path w="2531" h="919">
                <a:moveTo>
                  <a:pt x="22076" y="5085"/>
                </a:moveTo>
                <a:cubicBezTo>
                  <a:pt x="22076" y="5077"/>
                  <a:pt x="22076" y="5068"/>
                  <a:pt x="22076" y="5060"/>
                </a:cubicBezTo>
              </a:path>
              <a:path w="2531" h="919">
                <a:moveTo>
                  <a:pt x="22473" y="4465"/>
                </a:moveTo>
                <a:cubicBezTo>
                  <a:pt x="22421" y="4433"/>
                  <a:pt x="22368" y="4429"/>
                  <a:pt x="22324" y="4490"/>
                </a:cubicBezTo>
                <a:cubicBezTo>
                  <a:pt x="22271" y="4563"/>
                  <a:pt x="22267" y="4558"/>
                  <a:pt x="22299" y="4663"/>
                </a:cubicBezTo>
                <a:cubicBezTo>
                  <a:pt x="22325" y="4747"/>
                  <a:pt x="22370" y="4776"/>
                  <a:pt x="22423" y="4837"/>
                </a:cubicBezTo>
                <a:cubicBezTo>
                  <a:pt x="22472" y="4893"/>
                  <a:pt x="22501" y="4956"/>
                  <a:pt x="22547" y="5011"/>
                </a:cubicBezTo>
                <a:cubicBezTo>
                  <a:pt x="22587" y="5059"/>
                  <a:pt x="22634" y="5112"/>
                  <a:pt x="22597" y="5159"/>
                </a:cubicBezTo>
                <a:cubicBezTo>
                  <a:pt x="22560" y="5206"/>
                  <a:pt x="22527" y="5211"/>
                  <a:pt x="22473" y="5184"/>
                </a:cubicBezTo>
                <a:cubicBezTo>
                  <a:pt x="22398" y="5146"/>
                  <a:pt x="22376" y="5133"/>
                  <a:pt x="22399" y="5060"/>
                </a:cubicBezTo>
                <a:cubicBezTo>
                  <a:pt x="22431" y="4956"/>
                  <a:pt x="22494" y="4928"/>
                  <a:pt x="22547" y="4837"/>
                </a:cubicBezTo>
                <a:cubicBezTo>
                  <a:pt x="22583" y="4775"/>
                  <a:pt x="22614" y="4704"/>
                  <a:pt x="22647" y="4638"/>
                </a:cubicBezTo>
                <a:cubicBezTo>
                  <a:pt x="22682" y="4567"/>
                  <a:pt x="22678" y="4511"/>
                  <a:pt x="22647" y="4440"/>
                </a:cubicBezTo>
                <a:cubicBezTo>
                  <a:pt x="22605" y="4345"/>
                  <a:pt x="22570" y="4401"/>
                  <a:pt x="22498" y="44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9"/>
          <p:cNvSpPr/>
          <p:nvPr/>
        </p:nvSpPr>
        <p:spPr>
          <a:xfrm>
            <a:off x="1919160" y="2098800"/>
            <a:ext cx="366840" cy="374400"/>
          </a:xfrm>
          <a:custGeom>
            <a:avLst/>
            <a:gdLst/>
            <a:ahLst/>
            <a:rect l="l" t="t" r="r" b="b"/>
            <a:pathLst>
              <a:path w="1018" h="1043">
                <a:moveTo>
                  <a:pt x="5432" y="5829"/>
                </a:moveTo>
                <a:cubicBezTo>
                  <a:pt x="5403" y="5905"/>
                  <a:pt x="5394" y="5995"/>
                  <a:pt x="5383" y="6077"/>
                </a:cubicBezTo>
                <a:cubicBezTo>
                  <a:pt x="5356" y="6282"/>
                  <a:pt x="5390" y="6497"/>
                  <a:pt x="5358" y="6697"/>
                </a:cubicBezTo>
                <a:cubicBezTo>
                  <a:pt x="5347" y="6767"/>
                  <a:pt x="5369" y="6812"/>
                  <a:pt x="5333" y="6871"/>
                </a:cubicBezTo>
                <a:cubicBezTo>
                  <a:pt x="5333" y="6797"/>
                  <a:pt x="5354" y="6743"/>
                  <a:pt x="5358" y="6672"/>
                </a:cubicBezTo>
                <a:cubicBezTo>
                  <a:pt x="5362" y="6594"/>
                  <a:pt x="5398" y="6520"/>
                  <a:pt x="5432" y="6449"/>
                </a:cubicBezTo>
                <a:cubicBezTo>
                  <a:pt x="5465" y="6380"/>
                  <a:pt x="5493" y="6315"/>
                  <a:pt x="5531" y="6251"/>
                </a:cubicBezTo>
                <a:cubicBezTo>
                  <a:pt x="5562" y="6198"/>
                  <a:pt x="5622" y="6106"/>
                  <a:pt x="5705" y="6152"/>
                </a:cubicBezTo>
                <a:cubicBezTo>
                  <a:pt x="5758" y="6181"/>
                  <a:pt x="5764" y="6305"/>
                  <a:pt x="5779" y="6350"/>
                </a:cubicBezTo>
                <a:cubicBezTo>
                  <a:pt x="5803" y="6422"/>
                  <a:pt x="5826" y="6497"/>
                  <a:pt x="5829" y="6573"/>
                </a:cubicBezTo>
                <a:cubicBezTo>
                  <a:pt x="5832" y="6653"/>
                  <a:pt x="5850" y="6701"/>
                  <a:pt x="5854" y="6772"/>
                </a:cubicBezTo>
                <a:cubicBezTo>
                  <a:pt x="5854" y="6821"/>
                  <a:pt x="5854" y="6838"/>
                  <a:pt x="5854" y="6871"/>
                </a:cubicBezTo>
              </a:path>
              <a:path w="1018" h="1043">
                <a:moveTo>
                  <a:pt x="6052" y="6375"/>
                </a:moveTo>
                <a:cubicBezTo>
                  <a:pt x="6155" y="6404"/>
                  <a:pt x="6219" y="6424"/>
                  <a:pt x="6325" y="6424"/>
                </a:cubicBezTo>
                <a:cubicBezTo>
                  <a:pt x="6333" y="6424"/>
                  <a:pt x="6342" y="6424"/>
                  <a:pt x="6350" y="6424"/>
                </a:cubicBezTo>
              </a:path>
              <a:path w="1018" h="1043">
                <a:moveTo>
                  <a:pt x="6077" y="6548"/>
                </a:moveTo>
                <a:cubicBezTo>
                  <a:pt x="6168" y="6548"/>
                  <a:pt x="6259" y="6548"/>
                  <a:pt x="6350" y="65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10"/>
          <p:cNvSpPr/>
          <p:nvPr/>
        </p:nvSpPr>
        <p:spPr>
          <a:xfrm>
            <a:off x="2446200" y="2098800"/>
            <a:ext cx="1644840" cy="384120"/>
          </a:xfrm>
          <a:custGeom>
            <a:avLst/>
            <a:gdLst/>
            <a:ahLst/>
            <a:rect l="l" t="t" r="r" b="b"/>
            <a:pathLst>
              <a:path w="4566" h="1068">
                <a:moveTo>
                  <a:pt x="6846" y="6052"/>
                </a:moveTo>
                <a:cubicBezTo>
                  <a:pt x="6846" y="6171"/>
                  <a:pt x="6826" y="6263"/>
                  <a:pt x="6821" y="6375"/>
                </a:cubicBezTo>
                <a:cubicBezTo>
                  <a:pt x="6815" y="6527"/>
                  <a:pt x="6659" y="6755"/>
                  <a:pt x="6796" y="6821"/>
                </a:cubicBezTo>
                <a:cubicBezTo>
                  <a:pt x="6804" y="6813"/>
                  <a:pt x="6813" y="6804"/>
                  <a:pt x="6821" y="6796"/>
                </a:cubicBezTo>
              </a:path>
              <a:path w="4566" h="1068">
                <a:moveTo>
                  <a:pt x="7069" y="6201"/>
                </a:moveTo>
                <a:cubicBezTo>
                  <a:pt x="7161" y="6110"/>
                  <a:pt x="7175" y="6058"/>
                  <a:pt x="7293" y="6052"/>
                </a:cubicBezTo>
                <a:cubicBezTo>
                  <a:pt x="7348" y="6049"/>
                  <a:pt x="7408" y="6090"/>
                  <a:pt x="7417" y="6152"/>
                </a:cubicBezTo>
                <a:cubicBezTo>
                  <a:pt x="7433" y="6262"/>
                  <a:pt x="7448" y="6392"/>
                  <a:pt x="7417" y="6499"/>
                </a:cubicBezTo>
                <a:cubicBezTo>
                  <a:pt x="7395" y="6576"/>
                  <a:pt x="7346" y="6647"/>
                  <a:pt x="7317" y="6722"/>
                </a:cubicBezTo>
                <a:cubicBezTo>
                  <a:pt x="7294" y="6783"/>
                  <a:pt x="7239" y="6875"/>
                  <a:pt x="7169" y="6896"/>
                </a:cubicBezTo>
                <a:cubicBezTo>
                  <a:pt x="7130" y="6908"/>
                  <a:pt x="7057" y="6862"/>
                  <a:pt x="7045" y="6821"/>
                </a:cubicBezTo>
                <a:cubicBezTo>
                  <a:pt x="7030" y="6768"/>
                  <a:pt x="7051" y="6684"/>
                  <a:pt x="7094" y="6648"/>
                </a:cubicBezTo>
                <a:cubicBezTo>
                  <a:pt x="7159" y="6593"/>
                  <a:pt x="7230" y="6644"/>
                  <a:pt x="7293" y="6672"/>
                </a:cubicBezTo>
                <a:cubicBezTo>
                  <a:pt x="7395" y="6718"/>
                  <a:pt x="7357" y="6735"/>
                  <a:pt x="7392" y="6821"/>
                </a:cubicBezTo>
                <a:cubicBezTo>
                  <a:pt x="7415" y="6844"/>
                  <a:pt x="7426" y="6852"/>
                  <a:pt x="7392" y="6846"/>
                </a:cubicBezTo>
              </a:path>
              <a:path w="4566" h="1068">
                <a:moveTo>
                  <a:pt x="7640" y="6821"/>
                </a:moveTo>
                <a:cubicBezTo>
                  <a:pt x="7648" y="6821"/>
                  <a:pt x="7657" y="6821"/>
                  <a:pt x="7665" y="6821"/>
                </a:cubicBezTo>
              </a:path>
              <a:path w="4566" h="1068">
                <a:moveTo>
                  <a:pt x="8210" y="6251"/>
                </a:moveTo>
                <a:cubicBezTo>
                  <a:pt x="8201" y="6161"/>
                  <a:pt x="8193" y="6119"/>
                  <a:pt x="8086" y="6102"/>
                </a:cubicBezTo>
                <a:cubicBezTo>
                  <a:pt x="8005" y="6089"/>
                  <a:pt x="7931" y="6112"/>
                  <a:pt x="7863" y="6152"/>
                </a:cubicBezTo>
                <a:cubicBezTo>
                  <a:pt x="7827" y="6173"/>
                  <a:pt x="7776" y="6258"/>
                  <a:pt x="7789" y="6300"/>
                </a:cubicBezTo>
                <a:cubicBezTo>
                  <a:pt x="7809" y="6360"/>
                  <a:pt x="7893" y="6428"/>
                  <a:pt x="7938" y="6474"/>
                </a:cubicBezTo>
                <a:cubicBezTo>
                  <a:pt x="7994" y="6531"/>
                  <a:pt x="8039" y="6587"/>
                  <a:pt x="8086" y="6648"/>
                </a:cubicBezTo>
                <a:cubicBezTo>
                  <a:pt x="8129" y="6704"/>
                  <a:pt x="8160" y="6770"/>
                  <a:pt x="8136" y="6846"/>
                </a:cubicBezTo>
                <a:cubicBezTo>
                  <a:pt x="8121" y="6894"/>
                  <a:pt x="7999" y="6871"/>
                  <a:pt x="7962" y="6871"/>
                </a:cubicBezTo>
                <a:cubicBezTo>
                  <a:pt x="7934" y="6784"/>
                  <a:pt x="7933" y="6733"/>
                  <a:pt x="7962" y="6648"/>
                </a:cubicBezTo>
                <a:cubicBezTo>
                  <a:pt x="7986" y="6578"/>
                  <a:pt x="8016" y="6484"/>
                  <a:pt x="8062" y="6424"/>
                </a:cubicBezTo>
                <a:cubicBezTo>
                  <a:pt x="8099" y="6377"/>
                  <a:pt x="8164" y="6287"/>
                  <a:pt x="8186" y="6226"/>
                </a:cubicBezTo>
                <a:cubicBezTo>
                  <a:pt x="8206" y="6169"/>
                  <a:pt x="8172" y="6167"/>
                  <a:pt x="8235" y="6152"/>
                </a:cubicBezTo>
              </a:path>
              <a:path w="4566" h="1068">
                <a:moveTo>
                  <a:pt x="8781" y="6499"/>
                </a:moveTo>
                <a:cubicBezTo>
                  <a:pt x="8772" y="6436"/>
                  <a:pt x="8751" y="6401"/>
                  <a:pt x="8706" y="6350"/>
                </a:cubicBezTo>
                <a:cubicBezTo>
                  <a:pt x="8660" y="6298"/>
                  <a:pt x="8573" y="6366"/>
                  <a:pt x="8533" y="6400"/>
                </a:cubicBezTo>
                <a:cubicBezTo>
                  <a:pt x="8487" y="6439"/>
                  <a:pt x="8504" y="6520"/>
                  <a:pt x="8558" y="6548"/>
                </a:cubicBezTo>
                <a:cubicBezTo>
                  <a:pt x="8633" y="6587"/>
                  <a:pt x="8694" y="6588"/>
                  <a:pt x="8756" y="6648"/>
                </a:cubicBezTo>
                <a:cubicBezTo>
                  <a:pt x="8807" y="6698"/>
                  <a:pt x="8845" y="6723"/>
                  <a:pt x="8806" y="6796"/>
                </a:cubicBezTo>
                <a:cubicBezTo>
                  <a:pt x="8785" y="6835"/>
                  <a:pt x="8714" y="6866"/>
                  <a:pt x="8682" y="6871"/>
                </a:cubicBezTo>
                <a:cubicBezTo>
                  <a:pt x="8652" y="6876"/>
                  <a:pt x="8483" y="6852"/>
                  <a:pt x="8483" y="6796"/>
                </a:cubicBezTo>
                <a:cubicBezTo>
                  <a:pt x="8503" y="6756"/>
                  <a:pt x="8512" y="6750"/>
                  <a:pt x="8508" y="6722"/>
                </a:cubicBezTo>
              </a:path>
              <a:path w="4566" h="1068">
                <a:moveTo>
                  <a:pt x="9054" y="6524"/>
                </a:moveTo>
                <a:cubicBezTo>
                  <a:pt x="9054" y="6625"/>
                  <a:pt x="9043" y="6921"/>
                  <a:pt x="9029" y="6821"/>
                </a:cubicBezTo>
                <a:cubicBezTo>
                  <a:pt x="9029" y="6796"/>
                  <a:pt x="9029" y="6772"/>
                  <a:pt x="9029" y="6747"/>
                </a:cubicBezTo>
              </a:path>
              <a:path w="4566" h="1068">
                <a:moveTo>
                  <a:pt x="9054" y="6251"/>
                </a:moveTo>
                <a:cubicBezTo>
                  <a:pt x="9062" y="6226"/>
                  <a:pt x="9071" y="6201"/>
                  <a:pt x="9079" y="6176"/>
                </a:cubicBezTo>
              </a:path>
              <a:path w="4566" h="1068">
                <a:moveTo>
                  <a:pt x="9252" y="6672"/>
                </a:moveTo>
                <a:cubicBezTo>
                  <a:pt x="9257" y="6598"/>
                  <a:pt x="9257" y="6497"/>
                  <a:pt x="9277" y="6424"/>
                </a:cubicBezTo>
                <a:cubicBezTo>
                  <a:pt x="9285" y="6395"/>
                  <a:pt x="9348" y="6286"/>
                  <a:pt x="9376" y="6276"/>
                </a:cubicBezTo>
                <a:cubicBezTo>
                  <a:pt x="9459" y="6247"/>
                  <a:pt x="9520" y="6301"/>
                  <a:pt x="9550" y="6375"/>
                </a:cubicBezTo>
                <a:cubicBezTo>
                  <a:pt x="9583" y="6457"/>
                  <a:pt x="9575" y="6538"/>
                  <a:pt x="9575" y="6623"/>
                </a:cubicBezTo>
                <a:cubicBezTo>
                  <a:pt x="9575" y="6674"/>
                  <a:pt x="9563" y="6807"/>
                  <a:pt x="9599" y="6772"/>
                </a:cubicBezTo>
              </a:path>
              <a:path w="4566" h="1068">
                <a:moveTo>
                  <a:pt x="10021" y="6003"/>
                </a:moveTo>
                <a:cubicBezTo>
                  <a:pt x="10129" y="6003"/>
                  <a:pt x="10236" y="6003"/>
                  <a:pt x="10344" y="6003"/>
                </a:cubicBezTo>
              </a:path>
              <a:path w="4566" h="1068">
                <a:moveTo>
                  <a:pt x="9996" y="6077"/>
                </a:moveTo>
                <a:cubicBezTo>
                  <a:pt x="9925" y="6127"/>
                  <a:pt x="9877" y="6141"/>
                  <a:pt x="9872" y="6226"/>
                </a:cubicBezTo>
                <a:cubicBezTo>
                  <a:pt x="9872" y="6271"/>
                  <a:pt x="9868" y="6284"/>
                  <a:pt x="9897" y="6300"/>
                </a:cubicBezTo>
                <a:cubicBezTo>
                  <a:pt x="9930" y="6284"/>
                  <a:pt x="10037" y="6198"/>
                  <a:pt x="10071" y="6201"/>
                </a:cubicBezTo>
                <a:cubicBezTo>
                  <a:pt x="10115" y="6205"/>
                  <a:pt x="10233" y="6293"/>
                  <a:pt x="10244" y="6350"/>
                </a:cubicBezTo>
                <a:cubicBezTo>
                  <a:pt x="10259" y="6428"/>
                  <a:pt x="10277" y="6530"/>
                  <a:pt x="10244" y="6598"/>
                </a:cubicBezTo>
                <a:cubicBezTo>
                  <a:pt x="10223" y="6641"/>
                  <a:pt x="10167" y="6709"/>
                  <a:pt x="10120" y="6722"/>
                </a:cubicBezTo>
                <a:cubicBezTo>
                  <a:pt x="10052" y="6740"/>
                  <a:pt x="10006" y="6753"/>
                  <a:pt x="9947" y="6722"/>
                </a:cubicBezTo>
                <a:cubicBezTo>
                  <a:pt x="9903" y="6700"/>
                  <a:pt x="9891" y="6697"/>
                  <a:pt x="9872" y="6672"/>
                </a:cubicBezTo>
              </a:path>
              <a:path w="4566" h="1068">
                <a:moveTo>
                  <a:pt x="10716" y="6077"/>
                </a:moveTo>
                <a:cubicBezTo>
                  <a:pt x="10658" y="6020"/>
                  <a:pt x="10581" y="6013"/>
                  <a:pt x="10492" y="6052"/>
                </a:cubicBezTo>
                <a:cubicBezTo>
                  <a:pt x="10435" y="6076"/>
                  <a:pt x="10409" y="6147"/>
                  <a:pt x="10418" y="6201"/>
                </a:cubicBezTo>
                <a:cubicBezTo>
                  <a:pt x="10436" y="6312"/>
                  <a:pt x="10520" y="6355"/>
                  <a:pt x="10567" y="6449"/>
                </a:cubicBezTo>
                <a:cubicBezTo>
                  <a:pt x="10612" y="6538"/>
                  <a:pt x="10677" y="6669"/>
                  <a:pt x="10666" y="6747"/>
                </a:cubicBezTo>
                <a:cubicBezTo>
                  <a:pt x="10656" y="6823"/>
                  <a:pt x="10625" y="6864"/>
                  <a:pt x="10542" y="6821"/>
                </a:cubicBezTo>
                <a:cubicBezTo>
                  <a:pt x="10483" y="6790"/>
                  <a:pt x="10409" y="6745"/>
                  <a:pt x="10418" y="6672"/>
                </a:cubicBezTo>
                <a:cubicBezTo>
                  <a:pt x="10438" y="6514"/>
                  <a:pt x="10485" y="6513"/>
                  <a:pt x="10567" y="6400"/>
                </a:cubicBezTo>
                <a:cubicBezTo>
                  <a:pt x="10603" y="6351"/>
                  <a:pt x="10617" y="6281"/>
                  <a:pt x="10641" y="6226"/>
                </a:cubicBezTo>
              </a:path>
              <a:path w="4566" h="1068">
                <a:moveTo>
                  <a:pt x="10815" y="5953"/>
                </a:moveTo>
                <a:cubicBezTo>
                  <a:pt x="10793" y="6012"/>
                  <a:pt x="10790" y="6038"/>
                  <a:pt x="10790" y="6102"/>
                </a:cubicBezTo>
                <a:cubicBezTo>
                  <a:pt x="10852" y="6102"/>
                  <a:pt x="10919" y="6104"/>
                  <a:pt x="10964" y="6052"/>
                </a:cubicBezTo>
                <a:cubicBezTo>
                  <a:pt x="11003" y="6006"/>
                  <a:pt x="11003" y="5881"/>
                  <a:pt x="10939" y="5854"/>
                </a:cubicBezTo>
                <a:cubicBezTo>
                  <a:pt x="10897" y="5854"/>
                  <a:pt x="10881" y="5862"/>
                  <a:pt x="10889" y="5829"/>
                </a:cubicBezTo>
              </a:path>
              <a:path w="4566" h="1068">
                <a:moveTo>
                  <a:pt x="11112" y="6325"/>
                </a:moveTo>
                <a:cubicBezTo>
                  <a:pt x="11216" y="6325"/>
                  <a:pt x="11250" y="6332"/>
                  <a:pt x="11336" y="6300"/>
                </a:cubicBezTo>
              </a:path>
              <a:path w="4566" h="1068">
                <a:moveTo>
                  <a:pt x="11187" y="6449"/>
                </a:moveTo>
                <a:cubicBezTo>
                  <a:pt x="11263" y="6473"/>
                  <a:pt x="11293" y="6489"/>
                  <a:pt x="11361" y="64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11"/>
          <p:cNvSpPr/>
          <p:nvPr/>
        </p:nvSpPr>
        <p:spPr>
          <a:xfrm>
            <a:off x="4286160" y="2133720"/>
            <a:ext cx="563760" cy="339480"/>
          </a:xfrm>
          <a:custGeom>
            <a:avLst/>
            <a:gdLst/>
            <a:ahLst/>
            <a:rect l="l" t="t" r="r" b="b"/>
            <a:pathLst>
              <a:path w="1564" h="944">
                <a:moveTo>
                  <a:pt x="11906" y="5953"/>
                </a:moveTo>
                <a:cubicBezTo>
                  <a:pt x="11906" y="6234"/>
                  <a:pt x="11906" y="6515"/>
                  <a:pt x="11906" y="6796"/>
                </a:cubicBezTo>
              </a:path>
              <a:path w="1564" h="944">
                <a:moveTo>
                  <a:pt x="12204" y="6102"/>
                </a:moveTo>
                <a:cubicBezTo>
                  <a:pt x="12204" y="6208"/>
                  <a:pt x="12189" y="6295"/>
                  <a:pt x="12179" y="6400"/>
                </a:cubicBezTo>
                <a:cubicBezTo>
                  <a:pt x="12170" y="6499"/>
                  <a:pt x="12189" y="6582"/>
                  <a:pt x="12204" y="6672"/>
                </a:cubicBezTo>
                <a:cubicBezTo>
                  <a:pt x="12213" y="6724"/>
                  <a:pt x="12228" y="6785"/>
                  <a:pt x="12278" y="6821"/>
                </a:cubicBezTo>
                <a:cubicBezTo>
                  <a:pt x="12327" y="6856"/>
                  <a:pt x="12375" y="6880"/>
                  <a:pt x="12427" y="6846"/>
                </a:cubicBezTo>
                <a:cubicBezTo>
                  <a:pt x="12477" y="6813"/>
                  <a:pt x="12521" y="6746"/>
                  <a:pt x="12551" y="6697"/>
                </a:cubicBezTo>
                <a:cubicBezTo>
                  <a:pt x="12596" y="6623"/>
                  <a:pt x="12601" y="6557"/>
                  <a:pt x="12601" y="6474"/>
                </a:cubicBezTo>
                <a:cubicBezTo>
                  <a:pt x="12601" y="6378"/>
                  <a:pt x="12594" y="6336"/>
                  <a:pt x="12551" y="6251"/>
                </a:cubicBezTo>
                <a:cubicBezTo>
                  <a:pt x="12521" y="6192"/>
                  <a:pt x="12498" y="6148"/>
                  <a:pt x="12452" y="6102"/>
                </a:cubicBezTo>
                <a:cubicBezTo>
                  <a:pt x="12407" y="6057"/>
                  <a:pt x="12363" y="6031"/>
                  <a:pt x="12303" y="6028"/>
                </a:cubicBezTo>
                <a:cubicBezTo>
                  <a:pt x="12229" y="6024"/>
                  <a:pt x="12205" y="6026"/>
                  <a:pt x="12154" y="6077"/>
                </a:cubicBezTo>
                <a:cubicBezTo>
                  <a:pt x="12146" y="6085"/>
                  <a:pt x="12137" y="6094"/>
                  <a:pt x="12129" y="6102"/>
                </a:cubicBezTo>
              </a:path>
              <a:path w="1564" h="944">
                <a:moveTo>
                  <a:pt x="12898" y="6772"/>
                </a:moveTo>
                <a:cubicBezTo>
                  <a:pt x="12898" y="6816"/>
                  <a:pt x="12895" y="6836"/>
                  <a:pt x="12923" y="6796"/>
                </a:cubicBezTo>
              </a:path>
              <a:path w="1564" h="944">
                <a:moveTo>
                  <a:pt x="13345" y="6325"/>
                </a:moveTo>
                <a:cubicBezTo>
                  <a:pt x="13368" y="6270"/>
                  <a:pt x="13497" y="6064"/>
                  <a:pt x="13419" y="5978"/>
                </a:cubicBezTo>
                <a:cubicBezTo>
                  <a:pt x="13379" y="5934"/>
                  <a:pt x="13303" y="5915"/>
                  <a:pt x="13246" y="5928"/>
                </a:cubicBezTo>
                <a:cubicBezTo>
                  <a:pt x="13175" y="5944"/>
                  <a:pt x="13101" y="5981"/>
                  <a:pt x="13047" y="6028"/>
                </a:cubicBezTo>
                <a:cubicBezTo>
                  <a:pt x="12993" y="6076"/>
                  <a:pt x="13019" y="6193"/>
                  <a:pt x="13047" y="6251"/>
                </a:cubicBezTo>
                <a:cubicBezTo>
                  <a:pt x="13062" y="6284"/>
                  <a:pt x="13137" y="6344"/>
                  <a:pt x="13171" y="6350"/>
                </a:cubicBezTo>
                <a:cubicBezTo>
                  <a:pt x="13291" y="6372"/>
                  <a:pt x="13371" y="6314"/>
                  <a:pt x="13419" y="6226"/>
                </a:cubicBezTo>
                <a:cubicBezTo>
                  <a:pt x="13478" y="6119"/>
                  <a:pt x="13450" y="6111"/>
                  <a:pt x="13444" y="6226"/>
                </a:cubicBezTo>
                <a:cubicBezTo>
                  <a:pt x="13434" y="6408"/>
                  <a:pt x="13444" y="6904"/>
                  <a:pt x="13444" y="67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12"/>
          <p:cNvSpPr/>
          <p:nvPr/>
        </p:nvSpPr>
        <p:spPr>
          <a:xfrm>
            <a:off x="5867280" y="2071800"/>
            <a:ext cx="223920" cy="384120"/>
          </a:xfrm>
          <a:custGeom>
            <a:avLst/>
            <a:gdLst/>
            <a:ahLst/>
            <a:rect l="l" t="t" r="r" b="b"/>
            <a:pathLst>
              <a:path w="621" h="1067">
                <a:moveTo>
                  <a:pt x="16619" y="6028"/>
                </a:moveTo>
                <a:cubicBezTo>
                  <a:pt x="16572" y="6042"/>
                  <a:pt x="16596" y="5939"/>
                  <a:pt x="16619" y="5879"/>
                </a:cubicBezTo>
                <a:cubicBezTo>
                  <a:pt x="16636" y="5834"/>
                  <a:pt x="16712" y="5752"/>
                  <a:pt x="16768" y="5755"/>
                </a:cubicBezTo>
                <a:cubicBezTo>
                  <a:pt x="16817" y="5758"/>
                  <a:pt x="16882" y="5836"/>
                  <a:pt x="16892" y="5879"/>
                </a:cubicBezTo>
                <a:cubicBezTo>
                  <a:pt x="16911" y="5961"/>
                  <a:pt x="16917" y="6039"/>
                  <a:pt x="16917" y="6127"/>
                </a:cubicBezTo>
                <a:cubicBezTo>
                  <a:pt x="16917" y="6237"/>
                  <a:pt x="16897" y="6347"/>
                  <a:pt x="16867" y="6449"/>
                </a:cubicBezTo>
                <a:cubicBezTo>
                  <a:pt x="16846" y="6520"/>
                  <a:pt x="16800" y="6621"/>
                  <a:pt x="16743" y="6672"/>
                </a:cubicBezTo>
                <a:cubicBezTo>
                  <a:pt x="16723" y="6690"/>
                  <a:pt x="16620" y="6765"/>
                  <a:pt x="16594" y="6772"/>
                </a:cubicBezTo>
                <a:cubicBezTo>
                  <a:pt x="16529" y="6791"/>
                  <a:pt x="16467" y="6765"/>
                  <a:pt x="16421" y="6722"/>
                </a:cubicBezTo>
                <a:cubicBezTo>
                  <a:pt x="16383" y="6687"/>
                  <a:pt x="16294" y="6608"/>
                  <a:pt x="16297" y="6548"/>
                </a:cubicBezTo>
                <a:cubicBezTo>
                  <a:pt x="16299" y="6514"/>
                  <a:pt x="16357" y="6411"/>
                  <a:pt x="16396" y="6400"/>
                </a:cubicBezTo>
                <a:cubicBezTo>
                  <a:pt x="16443" y="6387"/>
                  <a:pt x="16562" y="6439"/>
                  <a:pt x="16594" y="6474"/>
                </a:cubicBezTo>
                <a:cubicBezTo>
                  <a:pt x="16628" y="6511"/>
                  <a:pt x="16668" y="6580"/>
                  <a:pt x="16694" y="6623"/>
                </a:cubicBezTo>
                <a:cubicBezTo>
                  <a:pt x="16724" y="6674"/>
                  <a:pt x="16740" y="6784"/>
                  <a:pt x="16768" y="6821"/>
                </a:cubicBezTo>
                <a:cubicBezTo>
                  <a:pt x="16776" y="6821"/>
                  <a:pt x="16785" y="6821"/>
                  <a:pt x="16793" y="68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13"/>
          <p:cNvSpPr/>
          <p:nvPr/>
        </p:nvSpPr>
        <p:spPr>
          <a:xfrm>
            <a:off x="6242040" y="2152800"/>
            <a:ext cx="1258920" cy="357120"/>
          </a:xfrm>
          <a:custGeom>
            <a:avLst/>
            <a:gdLst/>
            <a:ahLst/>
            <a:rect l="l" t="t" r="r" b="b"/>
            <a:pathLst>
              <a:path w="3499" h="993">
                <a:moveTo>
                  <a:pt x="17661" y="6375"/>
                </a:moveTo>
                <a:cubicBezTo>
                  <a:pt x="17729" y="6443"/>
                  <a:pt x="17624" y="6305"/>
                  <a:pt x="17611" y="6300"/>
                </a:cubicBezTo>
                <a:cubicBezTo>
                  <a:pt x="17545" y="6276"/>
                  <a:pt x="17498" y="6289"/>
                  <a:pt x="17438" y="6300"/>
                </a:cubicBezTo>
                <a:cubicBezTo>
                  <a:pt x="17376" y="6311"/>
                  <a:pt x="17383" y="6305"/>
                  <a:pt x="17338" y="6350"/>
                </a:cubicBezTo>
                <a:cubicBezTo>
                  <a:pt x="17380" y="6409"/>
                  <a:pt x="17421" y="6439"/>
                  <a:pt x="17487" y="6474"/>
                </a:cubicBezTo>
                <a:cubicBezTo>
                  <a:pt x="17547" y="6506"/>
                  <a:pt x="17601" y="6542"/>
                  <a:pt x="17661" y="6573"/>
                </a:cubicBezTo>
                <a:cubicBezTo>
                  <a:pt x="17705" y="6596"/>
                  <a:pt x="17782" y="6631"/>
                  <a:pt x="17760" y="6697"/>
                </a:cubicBezTo>
                <a:cubicBezTo>
                  <a:pt x="17738" y="6762"/>
                  <a:pt x="17641" y="6769"/>
                  <a:pt x="17587" y="6772"/>
                </a:cubicBezTo>
                <a:cubicBezTo>
                  <a:pt x="17506" y="6776"/>
                  <a:pt x="17424" y="6793"/>
                  <a:pt x="17388" y="6722"/>
                </a:cubicBezTo>
              </a:path>
              <a:path w="3499" h="993">
                <a:moveTo>
                  <a:pt x="17934" y="6474"/>
                </a:moveTo>
                <a:cubicBezTo>
                  <a:pt x="17911" y="6516"/>
                  <a:pt x="17827" y="6641"/>
                  <a:pt x="17835" y="6697"/>
                </a:cubicBezTo>
                <a:cubicBezTo>
                  <a:pt x="17844" y="6754"/>
                  <a:pt x="17937" y="6794"/>
                  <a:pt x="17983" y="6796"/>
                </a:cubicBezTo>
                <a:cubicBezTo>
                  <a:pt x="18049" y="6799"/>
                  <a:pt x="18139" y="6782"/>
                  <a:pt x="18182" y="6722"/>
                </a:cubicBezTo>
                <a:cubicBezTo>
                  <a:pt x="18252" y="6624"/>
                  <a:pt x="18238" y="6551"/>
                  <a:pt x="18182" y="6449"/>
                </a:cubicBezTo>
                <a:cubicBezTo>
                  <a:pt x="18139" y="6371"/>
                  <a:pt x="18057" y="6375"/>
                  <a:pt x="17983" y="6375"/>
                </a:cubicBezTo>
                <a:cubicBezTo>
                  <a:pt x="17948" y="6375"/>
                  <a:pt x="17885" y="6376"/>
                  <a:pt x="17934" y="6400"/>
                </a:cubicBezTo>
              </a:path>
              <a:path w="3499" h="993">
                <a:moveTo>
                  <a:pt x="18405" y="5978"/>
                </a:moveTo>
                <a:cubicBezTo>
                  <a:pt x="18405" y="6060"/>
                  <a:pt x="18426" y="6121"/>
                  <a:pt x="18430" y="6201"/>
                </a:cubicBezTo>
                <a:cubicBezTo>
                  <a:pt x="18439" y="6399"/>
                  <a:pt x="18454" y="6641"/>
                  <a:pt x="18405" y="6821"/>
                </a:cubicBezTo>
                <a:cubicBezTo>
                  <a:pt x="18405" y="6829"/>
                  <a:pt x="18405" y="6838"/>
                  <a:pt x="18405" y="6846"/>
                </a:cubicBezTo>
              </a:path>
              <a:path w="3499" h="993">
                <a:moveTo>
                  <a:pt x="18604" y="6424"/>
                </a:moveTo>
                <a:cubicBezTo>
                  <a:pt x="18585" y="6492"/>
                  <a:pt x="18556" y="6599"/>
                  <a:pt x="18579" y="6672"/>
                </a:cubicBezTo>
                <a:cubicBezTo>
                  <a:pt x="18594" y="6718"/>
                  <a:pt x="18631" y="6800"/>
                  <a:pt x="18703" y="6796"/>
                </a:cubicBezTo>
                <a:cubicBezTo>
                  <a:pt x="18760" y="6793"/>
                  <a:pt x="18839" y="6728"/>
                  <a:pt x="18852" y="6672"/>
                </a:cubicBezTo>
                <a:cubicBezTo>
                  <a:pt x="18866" y="6611"/>
                  <a:pt x="18876" y="6567"/>
                  <a:pt x="18876" y="6499"/>
                </a:cubicBezTo>
                <a:cubicBezTo>
                  <a:pt x="18842" y="6557"/>
                  <a:pt x="18855" y="6630"/>
                  <a:pt x="18876" y="6697"/>
                </a:cubicBezTo>
                <a:cubicBezTo>
                  <a:pt x="18896" y="6760"/>
                  <a:pt x="18943" y="6846"/>
                  <a:pt x="19025" y="6821"/>
                </a:cubicBezTo>
                <a:cubicBezTo>
                  <a:pt x="19048" y="6798"/>
                  <a:pt x="19052" y="6790"/>
                  <a:pt x="19075" y="6796"/>
                </a:cubicBezTo>
              </a:path>
              <a:path w="3499" h="993">
                <a:moveTo>
                  <a:pt x="19174" y="6152"/>
                </a:moveTo>
                <a:cubicBezTo>
                  <a:pt x="19174" y="6240"/>
                  <a:pt x="19195" y="6315"/>
                  <a:pt x="19199" y="6400"/>
                </a:cubicBezTo>
                <a:cubicBezTo>
                  <a:pt x="19203" y="6488"/>
                  <a:pt x="19213" y="6566"/>
                  <a:pt x="19224" y="6648"/>
                </a:cubicBezTo>
                <a:cubicBezTo>
                  <a:pt x="19230" y="6694"/>
                  <a:pt x="19238" y="6804"/>
                  <a:pt x="19273" y="6772"/>
                </a:cubicBezTo>
              </a:path>
              <a:path w="3499" h="993">
                <a:moveTo>
                  <a:pt x="18976" y="6449"/>
                </a:moveTo>
                <a:cubicBezTo>
                  <a:pt x="19040" y="6410"/>
                  <a:pt x="19119" y="6424"/>
                  <a:pt x="19199" y="6424"/>
                </a:cubicBezTo>
                <a:cubicBezTo>
                  <a:pt x="19281" y="6424"/>
                  <a:pt x="19348" y="6416"/>
                  <a:pt x="19422" y="6449"/>
                </a:cubicBezTo>
                <a:cubicBezTo>
                  <a:pt x="19499" y="6483"/>
                  <a:pt x="19472" y="6547"/>
                  <a:pt x="19472" y="6623"/>
                </a:cubicBezTo>
                <a:cubicBezTo>
                  <a:pt x="19472" y="6655"/>
                  <a:pt x="19450" y="6829"/>
                  <a:pt x="19496" y="6846"/>
                </a:cubicBezTo>
                <a:cubicBezTo>
                  <a:pt x="19504" y="6838"/>
                  <a:pt x="19513" y="6829"/>
                  <a:pt x="19521" y="6821"/>
                </a:cubicBezTo>
              </a:path>
              <a:path w="3499" h="993">
                <a:moveTo>
                  <a:pt x="19521" y="6350"/>
                </a:moveTo>
                <a:cubicBezTo>
                  <a:pt x="19521" y="6292"/>
                  <a:pt x="19505" y="6268"/>
                  <a:pt x="19546" y="6276"/>
                </a:cubicBezTo>
              </a:path>
              <a:path w="3499" h="993">
                <a:moveTo>
                  <a:pt x="19645" y="6573"/>
                </a:moveTo>
                <a:cubicBezTo>
                  <a:pt x="19645" y="6663"/>
                  <a:pt x="19631" y="6748"/>
                  <a:pt x="19670" y="6821"/>
                </a:cubicBezTo>
                <a:cubicBezTo>
                  <a:pt x="19712" y="6900"/>
                  <a:pt x="19816" y="6895"/>
                  <a:pt x="19869" y="6821"/>
                </a:cubicBezTo>
                <a:cubicBezTo>
                  <a:pt x="19916" y="6755"/>
                  <a:pt x="19937" y="6682"/>
                  <a:pt x="19918" y="6598"/>
                </a:cubicBezTo>
                <a:cubicBezTo>
                  <a:pt x="19908" y="6554"/>
                  <a:pt x="19829" y="6438"/>
                  <a:pt x="19794" y="6424"/>
                </a:cubicBezTo>
                <a:cubicBezTo>
                  <a:pt x="19733" y="6399"/>
                  <a:pt x="19604" y="6415"/>
                  <a:pt x="19571" y="6474"/>
                </a:cubicBezTo>
                <a:cubicBezTo>
                  <a:pt x="19536" y="6537"/>
                  <a:pt x="19587" y="6570"/>
                  <a:pt x="19621" y="6598"/>
                </a:cubicBezTo>
              </a:path>
              <a:path w="3499" h="993">
                <a:moveTo>
                  <a:pt x="20017" y="6722"/>
                </a:moveTo>
                <a:cubicBezTo>
                  <a:pt x="20017" y="6780"/>
                  <a:pt x="20017" y="6838"/>
                  <a:pt x="20017" y="6896"/>
                </a:cubicBezTo>
                <a:cubicBezTo>
                  <a:pt x="20026" y="6826"/>
                  <a:pt x="20042" y="6771"/>
                  <a:pt x="20042" y="6697"/>
                </a:cubicBezTo>
                <a:cubicBezTo>
                  <a:pt x="20042" y="6609"/>
                  <a:pt x="20022" y="6502"/>
                  <a:pt x="20067" y="6424"/>
                </a:cubicBezTo>
                <a:cubicBezTo>
                  <a:pt x="20104" y="6360"/>
                  <a:pt x="20177" y="6369"/>
                  <a:pt x="20216" y="6424"/>
                </a:cubicBezTo>
                <a:cubicBezTo>
                  <a:pt x="20247" y="6467"/>
                  <a:pt x="20269" y="6546"/>
                  <a:pt x="20290" y="6598"/>
                </a:cubicBezTo>
                <a:cubicBezTo>
                  <a:pt x="20322" y="6676"/>
                  <a:pt x="20314" y="6728"/>
                  <a:pt x="20365" y="6796"/>
                </a:cubicBezTo>
                <a:cubicBezTo>
                  <a:pt x="20398" y="6840"/>
                  <a:pt x="20408" y="6774"/>
                  <a:pt x="20439" y="6722"/>
                </a:cubicBezTo>
              </a:path>
              <a:path w="3499" h="993">
                <a:moveTo>
                  <a:pt x="20662" y="6424"/>
                </a:moveTo>
                <a:cubicBezTo>
                  <a:pt x="20609" y="6403"/>
                  <a:pt x="20547" y="6433"/>
                  <a:pt x="20489" y="6474"/>
                </a:cubicBezTo>
                <a:cubicBezTo>
                  <a:pt x="20417" y="6524"/>
                  <a:pt x="20493" y="6571"/>
                  <a:pt x="20538" y="6598"/>
                </a:cubicBezTo>
                <a:cubicBezTo>
                  <a:pt x="20601" y="6636"/>
                  <a:pt x="20652" y="6682"/>
                  <a:pt x="20712" y="6722"/>
                </a:cubicBezTo>
                <a:cubicBezTo>
                  <a:pt x="20790" y="6774"/>
                  <a:pt x="20776" y="6801"/>
                  <a:pt x="20811" y="6871"/>
                </a:cubicBezTo>
                <a:cubicBezTo>
                  <a:pt x="20844" y="6936"/>
                  <a:pt x="20809" y="6966"/>
                  <a:pt x="20737" y="6970"/>
                </a:cubicBezTo>
                <a:cubicBezTo>
                  <a:pt x="20649" y="6975"/>
                  <a:pt x="20595" y="6949"/>
                  <a:pt x="20513" y="6945"/>
                </a:cubicBezTo>
                <a:cubicBezTo>
                  <a:pt x="20497" y="6945"/>
                  <a:pt x="20480" y="6945"/>
                  <a:pt x="20464" y="69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Ink 14"/>
          <p:cNvSpPr/>
          <p:nvPr/>
        </p:nvSpPr>
        <p:spPr>
          <a:xfrm>
            <a:off x="6831000" y="2776680"/>
            <a:ext cx="911160" cy="438120"/>
          </a:xfrm>
          <a:custGeom>
            <a:avLst/>
            <a:gdLst/>
            <a:ahLst/>
            <a:rect l="l" t="t" r="r" b="b"/>
            <a:pathLst>
              <a:path w="2531" h="1217">
                <a:moveTo>
                  <a:pt x="19372" y="8409"/>
                </a:moveTo>
                <a:cubicBezTo>
                  <a:pt x="19453" y="8409"/>
                  <a:pt x="19418" y="8368"/>
                  <a:pt x="19397" y="8334"/>
                </a:cubicBezTo>
                <a:cubicBezTo>
                  <a:pt x="19365" y="8283"/>
                  <a:pt x="19339" y="8226"/>
                  <a:pt x="19273" y="8210"/>
                </a:cubicBezTo>
                <a:cubicBezTo>
                  <a:pt x="19211" y="8195"/>
                  <a:pt x="19142" y="8247"/>
                  <a:pt x="19100" y="8285"/>
                </a:cubicBezTo>
                <a:cubicBezTo>
                  <a:pt x="19047" y="8333"/>
                  <a:pt x="19042" y="8346"/>
                  <a:pt x="19025" y="8409"/>
                </a:cubicBezTo>
                <a:cubicBezTo>
                  <a:pt x="19006" y="8478"/>
                  <a:pt x="18941" y="8553"/>
                  <a:pt x="18976" y="8632"/>
                </a:cubicBezTo>
                <a:cubicBezTo>
                  <a:pt x="18978" y="8636"/>
                  <a:pt x="19067" y="8705"/>
                  <a:pt x="19075" y="8706"/>
                </a:cubicBezTo>
                <a:cubicBezTo>
                  <a:pt x="19187" y="8722"/>
                  <a:pt x="19190" y="8673"/>
                  <a:pt x="19273" y="8632"/>
                </a:cubicBezTo>
                <a:cubicBezTo>
                  <a:pt x="19343" y="8597"/>
                  <a:pt x="19321" y="8540"/>
                  <a:pt x="19372" y="8483"/>
                </a:cubicBezTo>
                <a:cubicBezTo>
                  <a:pt x="19408" y="8442"/>
                  <a:pt x="19373" y="8318"/>
                  <a:pt x="19397" y="8409"/>
                </a:cubicBezTo>
                <a:cubicBezTo>
                  <a:pt x="19425" y="8515"/>
                  <a:pt x="19464" y="8582"/>
                  <a:pt x="19521" y="8657"/>
                </a:cubicBezTo>
                <a:cubicBezTo>
                  <a:pt x="19577" y="8731"/>
                  <a:pt x="19614" y="8723"/>
                  <a:pt x="19670" y="8657"/>
                </a:cubicBezTo>
              </a:path>
              <a:path w="2531" h="1217">
                <a:moveTo>
                  <a:pt x="19670" y="8285"/>
                </a:moveTo>
                <a:cubicBezTo>
                  <a:pt x="19768" y="8272"/>
                  <a:pt x="19829" y="8260"/>
                  <a:pt x="19918" y="8260"/>
                </a:cubicBezTo>
              </a:path>
              <a:path w="2531" h="1217">
                <a:moveTo>
                  <a:pt x="19720" y="8409"/>
                </a:moveTo>
                <a:cubicBezTo>
                  <a:pt x="19893" y="8370"/>
                  <a:pt x="19916" y="8354"/>
                  <a:pt x="20017" y="8359"/>
                </a:cubicBezTo>
              </a:path>
              <a:path w="2531" h="1217">
                <a:moveTo>
                  <a:pt x="20389" y="7888"/>
                </a:moveTo>
                <a:cubicBezTo>
                  <a:pt x="20355" y="8001"/>
                  <a:pt x="20320" y="8096"/>
                  <a:pt x="20315" y="8210"/>
                </a:cubicBezTo>
                <a:cubicBezTo>
                  <a:pt x="20311" y="8288"/>
                  <a:pt x="20290" y="8354"/>
                  <a:pt x="20290" y="8434"/>
                </a:cubicBezTo>
                <a:cubicBezTo>
                  <a:pt x="20290" y="8533"/>
                  <a:pt x="20232" y="8726"/>
                  <a:pt x="20340" y="8582"/>
                </a:cubicBezTo>
              </a:path>
              <a:path w="2531" h="1217">
                <a:moveTo>
                  <a:pt x="20588" y="7863"/>
                </a:moveTo>
                <a:cubicBezTo>
                  <a:pt x="20588" y="7981"/>
                  <a:pt x="20579" y="8073"/>
                  <a:pt x="20563" y="8186"/>
                </a:cubicBezTo>
                <a:cubicBezTo>
                  <a:pt x="20552" y="8269"/>
                  <a:pt x="20585" y="8332"/>
                  <a:pt x="20588" y="8409"/>
                </a:cubicBezTo>
                <a:cubicBezTo>
                  <a:pt x="20592" y="8497"/>
                  <a:pt x="20589" y="8577"/>
                  <a:pt x="20613" y="8657"/>
                </a:cubicBezTo>
                <a:cubicBezTo>
                  <a:pt x="20621" y="8673"/>
                  <a:pt x="20630" y="8690"/>
                  <a:pt x="20638" y="8706"/>
                </a:cubicBezTo>
              </a:path>
              <a:path w="2531" h="1217">
                <a:moveTo>
                  <a:pt x="20861" y="8558"/>
                </a:moveTo>
                <a:cubicBezTo>
                  <a:pt x="20869" y="8558"/>
                  <a:pt x="20878" y="8558"/>
                  <a:pt x="20886" y="8558"/>
                </a:cubicBezTo>
              </a:path>
              <a:path w="2531" h="1217">
                <a:moveTo>
                  <a:pt x="21158" y="7962"/>
                </a:moveTo>
                <a:cubicBezTo>
                  <a:pt x="21129" y="8044"/>
                  <a:pt x="21084" y="8104"/>
                  <a:pt x="21134" y="8186"/>
                </a:cubicBezTo>
                <a:cubicBezTo>
                  <a:pt x="21184" y="8269"/>
                  <a:pt x="21257" y="8291"/>
                  <a:pt x="21357" y="8260"/>
                </a:cubicBezTo>
                <a:cubicBezTo>
                  <a:pt x="21387" y="8230"/>
                  <a:pt x="21398" y="8216"/>
                  <a:pt x="21406" y="8186"/>
                </a:cubicBezTo>
              </a:path>
              <a:path w="2531" h="1217">
                <a:moveTo>
                  <a:pt x="21481" y="7714"/>
                </a:moveTo>
                <a:cubicBezTo>
                  <a:pt x="21443" y="7866"/>
                  <a:pt x="21431" y="7959"/>
                  <a:pt x="21431" y="8111"/>
                </a:cubicBezTo>
                <a:cubicBezTo>
                  <a:pt x="21431" y="8216"/>
                  <a:pt x="21445" y="8308"/>
                  <a:pt x="21456" y="8409"/>
                </a:cubicBezTo>
                <a:cubicBezTo>
                  <a:pt x="21470" y="8534"/>
                  <a:pt x="21490" y="8656"/>
                  <a:pt x="21506" y="8781"/>
                </a:cubicBezTo>
                <a:cubicBezTo>
                  <a:pt x="21506" y="8840"/>
                  <a:pt x="21499" y="8881"/>
                  <a:pt x="21481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15"/>
          <p:cNvSpPr/>
          <p:nvPr/>
        </p:nvSpPr>
        <p:spPr>
          <a:xfrm>
            <a:off x="812880" y="2660760"/>
            <a:ext cx="295200" cy="322200"/>
          </a:xfrm>
          <a:custGeom>
            <a:avLst/>
            <a:gdLst/>
            <a:ahLst/>
            <a:rect l="l" t="t" r="r" b="b"/>
            <a:pathLst>
              <a:path w="820" h="894">
                <a:moveTo>
                  <a:pt x="2307" y="7565"/>
                </a:moveTo>
                <a:cubicBezTo>
                  <a:pt x="2307" y="7703"/>
                  <a:pt x="2300" y="7829"/>
                  <a:pt x="2282" y="7962"/>
                </a:cubicBezTo>
                <a:cubicBezTo>
                  <a:pt x="2267" y="8069"/>
                  <a:pt x="2311" y="8194"/>
                  <a:pt x="2257" y="8285"/>
                </a:cubicBezTo>
                <a:cubicBezTo>
                  <a:pt x="2257" y="8219"/>
                  <a:pt x="2257" y="8202"/>
                  <a:pt x="2257" y="8161"/>
                </a:cubicBezTo>
              </a:path>
              <a:path w="820" h="894">
                <a:moveTo>
                  <a:pt x="2307" y="7615"/>
                </a:moveTo>
                <a:cubicBezTo>
                  <a:pt x="2364" y="7731"/>
                  <a:pt x="2422" y="7846"/>
                  <a:pt x="2480" y="7962"/>
                </a:cubicBezTo>
                <a:cubicBezTo>
                  <a:pt x="2521" y="8044"/>
                  <a:pt x="2537" y="8102"/>
                  <a:pt x="2580" y="8161"/>
                </a:cubicBezTo>
                <a:cubicBezTo>
                  <a:pt x="2608" y="8200"/>
                  <a:pt x="2620" y="8226"/>
                  <a:pt x="2654" y="8260"/>
                </a:cubicBezTo>
                <a:cubicBezTo>
                  <a:pt x="2698" y="8187"/>
                  <a:pt x="2667" y="8141"/>
                  <a:pt x="2654" y="8062"/>
                </a:cubicBezTo>
                <a:cubicBezTo>
                  <a:pt x="2638" y="7958"/>
                  <a:pt x="2642" y="7843"/>
                  <a:pt x="2629" y="7739"/>
                </a:cubicBezTo>
                <a:cubicBezTo>
                  <a:pt x="2618" y="7644"/>
                  <a:pt x="2650" y="7559"/>
                  <a:pt x="2654" y="7466"/>
                </a:cubicBezTo>
                <a:cubicBezTo>
                  <a:pt x="2654" y="7422"/>
                  <a:pt x="2651" y="7408"/>
                  <a:pt x="2679" y="7392"/>
                </a:cubicBezTo>
              </a:path>
              <a:path w="820" h="894">
                <a:moveTo>
                  <a:pt x="2853" y="8037"/>
                </a:moveTo>
                <a:cubicBezTo>
                  <a:pt x="2864" y="8087"/>
                  <a:pt x="2872" y="8262"/>
                  <a:pt x="2952" y="8285"/>
                </a:cubicBezTo>
                <a:cubicBezTo>
                  <a:pt x="3020" y="8305"/>
                  <a:pt x="3064" y="8215"/>
                  <a:pt x="3076" y="8161"/>
                </a:cubicBezTo>
                <a:cubicBezTo>
                  <a:pt x="3091" y="8096"/>
                  <a:pt x="3077" y="8013"/>
                  <a:pt x="3051" y="7962"/>
                </a:cubicBezTo>
                <a:cubicBezTo>
                  <a:pt x="3014" y="7889"/>
                  <a:pt x="2978" y="7858"/>
                  <a:pt x="2902" y="7913"/>
                </a:cubicBezTo>
                <a:cubicBezTo>
                  <a:pt x="2846" y="7954"/>
                  <a:pt x="2837" y="8019"/>
                  <a:pt x="2853" y="8086"/>
                </a:cubicBezTo>
                <a:cubicBezTo>
                  <a:pt x="2873" y="8127"/>
                  <a:pt x="2881" y="8133"/>
                  <a:pt x="2877" y="81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16"/>
          <p:cNvSpPr/>
          <p:nvPr/>
        </p:nvSpPr>
        <p:spPr>
          <a:xfrm>
            <a:off x="1268280" y="2714760"/>
            <a:ext cx="1268640" cy="339480"/>
          </a:xfrm>
          <a:custGeom>
            <a:avLst/>
            <a:gdLst/>
            <a:ahLst/>
            <a:rect l="l" t="t" r="r" b="b"/>
            <a:pathLst>
              <a:path w="3524" h="943">
                <a:moveTo>
                  <a:pt x="3870" y="7640"/>
                </a:moveTo>
                <a:cubicBezTo>
                  <a:pt x="3854" y="7585"/>
                  <a:pt x="3804" y="7516"/>
                  <a:pt x="3721" y="7541"/>
                </a:cubicBezTo>
                <a:cubicBezTo>
                  <a:pt x="3675" y="7555"/>
                  <a:pt x="3616" y="7581"/>
                  <a:pt x="3572" y="7615"/>
                </a:cubicBezTo>
                <a:cubicBezTo>
                  <a:pt x="3519" y="7655"/>
                  <a:pt x="3501" y="7723"/>
                  <a:pt x="3522" y="7789"/>
                </a:cubicBezTo>
                <a:cubicBezTo>
                  <a:pt x="3537" y="7837"/>
                  <a:pt x="3620" y="7857"/>
                  <a:pt x="3646" y="7888"/>
                </a:cubicBezTo>
                <a:cubicBezTo>
                  <a:pt x="3694" y="7945"/>
                  <a:pt x="3745" y="7981"/>
                  <a:pt x="3795" y="8037"/>
                </a:cubicBezTo>
                <a:cubicBezTo>
                  <a:pt x="3842" y="8090"/>
                  <a:pt x="3878" y="8131"/>
                  <a:pt x="3919" y="8186"/>
                </a:cubicBezTo>
                <a:cubicBezTo>
                  <a:pt x="3947" y="8223"/>
                  <a:pt x="4005" y="8279"/>
                  <a:pt x="3919" y="8310"/>
                </a:cubicBezTo>
                <a:cubicBezTo>
                  <a:pt x="3850" y="8335"/>
                  <a:pt x="3701" y="8315"/>
                  <a:pt x="3646" y="8285"/>
                </a:cubicBezTo>
                <a:cubicBezTo>
                  <a:pt x="3630" y="8277"/>
                  <a:pt x="3613" y="8268"/>
                  <a:pt x="3597" y="8260"/>
                </a:cubicBezTo>
              </a:path>
              <a:path w="3524" h="943">
                <a:moveTo>
                  <a:pt x="4093" y="8111"/>
                </a:moveTo>
                <a:cubicBezTo>
                  <a:pt x="4066" y="8179"/>
                  <a:pt x="4015" y="8283"/>
                  <a:pt x="4118" y="8334"/>
                </a:cubicBezTo>
                <a:cubicBezTo>
                  <a:pt x="4153" y="8352"/>
                  <a:pt x="4262" y="8325"/>
                  <a:pt x="4291" y="8310"/>
                </a:cubicBezTo>
                <a:cubicBezTo>
                  <a:pt x="4341" y="8285"/>
                  <a:pt x="4363" y="8234"/>
                  <a:pt x="4366" y="8186"/>
                </a:cubicBezTo>
                <a:cubicBezTo>
                  <a:pt x="4372" y="8083"/>
                  <a:pt x="4335" y="8064"/>
                  <a:pt x="4266" y="8012"/>
                </a:cubicBezTo>
                <a:cubicBezTo>
                  <a:pt x="4193" y="7956"/>
                  <a:pt x="4141" y="7948"/>
                  <a:pt x="4068" y="8012"/>
                </a:cubicBezTo>
                <a:cubicBezTo>
                  <a:pt x="4015" y="8059"/>
                  <a:pt x="3987" y="8141"/>
                  <a:pt x="4068" y="8186"/>
                </a:cubicBezTo>
                <a:cubicBezTo>
                  <a:pt x="4076" y="8186"/>
                  <a:pt x="4085" y="8186"/>
                  <a:pt x="4093" y="8186"/>
                </a:cubicBezTo>
              </a:path>
              <a:path w="3524" h="943">
                <a:moveTo>
                  <a:pt x="4564" y="7615"/>
                </a:moveTo>
                <a:cubicBezTo>
                  <a:pt x="4564" y="7774"/>
                  <a:pt x="4499" y="8164"/>
                  <a:pt x="4589" y="8310"/>
                </a:cubicBezTo>
                <a:cubicBezTo>
                  <a:pt x="4597" y="8310"/>
                  <a:pt x="4606" y="8310"/>
                  <a:pt x="4614" y="8310"/>
                </a:cubicBezTo>
              </a:path>
              <a:path w="3524" h="943">
                <a:moveTo>
                  <a:pt x="4787" y="8012"/>
                </a:moveTo>
                <a:cubicBezTo>
                  <a:pt x="4779" y="8118"/>
                  <a:pt x="4717" y="8293"/>
                  <a:pt x="4862" y="8310"/>
                </a:cubicBezTo>
                <a:cubicBezTo>
                  <a:pt x="4914" y="8316"/>
                  <a:pt x="4957" y="8279"/>
                  <a:pt x="4986" y="8235"/>
                </a:cubicBezTo>
                <a:cubicBezTo>
                  <a:pt x="5029" y="8169"/>
                  <a:pt x="5035" y="8141"/>
                  <a:pt x="5035" y="8062"/>
                </a:cubicBezTo>
                <a:cubicBezTo>
                  <a:pt x="5035" y="7945"/>
                  <a:pt x="5037" y="8124"/>
                  <a:pt x="5060" y="8161"/>
                </a:cubicBezTo>
                <a:cubicBezTo>
                  <a:pt x="5076" y="8186"/>
                  <a:pt x="5125" y="8278"/>
                  <a:pt x="5159" y="8285"/>
                </a:cubicBezTo>
                <a:cubicBezTo>
                  <a:pt x="5232" y="8285"/>
                  <a:pt x="5256" y="8286"/>
                  <a:pt x="5283" y="8235"/>
                </a:cubicBezTo>
              </a:path>
              <a:path w="3524" h="943">
                <a:moveTo>
                  <a:pt x="5383" y="7615"/>
                </a:moveTo>
                <a:cubicBezTo>
                  <a:pt x="5383" y="7802"/>
                  <a:pt x="5367" y="7964"/>
                  <a:pt x="5432" y="8136"/>
                </a:cubicBezTo>
                <a:cubicBezTo>
                  <a:pt x="5453" y="8192"/>
                  <a:pt x="5479" y="8274"/>
                  <a:pt x="5457" y="8285"/>
                </a:cubicBezTo>
              </a:path>
              <a:path w="3524" h="943">
                <a:moveTo>
                  <a:pt x="5184" y="7913"/>
                </a:moveTo>
                <a:cubicBezTo>
                  <a:pt x="5305" y="7913"/>
                  <a:pt x="5417" y="7919"/>
                  <a:pt x="5531" y="7938"/>
                </a:cubicBezTo>
                <a:cubicBezTo>
                  <a:pt x="5569" y="7944"/>
                  <a:pt x="5689" y="7945"/>
                  <a:pt x="5705" y="7987"/>
                </a:cubicBezTo>
                <a:cubicBezTo>
                  <a:pt x="5733" y="8061"/>
                  <a:pt x="5663" y="8307"/>
                  <a:pt x="5730" y="8285"/>
                </a:cubicBezTo>
              </a:path>
              <a:path w="3524" h="943">
                <a:moveTo>
                  <a:pt x="5779" y="7813"/>
                </a:moveTo>
                <a:lnTo>
                  <a:pt x="5779" y="7813"/>
                </a:lnTo>
              </a:path>
              <a:path w="3524" h="943">
                <a:moveTo>
                  <a:pt x="6003" y="8161"/>
                </a:moveTo>
                <a:cubicBezTo>
                  <a:pt x="6038" y="8329"/>
                  <a:pt x="6004" y="8334"/>
                  <a:pt x="6152" y="8334"/>
                </a:cubicBezTo>
                <a:cubicBezTo>
                  <a:pt x="6239" y="8334"/>
                  <a:pt x="6260" y="8314"/>
                  <a:pt x="6276" y="8235"/>
                </a:cubicBezTo>
                <a:cubicBezTo>
                  <a:pt x="6289" y="8173"/>
                  <a:pt x="6277" y="8110"/>
                  <a:pt x="6251" y="8062"/>
                </a:cubicBezTo>
                <a:cubicBezTo>
                  <a:pt x="6219" y="8003"/>
                  <a:pt x="6168" y="7991"/>
                  <a:pt x="6102" y="7987"/>
                </a:cubicBezTo>
                <a:cubicBezTo>
                  <a:pt x="6048" y="7984"/>
                  <a:pt x="6008" y="8016"/>
                  <a:pt x="5978" y="8062"/>
                </a:cubicBezTo>
                <a:cubicBezTo>
                  <a:pt x="5932" y="8132"/>
                  <a:pt x="5952" y="8159"/>
                  <a:pt x="6003" y="8210"/>
                </a:cubicBezTo>
                <a:cubicBezTo>
                  <a:pt x="6049" y="8256"/>
                  <a:pt x="6066" y="8273"/>
                  <a:pt x="6127" y="8285"/>
                </a:cubicBezTo>
              </a:path>
              <a:path w="3524" h="943">
                <a:moveTo>
                  <a:pt x="6424" y="8235"/>
                </a:moveTo>
                <a:cubicBezTo>
                  <a:pt x="6424" y="8297"/>
                  <a:pt x="6414" y="8312"/>
                  <a:pt x="6449" y="8334"/>
                </a:cubicBezTo>
                <a:cubicBezTo>
                  <a:pt x="6478" y="8287"/>
                  <a:pt x="6495" y="8241"/>
                  <a:pt x="6524" y="8186"/>
                </a:cubicBezTo>
                <a:cubicBezTo>
                  <a:pt x="6546" y="8144"/>
                  <a:pt x="6539" y="8054"/>
                  <a:pt x="6598" y="8037"/>
                </a:cubicBezTo>
                <a:cubicBezTo>
                  <a:pt x="6681" y="8014"/>
                  <a:pt x="6736" y="8104"/>
                  <a:pt x="6772" y="8161"/>
                </a:cubicBezTo>
                <a:cubicBezTo>
                  <a:pt x="6807" y="8217"/>
                  <a:pt x="6794" y="8291"/>
                  <a:pt x="6821" y="8334"/>
                </a:cubicBezTo>
                <a:cubicBezTo>
                  <a:pt x="6846" y="8334"/>
                  <a:pt x="6854" y="8334"/>
                  <a:pt x="6871" y="8334"/>
                </a:cubicBezTo>
              </a:path>
              <a:path w="3524" h="943">
                <a:moveTo>
                  <a:pt x="7045" y="8111"/>
                </a:moveTo>
                <a:cubicBezTo>
                  <a:pt x="6965" y="8178"/>
                  <a:pt x="7000" y="8206"/>
                  <a:pt x="7020" y="8310"/>
                </a:cubicBezTo>
                <a:cubicBezTo>
                  <a:pt x="7030" y="8363"/>
                  <a:pt x="6974" y="8462"/>
                  <a:pt x="6921" y="8483"/>
                </a:cubicBezTo>
                <a:cubicBezTo>
                  <a:pt x="6840" y="8516"/>
                  <a:pt x="6665" y="8357"/>
                  <a:pt x="6598" y="83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Ink 17"/>
          <p:cNvSpPr/>
          <p:nvPr/>
        </p:nvSpPr>
        <p:spPr>
          <a:xfrm>
            <a:off x="392040" y="3187800"/>
            <a:ext cx="1839960" cy="760320"/>
          </a:xfrm>
          <a:custGeom>
            <a:avLst/>
            <a:gdLst/>
            <a:ahLst/>
            <a:rect l="l" t="t" r="r" b="b"/>
            <a:pathLst>
              <a:path w="5111" h="2110">
                <a:moveTo>
                  <a:pt x="1513" y="9153"/>
                </a:moveTo>
                <a:cubicBezTo>
                  <a:pt x="1584" y="9200"/>
                  <a:pt x="1512" y="9105"/>
                  <a:pt x="1488" y="9079"/>
                </a:cubicBezTo>
                <a:cubicBezTo>
                  <a:pt x="1448" y="9036"/>
                  <a:pt x="1302" y="8990"/>
                  <a:pt x="1240" y="9029"/>
                </a:cubicBezTo>
                <a:cubicBezTo>
                  <a:pt x="1219" y="9042"/>
                  <a:pt x="1114" y="9107"/>
                  <a:pt x="1116" y="9153"/>
                </a:cubicBezTo>
                <a:cubicBezTo>
                  <a:pt x="1122" y="9283"/>
                  <a:pt x="1204" y="9200"/>
                  <a:pt x="1265" y="9252"/>
                </a:cubicBezTo>
                <a:cubicBezTo>
                  <a:pt x="1307" y="9288"/>
                  <a:pt x="1374" y="9284"/>
                  <a:pt x="1414" y="9327"/>
                </a:cubicBezTo>
                <a:cubicBezTo>
                  <a:pt x="1459" y="9375"/>
                  <a:pt x="1540" y="9375"/>
                  <a:pt x="1563" y="9451"/>
                </a:cubicBezTo>
                <a:cubicBezTo>
                  <a:pt x="1583" y="9518"/>
                  <a:pt x="1515" y="9590"/>
                  <a:pt x="1463" y="9599"/>
                </a:cubicBezTo>
                <a:cubicBezTo>
                  <a:pt x="1402" y="9610"/>
                  <a:pt x="1218" y="9632"/>
                  <a:pt x="1191" y="9550"/>
                </a:cubicBezTo>
                <a:cubicBezTo>
                  <a:pt x="1191" y="9525"/>
                  <a:pt x="1191" y="9500"/>
                  <a:pt x="1191" y="9475"/>
                </a:cubicBezTo>
              </a:path>
              <a:path w="5111" h="2110">
                <a:moveTo>
                  <a:pt x="1736" y="9227"/>
                </a:moveTo>
                <a:cubicBezTo>
                  <a:pt x="1736" y="9300"/>
                  <a:pt x="1716" y="9629"/>
                  <a:pt x="1761" y="9599"/>
                </a:cubicBezTo>
              </a:path>
              <a:path w="5111" h="2110">
                <a:moveTo>
                  <a:pt x="1761" y="8954"/>
                </a:moveTo>
                <a:cubicBezTo>
                  <a:pt x="1761" y="8946"/>
                  <a:pt x="1761" y="8938"/>
                  <a:pt x="1761" y="8930"/>
                </a:cubicBezTo>
              </a:path>
              <a:path w="5111" h="2110">
                <a:moveTo>
                  <a:pt x="1935" y="9401"/>
                </a:moveTo>
                <a:cubicBezTo>
                  <a:pt x="1935" y="9467"/>
                  <a:pt x="1935" y="9533"/>
                  <a:pt x="1935" y="9599"/>
                </a:cubicBezTo>
                <a:cubicBezTo>
                  <a:pt x="1935" y="9525"/>
                  <a:pt x="1955" y="9471"/>
                  <a:pt x="1960" y="9401"/>
                </a:cubicBezTo>
                <a:cubicBezTo>
                  <a:pt x="1966" y="9328"/>
                  <a:pt x="1977" y="9298"/>
                  <a:pt x="2009" y="9227"/>
                </a:cubicBezTo>
                <a:cubicBezTo>
                  <a:pt x="2067" y="9100"/>
                  <a:pt x="2096" y="9184"/>
                  <a:pt x="2158" y="9227"/>
                </a:cubicBezTo>
                <a:cubicBezTo>
                  <a:pt x="2233" y="9278"/>
                  <a:pt x="2198" y="9287"/>
                  <a:pt x="2232" y="9376"/>
                </a:cubicBezTo>
                <a:cubicBezTo>
                  <a:pt x="2257" y="9443"/>
                  <a:pt x="2232" y="9530"/>
                  <a:pt x="2257" y="9599"/>
                </a:cubicBezTo>
                <a:cubicBezTo>
                  <a:pt x="2262" y="9613"/>
                  <a:pt x="2274" y="9688"/>
                  <a:pt x="2307" y="9699"/>
                </a:cubicBezTo>
              </a:path>
              <a:path w="5111" h="2110">
                <a:moveTo>
                  <a:pt x="2530" y="9079"/>
                </a:moveTo>
                <a:cubicBezTo>
                  <a:pt x="2637" y="9079"/>
                  <a:pt x="2662" y="9049"/>
                  <a:pt x="2729" y="9029"/>
                </a:cubicBezTo>
                <a:cubicBezTo>
                  <a:pt x="2790" y="9029"/>
                  <a:pt x="2806" y="9038"/>
                  <a:pt x="2828" y="9004"/>
                </a:cubicBezTo>
              </a:path>
              <a:path w="5111" h="2110">
                <a:moveTo>
                  <a:pt x="2555" y="9004"/>
                </a:moveTo>
                <a:cubicBezTo>
                  <a:pt x="2512" y="9061"/>
                  <a:pt x="2425" y="9154"/>
                  <a:pt x="2456" y="9227"/>
                </a:cubicBezTo>
                <a:cubicBezTo>
                  <a:pt x="2472" y="9264"/>
                  <a:pt x="2530" y="9229"/>
                  <a:pt x="2555" y="9227"/>
                </a:cubicBezTo>
                <a:cubicBezTo>
                  <a:pt x="2606" y="9223"/>
                  <a:pt x="2696" y="9208"/>
                  <a:pt x="2729" y="9252"/>
                </a:cubicBezTo>
                <a:cubicBezTo>
                  <a:pt x="2762" y="9296"/>
                  <a:pt x="2800" y="9354"/>
                  <a:pt x="2828" y="9401"/>
                </a:cubicBezTo>
                <a:cubicBezTo>
                  <a:pt x="2881" y="9488"/>
                  <a:pt x="2822" y="9574"/>
                  <a:pt x="2753" y="9599"/>
                </a:cubicBezTo>
                <a:cubicBezTo>
                  <a:pt x="2661" y="9633"/>
                  <a:pt x="2609" y="9623"/>
                  <a:pt x="2530" y="9599"/>
                </a:cubicBezTo>
                <a:cubicBezTo>
                  <a:pt x="2497" y="9599"/>
                  <a:pt x="2489" y="9591"/>
                  <a:pt x="2505" y="9550"/>
                </a:cubicBezTo>
              </a:path>
              <a:path w="5111" h="2110">
                <a:moveTo>
                  <a:pt x="3200" y="9029"/>
                </a:moveTo>
                <a:cubicBezTo>
                  <a:pt x="3136" y="9021"/>
                  <a:pt x="2975" y="8988"/>
                  <a:pt x="2927" y="9079"/>
                </a:cubicBezTo>
                <a:cubicBezTo>
                  <a:pt x="2897" y="9137"/>
                  <a:pt x="2941" y="9213"/>
                  <a:pt x="2977" y="9252"/>
                </a:cubicBezTo>
                <a:cubicBezTo>
                  <a:pt x="3031" y="9311"/>
                  <a:pt x="3078" y="9384"/>
                  <a:pt x="3125" y="9451"/>
                </a:cubicBezTo>
                <a:cubicBezTo>
                  <a:pt x="3161" y="9502"/>
                  <a:pt x="3170" y="9582"/>
                  <a:pt x="3150" y="9624"/>
                </a:cubicBezTo>
                <a:cubicBezTo>
                  <a:pt x="3142" y="9641"/>
                  <a:pt x="3133" y="9657"/>
                  <a:pt x="3125" y="9674"/>
                </a:cubicBezTo>
                <a:cubicBezTo>
                  <a:pt x="3061" y="9623"/>
                  <a:pt x="2989" y="9616"/>
                  <a:pt x="2952" y="9550"/>
                </a:cubicBezTo>
                <a:cubicBezTo>
                  <a:pt x="2916" y="9487"/>
                  <a:pt x="2881" y="9470"/>
                  <a:pt x="2927" y="9401"/>
                </a:cubicBezTo>
                <a:cubicBezTo>
                  <a:pt x="2970" y="9337"/>
                  <a:pt x="3019" y="9305"/>
                  <a:pt x="3076" y="9252"/>
                </a:cubicBezTo>
                <a:cubicBezTo>
                  <a:pt x="3084" y="9244"/>
                  <a:pt x="3093" y="9235"/>
                  <a:pt x="3101" y="9227"/>
                </a:cubicBezTo>
              </a:path>
              <a:path w="5111" h="2110">
                <a:moveTo>
                  <a:pt x="3398" y="8855"/>
                </a:moveTo>
                <a:cubicBezTo>
                  <a:pt x="3322" y="8866"/>
                  <a:pt x="3275" y="8910"/>
                  <a:pt x="3299" y="9004"/>
                </a:cubicBezTo>
                <a:cubicBezTo>
                  <a:pt x="3332" y="9135"/>
                  <a:pt x="3412" y="9044"/>
                  <a:pt x="3448" y="9029"/>
                </a:cubicBezTo>
                <a:cubicBezTo>
                  <a:pt x="3492" y="9029"/>
                  <a:pt x="3506" y="9032"/>
                  <a:pt x="3522" y="9004"/>
                </a:cubicBezTo>
                <a:cubicBezTo>
                  <a:pt x="3489" y="8913"/>
                  <a:pt x="3492" y="8868"/>
                  <a:pt x="3398" y="8855"/>
                </a:cubicBezTo>
              </a:path>
              <a:path w="5111" h="2110">
                <a:moveTo>
                  <a:pt x="1091" y="9823"/>
                </a:moveTo>
                <a:cubicBezTo>
                  <a:pt x="1789" y="9823"/>
                  <a:pt x="2574" y="9919"/>
                  <a:pt x="3249" y="9773"/>
                </a:cubicBezTo>
                <a:cubicBezTo>
                  <a:pt x="3342" y="9753"/>
                  <a:pt x="3273" y="9755"/>
                  <a:pt x="3225" y="9748"/>
                </a:cubicBezTo>
              </a:path>
              <a:path w="5111" h="2110">
                <a:moveTo>
                  <a:pt x="1588" y="10071"/>
                </a:moveTo>
                <a:cubicBezTo>
                  <a:pt x="1625" y="10159"/>
                  <a:pt x="1598" y="10201"/>
                  <a:pt x="1588" y="10294"/>
                </a:cubicBezTo>
                <a:cubicBezTo>
                  <a:pt x="1578" y="10384"/>
                  <a:pt x="1567" y="10478"/>
                  <a:pt x="1563" y="10567"/>
                </a:cubicBezTo>
                <a:cubicBezTo>
                  <a:pt x="1559" y="10663"/>
                  <a:pt x="1548" y="10747"/>
                  <a:pt x="1538" y="10840"/>
                </a:cubicBezTo>
              </a:path>
              <a:path w="5111" h="2110">
                <a:moveTo>
                  <a:pt x="1910" y="10071"/>
                </a:moveTo>
                <a:cubicBezTo>
                  <a:pt x="1910" y="10223"/>
                  <a:pt x="1911" y="10380"/>
                  <a:pt x="1885" y="10517"/>
                </a:cubicBezTo>
                <a:cubicBezTo>
                  <a:pt x="1870" y="10599"/>
                  <a:pt x="1872" y="10852"/>
                  <a:pt x="1910" y="10840"/>
                </a:cubicBezTo>
              </a:path>
              <a:path w="5111" h="2110">
                <a:moveTo>
                  <a:pt x="2084" y="10691"/>
                </a:moveTo>
                <a:cubicBezTo>
                  <a:pt x="2103" y="10748"/>
                  <a:pt x="2111" y="10791"/>
                  <a:pt x="2108" y="10740"/>
                </a:cubicBezTo>
              </a:path>
              <a:path w="5111" h="2110">
                <a:moveTo>
                  <a:pt x="2356" y="10195"/>
                </a:moveTo>
                <a:cubicBezTo>
                  <a:pt x="2345" y="10222"/>
                  <a:pt x="2279" y="10346"/>
                  <a:pt x="2282" y="10368"/>
                </a:cubicBezTo>
                <a:cubicBezTo>
                  <a:pt x="2291" y="10432"/>
                  <a:pt x="2356" y="10486"/>
                  <a:pt x="2406" y="10492"/>
                </a:cubicBezTo>
                <a:cubicBezTo>
                  <a:pt x="2446" y="10497"/>
                  <a:pt x="2490" y="10492"/>
                  <a:pt x="2530" y="10492"/>
                </a:cubicBezTo>
              </a:path>
              <a:path w="5111" h="2110">
                <a:moveTo>
                  <a:pt x="2604" y="10120"/>
                </a:moveTo>
                <a:cubicBezTo>
                  <a:pt x="2591" y="10200"/>
                  <a:pt x="2580" y="10262"/>
                  <a:pt x="2580" y="10344"/>
                </a:cubicBezTo>
                <a:cubicBezTo>
                  <a:pt x="2580" y="10486"/>
                  <a:pt x="2540" y="10939"/>
                  <a:pt x="2629" y="10939"/>
                </a:cubicBezTo>
              </a:path>
              <a:path w="5111" h="2110">
                <a:moveTo>
                  <a:pt x="3646" y="9897"/>
                </a:moveTo>
                <a:cubicBezTo>
                  <a:pt x="3769" y="9856"/>
                  <a:pt x="3791" y="9839"/>
                  <a:pt x="3870" y="9847"/>
                </a:cubicBezTo>
              </a:path>
              <a:path w="5111" h="2110">
                <a:moveTo>
                  <a:pt x="3696" y="10046"/>
                </a:moveTo>
                <a:cubicBezTo>
                  <a:pt x="3754" y="10046"/>
                  <a:pt x="3812" y="10046"/>
                  <a:pt x="3870" y="10046"/>
                </a:cubicBezTo>
              </a:path>
              <a:path w="5111" h="2110">
                <a:moveTo>
                  <a:pt x="4589" y="9178"/>
                </a:moveTo>
                <a:cubicBezTo>
                  <a:pt x="4579" y="9129"/>
                  <a:pt x="4571" y="9082"/>
                  <a:pt x="4514" y="9079"/>
                </a:cubicBezTo>
                <a:cubicBezTo>
                  <a:pt x="4428" y="9075"/>
                  <a:pt x="4353" y="9063"/>
                  <a:pt x="4316" y="9153"/>
                </a:cubicBezTo>
                <a:cubicBezTo>
                  <a:pt x="4290" y="9215"/>
                  <a:pt x="4369" y="9221"/>
                  <a:pt x="4390" y="9252"/>
                </a:cubicBezTo>
                <a:cubicBezTo>
                  <a:pt x="4419" y="9295"/>
                  <a:pt x="4493" y="9344"/>
                  <a:pt x="4539" y="9376"/>
                </a:cubicBezTo>
                <a:cubicBezTo>
                  <a:pt x="4568" y="9396"/>
                  <a:pt x="4653" y="9420"/>
                  <a:pt x="4663" y="9451"/>
                </a:cubicBezTo>
                <a:cubicBezTo>
                  <a:pt x="4680" y="9503"/>
                  <a:pt x="4667" y="9587"/>
                  <a:pt x="4614" y="9599"/>
                </a:cubicBezTo>
                <a:cubicBezTo>
                  <a:pt x="4518" y="9620"/>
                  <a:pt x="4420" y="9608"/>
                  <a:pt x="4366" y="9550"/>
                </a:cubicBezTo>
                <a:cubicBezTo>
                  <a:pt x="4349" y="9533"/>
                  <a:pt x="4333" y="9517"/>
                  <a:pt x="4316" y="9500"/>
                </a:cubicBezTo>
              </a:path>
              <a:path w="5111" h="2110">
                <a:moveTo>
                  <a:pt x="4911" y="9252"/>
                </a:moveTo>
                <a:cubicBezTo>
                  <a:pt x="4911" y="9331"/>
                  <a:pt x="4918" y="9380"/>
                  <a:pt x="4936" y="9451"/>
                </a:cubicBezTo>
                <a:cubicBezTo>
                  <a:pt x="4946" y="9491"/>
                  <a:pt x="4936" y="9560"/>
                  <a:pt x="4936" y="9599"/>
                </a:cubicBezTo>
              </a:path>
              <a:path w="5111" h="2110">
                <a:moveTo>
                  <a:pt x="5135" y="9376"/>
                </a:moveTo>
                <a:cubicBezTo>
                  <a:pt x="5135" y="9426"/>
                  <a:pt x="5135" y="9475"/>
                  <a:pt x="5135" y="9525"/>
                </a:cubicBezTo>
                <a:cubicBezTo>
                  <a:pt x="5165" y="9453"/>
                  <a:pt x="5179" y="9376"/>
                  <a:pt x="5209" y="9302"/>
                </a:cubicBezTo>
                <a:cubicBezTo>
                  <a:pt x="5237" y="9233"/>
                  <a:pt x="5279" y="9223"/>
                  <a:pt x="5333" y="9178"/>
                </a:cubicBezTo>
                <a:cubicBezTo>
                  <a:pt x="5381" y="9214"/>
                  <a:pt x="5472" y="9258"/>
                  <a:pt x="5482" y="9302"/>
                </a:cubicBezTo>
                <a:cubicBezTo>
                  <a:pt x="5501" y="9387"/>
                  <a:pt x="5489" y="9460"/>
                  <a:pt x="5507" y="9550"/>
                </a:cubicBezTo>
                <a:cubicBezTo>
                  <a:pt x="5518" y="9602"/>
                  <a:pt x="5534" y="9656"/>
                  <a:pt x="5556" y="9699"/>
                </a:cubicBezTo>
                <a:cubicBezTo>
                  <a:pt x="5589" y="9666"/>
                  <a:pt x="5606" y="9649"/>
                  <a:pt x="5631" y="9624"/>
                </a:cubicBezTo>
              </a:path>
              <a:path w="5111" h="2110">
                <a:moveTo>
                  <a:pt x="5730" y="9004"/>
                </a:moveTo>
                <a:cubicBezTo>
                  <a:pt x="5730" y="9107"/>
                  <a:pt x="5730" y="9470"/>
                  <a:pt x="5730" y="9401"/>
                </a:cubicBezTo>
                <a:cubicBezTo>
                  <a:pt x="5730" y="9346"/>
                  <a:pt x="5752" y="9242"/>
                  <a:pt x="5755" y="9227"/>
                </a:cubicBezTo>
                <a:cubicBezTo>
                  <a:pt x="5772" y="9127"/>
                  <a:pt x="5769" y="9100"/>
                  <a:pt x="5804" y="9004"/>
                </a:cubicBezTo>
                <a:cubicBezTo>
                  <a:pt x="5816" y="8970"/>
                  <a:pt x="5860" y="8871"/>
                  <a:pt x="5904" y="8855"/>
                </a:cubicBezTo>
                <a:cubicBezTo>
                  <a:pt x="5950" y="8838"/>
                  <a:pt x="6027" y="8855"/>
                  <a:pt x="6077" y="8855"/>
                </a:cubicBezTo>
                <a:cubicBezTo>
                  <a:pt x="6070" y="8958"/>
                  <a:pt x="6087" y="9046"/>
                  <a:pt x="6003" y="9103"/>
                </a:cubicBezTo>
                <a:cubicBezTo>
                  <a:pt x="5948" y="9140"/>
                  <a:pt x="5815" y="9153"/>
                  <a:pt x="5904" y="9153"/>
                </a:cubicBezTo>
                <a:cubicBezTo>
                  <a:pt x="5953" y="9153"/>
                  <a:pt x="6037" y="9135"/>
                  <a:pt x="6077" y="9178"/>
                </a:cubicBezTo>
                <a:cubicBezTo>
                  <a:pt x="6129" y="9234"/>
                  <a:pt x="6158" y="9226"/>
                  <a:pt x="6201" y="9302"/>
                </a:cubicBezTo>
                <a:cubicBezTo>
                  <a:pt x="6188" y="9368"/>
                  <a:pt x="6154" y="9368"/>
                  <a:pt x="6127" y="9401"/>
                </a:cubicBezTo>
                <a:cubicBezTo>
                  <a:pt x="6076" y="9464"/>
                  <a:pt x="6061" y="9451"/>
                  <a:pt x="5978" y="9451"/>
                </a:cubicBezTo>
                <a:cubicBezTo>
                  <a:pt x="5895" y="9451"/>
                  <a:pt x="5844" y="9475"/>
                  <a:pt x="5755" y="9475"/>
                </a:cubicBezTo>
              </a:path>
              <a:path w="5111" h="2110">
                <a:moveTo>
                  <a:pt x="4341" y="9773"/>
                </a:moveTo>
                <a:cubicBezTo>
                  <a:pt x="4513" y="9751"/>
                  <a:pt x="4664" y="9748"/>
                  <a:pt x="4837" y="9748"/>
                </a:cubicBezTo>
                <a:cubicBezTo>
                  <a:pt x="5178" y="9748"/>
                  <a:pt x="5530" y="9775"/>
                  <a:pt x="5854" y="9699"/>
                </a:cubicBezTo>
                <a:cubicBezTo>
                  <a:pt x="5920" y="9683"/>
                  <a:pt x="6009" y="9699"/>
                  <a:pt x="6077" y="9699"/>
                </a:cubicBezTo>
              </a:path>
              <a:path w="5111" h="2110">
                <a:moveTo>
                  <a:pt x="4738" y="10120"/>
                </a:moveTo>
                <a:cubicBezTo>
                  <a:pt x="4759" y="10207"/>
                  <a:pt x="4762" y="10277"/>
                  <a:pt x="4762" y="10368"/>
                </a:cubicBezTo>
                <a:cubicBezTo>
                  <a:pt x="4762" y="10517"/>
                  <a:pt x="4762" y="10666"/>
                  <a:pt x="4762" y="10815"/>
                </a:cubicBezTo>
              </a:path>
              <a:path w="5111" h="2110">
                <a:moveTo>
                  <a:pt x="4986" y="10195"/>
                </a:moveTo>
                <a:cubicBezTo>
                  <a:pt x="5132" y="10136"/>
                  <a:pt x="5165" y="10090"/>
                  <a:pt x="5259" y="10195"/>
                </a:cubicBezTo>
                <a:cubicBezTo>
                  <a:pt x="5321" y="10265"/>
                  <a:pt x="5308" y="10329"/>
                  <a:pt x="5308" y="10418"/>
                </a:cubicBezTo>
                <a:cubicBezTo>
                  <a:pt x="5308" y="10509"/>
                  <a:pt x="5303" y="10518"/>
                  <a:pt x="5259" y="10592"/>
                </a:cubicBezTo>
                <a:cubicBezTo>
                  <a:pt x="5237" y="10629"/>
                  <a:pt x="5165" y="10716"/>
                  <a:pt x="5110" y="10716"/>
                </a:cubicBezTo>
                <a:cubicBezTo>
                  <a:pt x="5102" y="10708"/>
                  <a:pt x="5093" y="10699"/>
                  <a:pt x="5085" y="10691"/>
                </a:cubicBezTo>
                <a:cubicBezTo>
                  <a:pt x="5092" y="10631"/>
                  <a:pt x="5097" y="10614"/>
                  <a:pt x="5135" y="10567"/>
                </a:cubicBezTo>
                <a:cubicBezTo>
                  <a:pt x="5194" y="10627"/>
                  <a:pt x="5230" y="10654"/>
                  <a:pt x="5283" y="10716"/>
                </a:cubicBezTo>
                <a:cubicBezTo>
                  <a:pt x="5314" y="10752"/>
                  <a:pt x="5342" y="10798"/>
                  <a:pt x="5358" y="10765"/>
                </a:cubicBezTo>
              </a:path>
              <a:path w="5111" h="2110">
                <a:moveTo>
                  <a:pt x="5581" y="10641"/>
                </a:moveTo>
                <a:cubicBezTo>
                  <a:pt x="5622" y="10641"/>
                  <a:pt x="5630" y="10641"/>
                  <a:pt x="5655" y="10641"/>
                </a:cubicBezTo>
              </a:path>
              <a:path w="5111" h="2110">
                <a:moveTo>
                  <a:pt x="6028" y="10195"/>
                </a:moveTo>
                <a:cubicBezTo>
                  <a:pt x="5993" y="10181"/>
                  <a:pt x="5907" y="10104"/>
                  <a:pt x="5854" y="10145"/>
                </a:cubicBezTo>
                <a:cubicBezTo>
                  <a:pt x="5818" y="10173"/>
                  <a:pt x="5752" y="10205"/>
                  <a:pt x="5779" y="10269"/>
                </a:cubicBezTo>
                <a:cubicBezTo>
                  <a:pt x="5807" y="10337"/>
                  <a:pt x="5864" y="10394"/>
                  <a:pt x="5904" y="10443"/>
                </a:cubicBezTo>
                <a:cubicBezTo>
                  <a:pt x="5998" y="10559"/>
                  <a:pt x="6007" y="10623"/>
                  <a:pt x="6052" y="10765"/>
                </a:cubicBezTo>
                <a:cubicBezTo>
                  <a:pt x="6076" y="10813"/>
                  <a:pt x="6084" y="10827"/>
                  <a:pt x="6077" y="10864"/>
                </a:cubicBezTo>
                <a:cubicBezTo>
                  <a:pt x="6017" y="10900"/>
                  <a:pt x="5983" y="10892"/>
                  <a:pt x="5928" y="10840"/>
                </a:cubicBezTo>
                <a:cubicBezTo>
                  <a:pt x="5854" y="10771"/>
                  <a:pt x="5833" y="10694"/>
                  <a:pt x="5854" y="10592"/>
                </a:cubicBezTo>
                <a:cubicBezTo>
                  <a:pt x="5869" y="10517"/>
                  <a:pt x="5916" y="10479"/>
                  <a:pt x="5953" y="10418"/>
                </a:cubicBezTo>
                <a:cubicBezTo>
                  <a:pt x="6002" y="10336"/>
                  <a:pt x="6023" y="10364"/>
                  <a:pt x="6028" y="10269"/>
                </a:cubicBezTo>
                <a:cubicBezTo>
                  <a:pt x="6028" y="10210"/>
                  <a:pt x="6025" y="10184"/>
                  <a:pt x="6003" y="10145"/>
                </a:cubicBezTo>
              </a:path>
              <a:path w="5111" h="2110">
                <a:moveTo>
                  <a:pt x="3448" y="9475"/>
                </a:moveTo>
                <a:cubicBezTo>
                  <a:pt x="3493" y="9574"/>
                  <a:pt x="3560" y="9653"/>
                  <a:pt x="3621" y="9748"/>
                </a:cubicBezTo>
                <a:cubicBezTo>
                  <a:pt x="3678" y="9837"/>
                  <a:pt x="3768" y="9890"/>
                  <a:pt x="3845" y="9971"/>
                </a:cubicBezTo>
                <a:cubicBezTo>
                  <a:pt x="3947" y="10078"/>
                  <a:pt x="4037" y="10189"/>
                  <a:pt x="4142" y="10294"/>
                </a:cubicBezTo>
                <a:cubicBezTo>
                  <a:pt x="4212" y="10364"/>
                  <a:pt x="4269" y="10426"/>
                  <a:pt x="4341" y="10492"/>
                </a:cubicBezTo>
                <a:cubicBezTo>
                  <a:pt x="4403" y="10549"/>
                  <a:pt x="4348" y="10464"/>
                  <a:pt x="4341" y="10443"/>
                </a:cubicBezTo>
              </a:path>
              <a:path w="5111" h="2110">
                <a:moveTo>
                  <a:pt x="4266" y="9451"/>
                </a:moveTo>
                <a:cubicBezTo>
                  <a:pt x="4198" y="9461"/>
                  <a:pt x="4208" y="9460"/>
                  <a:pt x="4167" y="9525"/>
                </a:cubicBezTo>
                <a:cubicBezTo>
                  <a:pt x="4104" y="9625"/>
                  <a:pt x="4003" y="9728"/>
                  <a:pt x="3919" y="9823"/>
                </a:cubicBezTo>
                <a:cubicBezTo>
                  <a:pt x="3839" y="9913"/>
                  <a:pt x="3750" y="9964"/>
                  <a:pt x="3671" y="10046"/>
                </a:cubicBezTo>
                <a:cubicBezTo>
                  <a:pt x="3609" y="10110"/>
                  <a:pt x="3491" y="10202"/>
                  <a:pt x="3448" y="10269"/>
                </a:cubicBezTo>
                <a:cubicBezTo>
                  <a:pt x="3409" y="10330"/>
                  <a:pt x="3398" y="10375"/>
                  <a:pt x="3324" y="10418"/>
                </a:cubicBezTo>
                <a:cubicBezTo>
                  <a:pt x="3316" y="10418"/>
                  <a:pt x="3307" y="10418"/>
                  <a:pt x="3299" y="1041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Ink 18"/>
          <p:cNvSpPr/>
          <p:nvPr/>
        </p:nvSpPr>
        <p:spPr>
          <a:xfrm>
            <a:off x="3081240" y="3214800"/>
            <a:ext cx="1571760" cy="723960"/>
          </a:xfrm>
          <a:custGeom>
            <a:avLst/>
            <a:gdLst/>
            <a:ahLst/>
            <a:rect l="l" t="t" r="r" b="b"/>
            <a:pathLst>
              <a:path w="4366" h="2010">
                <a:moveTo>
                  <a:pt x="8830" y="9302"/>
                </a:moveTo>
                <a:cubicBezTo>
                  <a:pt x="8871" y="9207"/>
                  <a:pt x="8851" y="9219"/>
                  <a:pt x="8781" y="9178"/>
                </a:cubicBezTo>
                <a:cubicBezTo>
                  <a:pt x="8683" y="9120"/>
                  <a:pt x="8718" y="9192"/>
                  <a:pt x="8632" y="9227"/>
                </a:cubicBezTo>
                <a:cubicBezTo>
                  <a:pt x="8591" y="9227"/>
                  <a:pt x="8583" y="9227"/>
                  <a:pt x="8558" y="9227"/>
                </a:cubicBezTo>
                <a:cubicBezTo>
                  <a:pt x="8573" y="9298"/>
                  <a:pt x="8600" y="9328"/>
                  <a:pt x="8682" y="9376"/>
                </a:cubicBezTo>
                <a:cubicBezTo>
                  <a:pt x="8727" y="9402"/>
                  <a:pt x="8787" y="9428"/>
                  <a:pt x="8830" y="9451"/>
                </a:cubicBezTo>
                <a:cubicBezTo>
                  <a:pt x="8883" y="9479"/>
                  <a:pt x="8916" y="9546"/>
                  <a:pt x="8930" y="9599"/>
                </a:cubicBezTo>
                <a:cubicBezTo>
                  <a:pt x="8951" y="9679"/>
                  <a:pt x="8879" y="9674"/>
                  <a:pt x="8830" y="9674"/>
                </a:cubicBezTo>
                <a:cubicBezTo>
                  <a:pt x="8751" y="9674"/>
                  <a:pt x="8656" y="9701"/>
                  <a:pt x="8607" y="9624"/>
                </a:cubicBezTo>
                <a:cubicBezTo>
                  <a:pt x="8607" y="9559"/>
                  <a:pt x="8628" y="9516"/>
                  <a:pt x="8682" y="9475"/>
                </a:cubicBezTo>
              </a:path>
              <a:path w="4366" h="2010">
                <a:moveTo>
                  <a:pt x="9103" y="9376"/>
                </a:moveTo>
                <a:cubicBezTo>
                  <a:pt x="9117" y="9453"/>
                  <a:pt x="9105" y="9599"/>
                  <a:pt x="9128" y="9674"/>
                </a:cubicBezTo>
                <a:cubicBezTo>
                  <a:pt x="9151" y="9697"/>
                  <a:pt x="9159" y="9708"/>
                  <a:pt x="9153" y="9674"/>
                </a:cubicBezTo>
              </a:path>
              <a:path w="4366" h="2010">
                <a:moveTo>
                  <a:pt x="9128" y="9004"/>
                </a:moveTo>
                <a:cubicBezTo>
                  <a:pt x="9147" y="8947"/>
                  <a:pt x="9138" y="8922"/>
                  <a:pt x="9178" y="8930"/>
                </a:cubicBezTo>
              </a:path>
              <a:path w="4366" h="2010">
                <a:moveTo>
                  <a:pt x="9277" y="9451"/>
                </a:moveTo>
                <a:cubicBezTo>
                  <a:pt x="9305" y="9525"/>
                  <a:pt x="9305" y="9525"/>
                  <a:pt x="9277" y="9599"/>
                </a:cubicBezTo>
                <a:cubicBezTo>
                  <a:pt x="9277" y="9660"/>
                  <a:pt x="9299" y="9499"/>
                  <a:pt x="9302" y="9475"/>
                </a:cubicBezTo>
                <a:cubicBezTo>
                  <a:pt x="9309" y="9426"/>
                  <a:pt x="9302" y="9250"/>
                  <a:pt x="9351" y="9227"/>
                </a:cubicBezTo>
                <a:cubicBezTo>
                  <a:pt x="9426" y="9192"/>
                  <a:pt x="9417" y="9181"/>
                  <a:pt x="9475" y="9227"/>
                </a:cubicBezTo>
                <a:cubicBezTo>
                  <a:pt x="9533" y="9273"/>
                  <a:pt x="9576" y="9310"/>
                  <a:pt x="9599" y="9376"/>
                </a:cubicBezTo>
                <a:cubicBezTo>
                  <a:pt x="9625" y="9450"/>
                  <a:pt x="9646" y="9518"/>
                  <a:pt x="9649" y="9599"/>
                </a:cubicBezTo>
                <a:cubicBezTo>
                  <a:pt x="9649" y="9624"/>
                  <a:pt x="9649" y="9649"/>
                  <a:pt x="9649" y="9674"/>
                </a:cubicBezTo>
              </a:path>
              <a:path w="4366" h="2010">
                <a:moveTo>
                  <a:pt x="9971" y="9004"/>
                </a:moveTo>
                <a:cubicBezTo>
                  <a:pt x="10062" y="9021"/>
                  <a:pt x="10122" y="9004"/>
                  <a:pt x="10220" y="9004"/>
                </a:cubicBezTo>
                <a:cubicBezTo>
                  <a:pt x="10244" y="9004"/>
                  <a:pt x="10253" y="9004"/>
                  <a:pt x="10269" y="9004"/>
                </a:cubicBezTo>
              </a:path>
              <a:path w="4366" h="2010">
                <a:moveTo>
                  <a:pt x="9971" y="9004"/>
                </a:moveTo>
                <a:cubicBezTo>
                  <a:pt x="9932" y="9099"/>
                  <a:pt x="9882" y="9155"/>
                  <a:pt x="9872" y="9252"/>
                </a:cubicBezTo>
                <a:cubicBezTo>
                  <a:pt x="9909" y="9236"/>
                  <a:pt x="10005" y="9200"/>
                  <a:pt x="10046" y="9227"/>
                </a:cubicBezTo>
                <a:cubicBezTo>
                  <a:pt x="10078" y="9248"/>
                  <a:pt x="10186" y="9325"/>
                  <a:pt x="10195" y="9376"/>
                </a:cubicBezTo>
                <a:cubicBezTo>
                  <a:pt x="10207" y="9439"/>
                  <a:pt x="10228" y="9523"/>
                  <a:pt x="10195" y="9599"/>
                </a:cubicBezTo>
                <a:cubicBezTo>
                  <a:pt x="10192" y="9605"/>
                  <a:pt x="10027" y="9670"/>
                  <a:pt x="10021" y="9674"/>
                </a:cubicBezTo>
                <a:cubicBezTo>
                  <a:pt x="9979" y="9601"/>
                  <a:pt x="9980" y="9612"/>
                  <a:pt x="9971" y="9525"/>
                </a:cubicBezTo>
              </a:path>
              <a:path w="4366" h="2010">
                <a:moveTo>
                  <a:pt x="10517" y="9079"/>
                </a:moveTo>
                <a:cubicBezTo>
                  <a:pt x="10461" y="9079"/>
                  <a:pt x="10363" y="9059"/>
                  <a:pt x="10319" y="9103"/>
                </a:cubicBezTo>
                <a:cubicBezTo>
                  <a:pt x="10247" y="9175"/>
                  <a:pt x="10318" y="9237"/>
                  <a:pt x="10344" y="9302"/>
                </a:cubicBezTo>
                <a:cubicBezTo>
                  <a:pt x="10376" y="9380"/>
                  <a:pt x="10434" y="9406"/>
                  <a:pt x="10468" y="9475"/>
                </a:cubicBezTo>
                <a:cubicBezTo>
                  <a:pt x="10508" y="9555"/>
                  <a:pt x="10525" y="9597"/>
                  <a:pt x="10492" y="9674"/>
                </a:cubicBezTo>
                <a:cubicBezTo>
                  <a:pt x="10420" y="9653"/>
                  <a:pt x="10389" y="9601"/>
                  <a:pt x="10344" y="9525"/>
                </a:cubicBezTo>
                <a:cubicBezTo>
                  <a:pt x="10310" y="9469"/>
                  <a:pt x="10317" y="9357"/>
                  <a:pt x="10344" y="9302"/>
                </a:cubicBezTo>
                <a:cubicBezTo>
                  <a:pt x="10369" y="9251"/>
                  <a:pt x="10400" y="9215"/>
                  <a:pt x="10443" y="9178"/>
                </a:cubicBezTo>
                <a:cubicBezTo>
                  <a:pt x="10484" y="9143"/>
                  <a:pt x="10507" y="9122"/>
                  <a:pt x="10542" y="9079"/>
                </a:cubicBezTo>
              </a:path>
              <a:path w="4366" h="2010">
                <a:moveTo>
                  <a:pt x="8756" y="9823"/>
                </a:moveTo>
                <a:cubicBezTo>
                  <a:pt x="8900" y="9837"/>
                  <a:pt x="9031" y="9823"/>
                  <a:pt x="9178" y="9823"/>
                </a:cubicBezTo>
                <a:cubicBezTo>
                  <a:pt x="9492" y="9823"/>
                  <a:pt x="10385" y="9823"/>
                  <a:pt x="10071" y="9823"/>
                </a:cubicBezTo>
              </a:path>
              <a:path w="4366" h="2010">
                <a:moveTo>
                  <a:pt x="8930" y="10120"/>
                </a:moveTo>
                <a:cubicBezTo>
                  <a:pt x="8930" y="10292"/>
                  <a:pt x="8938" y="10347"/>
                  <a:pt x="8954" y="10492"/>
                </a:cubicBezTo>
                <a:cubicBezTo>
                  <a:pt x="8964" y="10583"/>
                  <a:pt x="8974" y="10739"/>
                  <a:pt x="8930" y="10815"/>
                </a:cubicBezTo>
              </a:path>
              <a:path w="4366" h="2010">
                <a:moveTo>
                  <a:pt x="9178" y="9996"/>
                </a:moveTo>
                <a:cubicBezTo>
                  <a:pt x="9178" y="10125"/>
                  <a:pt x="9168" y="10241"/>
                  <a:pt x="9153" y="10368"/>
                </a:cubicBezTo>
                <a:cubicBezTo>
                  <a:pt x="9144" y="10445"/>
                  <a:pt x="9128" y="10513"/>
                  <a:pt x="9128" y="10592"/>
                </a:cubicBezTo>
                <a:cubicBezTo>
                  <a:pt x="9128" y="10603"/>
                  <a:pt x="9107" y="10815"/>
                  <a:pt x="9153" y="10815"/>
                </a:cubicBezTo>
                <a:cubicBezTo>
                  <a:pt x="9153" y="10807"/>
                  <a:pt x="9153" y="10798"/>
                  <a:pt x="9153" y="10790"/>
                </a:cubicBezTo>
              </a:path>
              <a:path w="4366" h="2010">
                <a:moveTo>
                  <a:pt x="9376" y="10567"/>
                </a:moveTo>
                <a:cubicBezTo>
                  <a:pt x="9376" y="10617"/>
                  <a:pt x="9376" y="10666"/>
                  <a:pt x="9376" y="10716"/>
                </a:cubicBezTo>
              </a:path>
              <a:path w="4366" h="2010">
                <a:moveTo>
                  <a:pt x="9575" y="10269"/>
                </a:moveTo>
                <a:cubicBezTo>
                  <a:pt x="9579" y="10331"/>
                  <a:pt x="9565" y="10469"/>
                  <a:pt x="9674" y="10443"/>
                </a:cubicBezTo>
                <a:cubicBezTo>
                  <a:pt x="9690" y="10435"/>
                  <a:pt x="9707" y="10426"/>
                  <a:pt x="9723" y="10418"/>
                </a:cubicBezTo>
              </a:path>
              <a:path w="4366" h="2010">
                <a:moveTo>
                  <a:pt x="9748" y="9971"/>
                </a:moveTo>
                <a:cubicBezTo>
                  <a:pt x="9748" y="10076"/>
                  <a:pt x="9734" y="10168"/>
                  <a:pt x="9723" y="10269"/>
                </a:cubicBezTo>
                <a:cubicBezTo>
                  <a:pt x="9711" y="10379"/>
                  <a:pt x="9720" y="10849"/>
                  <a:pt x="9748" y="10840"/>
                </a:cubicBezTo>
              </a:path>
              <a:path w="4366" h="2010">
                <a:moveTo>
                  <a:pt x="10641" y="9823"/>
                </a:moveTo>
                <a:cubicBezTo>
                  <a:pt x="10699" y="9823"/>
                  <a:pt x="10757" y="9823"/>
                  <a:pt x="10815" y="9823"/>
                </a:cubicBezTo>
              </a:path>
              <a:path w="4366" h="2010">
                <a:moveTo>
                  <a:pt x="10740" y="9971"/>
                </a:moveTo>
                <a:cubicBezTo>
                  <a:pt x="10781" y="9955"/>
                  <a:pt x="10823" y="9938"/>
                  <a:pt x="10864" y="9922"/>
                </a:cubicBezTo>
              </a:path>
              <a:path w="4366" h="2010">
                <a:moveTo>
                  <a:pt x="11435" y="9153"/>
                </a:moveTo>
                <a:cubicBezTo>
                  <a:pt x="11339" y="9193"/>
                  <a:pt x="11257" y="9220"/>
                  <a:pt x="11162" y="9252"/>
                </a:cubicBezTo>
                <a:cubicBezTo>
                  <a:pt x="11183" y="9327"/>
                  <a:pt x="11224" y="9346"/>
                  <a:pt x="11286" y="9401"/>
                </a:cubicBezTo>
                <a:cubicBezTo>
                  <a:pt x="11308" y="9421"/>
                  <a:pt x="11421" y="9503"/>
                  <a:pt x="11435" y="9525"/>
                </a:cubicBezTo>
                <a:cubicBezTo>
                  <a:pt x="11486" y="9605"/>
                  <a:pt x="11464" y="9661"/>
                  <a:pt x="11385" y="9674"/>
                </a:cubicBezTo>
                <a:cubicBezTo>
                  <a:pt x="11301" y="9688"/>
                  <a:pt x="11248" y="9675"/>
                  <a:pt x="11187" y="9624"/>
                </a:cubicBezTo>
                <a:cubicBezTo>
                  <a:pt x="11135" y="9580"/>
                  <a:pt x="11149" y="9623"/>
                  <a:pt x="11137" y="9550"/>
                </a:cubicBezTo>
              </a:path>
              <a:path w="4366" h="2010">
                <a:moveTo>
                  <a:pt x="11609" y="9327"/>
                </a:moveTo>
                <a:cubicBezTo>
                  <a:pt x="11651" y="9488"/>
                  <a:pt x="11600" y="9445"/>
                  <a:pt x="11633" y="9599"/>
                </a:cubicBezTo>
                <a:cubicBezTo>
                  <a:pt x="11661" y="9627"/>
                  <a:pt x="11670" y="9641"/>
                  <a:pt x="11658" y="9674"/>
                </a:cubicBezTo>
              </a:path>
              <a:path w="4366" h="2010">
                <a:moveTo>
                  <a:pt x="11633" y="8954"/>
                </a:moveTo>
                <a:cubicBezTo>
                  <a:pt x="11650" y="8946"/>
                  <a:pt x="11666" y="8938"/>
                  <a:pt x="11683" y="8930"/>
                </a:cubicBezTo>
              </a:path>
              <a:path w="4366" h="2010">
                <a:moveTo>
                  <a:pt x="11807" y="9475"/>
                </a:moveTo>
                <a:cubicBezTo>
                  <a:pt x="11790" y="9516"/>
                  <a:pt x="11774" y="9558"/>
                  <a:pt x="11757" y="9599"/>
                </a:cubicBezTo>
                <a:cubicBezTo>
                  <a:pt x="11772" y="9555"/>
                  <a:pt x="11830" y="9461"/>
                  <a:pt x="11832" y="9451"/>
                </a:cubicBezTo>
                <a:cubicBezTo>
                  <a:pt x="11845" y="9400"/>
                  <a:pt x="11837" y="9317"/>
                  <a:pt x="11906" y="9302"/>
                </a:cubicBezTo>
                <a:cubicBezTo>
                  <a:pt x="11976" y="9287"/>
                  <a:pt x="12004" y="9313"/>
                  <a:pt x="12030" y="9376"/>
                </a:cubicBezTo>
                <a:cubicBezTo>
                  <a:pt x="12064" y="9459"/>
                  <a:pt x="12056" y="9542"/>
                  <a:pt x="12080" y="9624"/>
                </a:cubicBezTo>
                <a:cubicBezTo>
                  <a:pt x="12094" y="9673"/>
                  <a:pt x="12106" y="9793"/>
                  <a:pt x="12129" y="9699"/>
                </a:cubicBezTo>
              </a:path>
              <a:path w="4366" h="2010">
                <a:moveTo>
                  <a:pt x="12303" y="9153"/>
                </a:moveTo>
                <a:cubicBezTo>
                  <a:pt x="12430" y="9116"/>
                  <a:pt x="12453" y="9134"/>
                  <a:pt x="12502" y="9079"/>
                </a:cubicBezTo>
              </a:path>
              <a:path w="4366" h="2010">
                <a:moveTo>
                  <a:pt x="12229" y="9227"/>
                </a:moveTo>
                <a:cubicBezTo>
                  <a:pt x="12229" y="9260"/>
                  <a:pt x="12229" y="9294"/>
                  <a:pt x="12229" y="9327"/>
                </a:cubicBezTo>
                <a:cubicBezTo>
                  <a:pt x="12285" y="9319"/>
                  <a:pt x="12339" y="9284"/>
                  <a:pt x="12402" y="9302"/>
                </a:cubicBezTo>
                <a:cubicBezTo>
                  <a:pt x="12465" y="9320"/>
                  <a:pt x="12488" y="9394"/>
                  <a:pt x="12502" y="9451"/>
                </a:cubicBezTo>
                <a:cubicBezTo>
                  <a:pt x="12522" y="9530"/>
                  <a:pt x="12487" y="9565"/>
                  <a:pt x="12452" y="9624"/>
                </a:cubicBezTo>
                <a:cubicBezTo>
                  <a:pt x="12430" y="9660"/>
                  <a:pt x="12322" y="9719"/>
                  <a:pt x="12278" y="9674"/>
                </a:cubicBezTo>
                <a:cubicBezTo>
                  <a:pt x="12258" y="9633"/>
                  <a:pt x="12250" y="9627"/>
                  <a:pt x="12254" y="9599"/>
                </a:cubicBezTo>
              </a:path>
              <a:path w="4366" h="2010">
                <a:moveTo>
                  <a:pt x="12675" y="9302"/>
                </a:moveTo>
                <a:cubicBezTo>
                  <a:pt x="12643" y="9408"/>
                  <a:pt x="12572" y="9562"/>
                  <a:pt x="12626" y="9674"/>
                </a:cubicBezTo>
                <a:cubicBezTo>
                  <a:pt x="12647" y="9716"/>
                  <a:pt x="12767" y="9697"/>
                  <a:pt x="12799" y="9674"/>
                </a:cubicBezTo>
                <a:cubicBezTo>
                  <a:pt x="12871" y="9621"/>
                  <a:pt x="12918" y="9537"/>
                  <a:pt x="12923" y="9451"/>
                </a:cubicBezTo>
                <a:cubicBezTo>
                  <a:pt x="12927" y="9381"/>
                  <a:pt x="12893" y="9341"/>
                  <a:pt x="12874" y="9302"/>
                </a:cubicBezTo>
                <a:cubicBezTo>
                  <a:pt x="12834" y="9220"/>
                  <a:pt x="12833" y="9200"/>
                  <a:pt x="12774" y="9153"/>
                </a:cubicBezTo>
                <a:cubicBezTo>
                  <a:pt x="12758" y="9136"/>
                  <a:pt x="12741" y="9120"/>
                  <a:pt x="12725" y="9103"/>
                </a:cubicBezTo>
              </a:path>
              <a:path w="4366" h="2010">
                <a:moveTo>
                  <a:pt x="11336" y="9971"/>
                </a:moveTo>
                <a:cubicBezTo>
                  <a:pt x="11525" y="9971"/>
                  <a:pt x="11682" y="9954"/>
                  <a:pt x="11857" y="9922"/>
                </a:cubicBezTo>
                <a:cubicBezTo>
                  <a:pt x="11999" y="9896"/>
                  <a:pt x="12133" y="9897"/>
                  <a:pt x="12278" y="9897"/>
                </a:cubicBezTo>
                <a:cubicBezTo>
                  <a:pt x="12378" y="9897"/>
                  <a:pt x="12450" y="9929"/>
                  <a:pt x="12477" y="9847"/>
                </a:cubicBezTo>
              </a:path>
              <a:path w="4366" h="2010">
                <a:moveTo>
                  <a:pt x="11956" y="10344"/>
                </a:moveTo>
                <a:cubicBezTo>
                  <a:pt x="11981" y="10369"/>
                  <a:pt x="12005" y="10393"/>
                  <a:pt x="12030" y="10418"/>
                </a:cubicBezTo>
                <a:cubicBezTo>
                  <a:pt x="12009" y="10397"/>
                  <a:pt x="11986" y="10319"/>
                  <a:pt x="11956" y="10269"/>
                </a:cubicBezTo>
                <a:cubicBezTo>
                  <a:pt x="11908" y="10190"/>
                  <a:pt x="11900" y="10195"/>
                  <a:pt x="11807" y="10195"/>
                </a:cubicBezTo>
                <a:cubicBezTo>
                  <a:pt x="11755" y="10195"/>
                  <a:pt x="11655" y="10238"/>
                  <a:pt x="11633" y="10269"/>
                </a:cubicBezTo>
                <a:cubicBezTo>
                  <a:pt x="11579" y="10346"/>
                  <a:pt x="11558" y="10398"/>
                  <a:pt x="11534" y="10492"/>
                </a:cubicBezTo>
                <a:cubicBezTo>
                  <a:pt x="11513" y="10575"/>
                  <a:pt x="11527" y="10658"/>
                  <a:pt x="11584" y="10740"/>
                </a:cubicBezTo>
                <a:cubicBezTo>
                  <a:pt x="11627" y="10802"/>
                  <a:pt x="11758" y="10853"/>
                  <a:pt x="11832" y="10864"/>
                </a:cubicBezTo>
                <a:cubicBezTo>
                  <a:pt x="11932" y="10879"/>
                  <a:pt x="12030" y="10920"/>
                  <a:pt x="12129" y="10939"/>
                </a:cubicBezTo>
                <a:cubicBezTo>
                  <a:pt x="12145" y="10942"/>
                  <a:pt x="12319" y="10939"/>
                  <a:pt x="12254" y="10939"/>
                </a:cubicBezTo>
              </a:path>
              <a:path w="4366" h="2010">
                <a:moveTo>
                  <a:pt x="10616" y="9674"/>
                </a:moveTo>
                <a:cubicBezTo>
                  <a:pt x="10674" y="9717"/>
                  <a:pt x="10686" y="9773"/>
                  <a:pt x="10740" y="9823"/>
                </a:cubicBezTo>
                <a:cubicBezTo>
                  <a:pt x="10811" y="9889"/>
                  <a:pt x="10989" y="9999"/>
                  <a:pt x="11063" y="10046"/>
                </a:cubicBezTo>
                <a:cubicBezTo>
                  <a:pt x="11145" y="10098"/>
                  <a:pt x="11254" y="10177"/>
                  <a:pt x="11311" y="10269"/>
                </a:cubicBezTo>
                <a:cubicBezTo>
                  <a:pt x="11359" y="10347"/>
                  <a:pt x="11341" y="10402"/>
                  <a:pt x="11435" y="10418"/>
                </a:cubicBezTo>
                <a:cubicBezTo>
                  <a:pt x="11443" y="10418"/>
                  <a:pt x="11452" y="10418"/>
                  <a:pt x="11460" y="10418"/>
                </a:cubicBezTo>
              </a:path>
              <a:path w="4366" h="2010">
                <a:moveTo>
                  <a:pt x="11137" y="9599"/>
                </a:moveTo>
                <a:cubicBezTo>
                  <a:pt x="11089" y="9731"/>
                  <a:pt x="11056" y="9794"/>
                  <a:pt x="10964" y="9897"/>
                </a:cubicBezTo>
                <a:cubicBezTo>
                  <a:pt x="10880" y="9992"/>
                  <a:pt x="10760" y="10061"/>
                  <a:pt x="10666" y="10145"/>
                </a:cubicBezTo>
                <a:cubicBezTo>
                  <a:pt x="10605" y="10200"/>
                  <a:pt x="10575" y="10294"/>
                  <a:pt x="10517" y="10344"/>
                </a:cubicBezTo>
                <a:cubicBezTo>
                  <a:pt x="10466" y="10387"/>
                  <a:pt x="10450" y="10402"/>
                  <a:pt x="10393" y="1041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19"/>
          <p:cNvSpPr/>
          <p:nvPr/>
        </p:nvSpPr>
        <p:spPr>
          <a:xfrm>
            <a:off x="5045040" y="3348000"/>
            <a:ext cx="519120" cy="1019160"/>
          </a:xfrm>
          <a:custGeom>
            <a:avLst/>
            <a:gdLst/>
            <a:ahLst/>
            <a:rect l="l" t="t" r="r" b="b"/>
            <a:pathLst>
              <a:path w="1439" h="2828">
                <a:moveTo>
                  <a:pt x="14238" y="9376"/>
                </a:moveTo>
                <a:cubicBezTo>
                  <a:pt x="14222" y="9539"/>
                  <a:pt x="14213" y="9685"/>
                  <a:pt x="14213" y="9847"/>
                </a:cubicBezTo>
                <a:cubicBezTo>
                  <a:pt x="14213" y="10013"/>
                  <a:pt x="14213" y="10178"/>
                  <a:pt x="14213" y="10344"/>
                </a:cubicBezTo>
                <a:cubicBezTo>
                  <a:pt x="14213" y="10277"/>
                  <a:pt x="14196" y="10262"/>
                  <a:pt x="14188" y="10195"/>
                </a:cubicBezTo>
                <a:cubicBezTo>
                  <a:pt x="14188" y="10170"/>
                  <a:pt x="14188" y="10145"/>
                  <a:pt x="14188" y="10120"/>
                </a:cubicBezTo>
              </a:path>
              <a:path w="1439" h="2828">
                <a:moveTo>
                  <a:pt x="14163" y="9748"/>
                </a:moveTo>
                <a:cubicBezTo>
                  <a:pt x="14163" y="9654"/>
                  <a:pt x="14147" y="9553"/>
                  <a:pt x="14188" y="9475"/>
                </a:cubicBezTo>
                <a:cubicBezTo>
                  <a:pt x="14225" y="9404"/>
                  <a:pt x="14251" y="9335"/>
                  <a:pt x="14337" y="9302"/>
                </a:cubicBezTo>
                <a:cubicBezTo>
                  <a:pt x="14380" y="9285"/>
                  <a:pt x="14508" y="9291"/>
                  <a:pt x="14536" y="9327"/>
                </a:cubicBezTo>
                <a:cubicBezTo>
                  <a:pt x="14571" y="9373"/>
                  <a:pt x="14613" y="9405"/>
                  <a:pt x="14610" y="9475"/>
                </a:cubicBezTo>
                <a:cubicBezTo>
                  <a:pt x="14606" y="9594"/>
                  <a:pt x="14519" y="9638"/>
                  <a:pt x="14461" y="9699"/>
                </a:cubicBezTo>
                <a:cubicBezTo>
                  <a:pt x="14416" y="9747"/>
                  <a:pt x="14417" y="9740"/>
                  <a:pt x="14362" y="9773"/>
                </a:cubicBezTo>
                <a:cubicBezTo>
                  <a:pt x="14412" y="9743"/>
                  <a:pt x="14496" y="9731"/>
                  <a:pt x="14560" y="9748"/>
                </a:cubicBezTo>
                <a:cubicBezTo>
                  <a:pt x="14626" y="9765"/>
                  <a:pt x="14684" y="9837"/>
                  <a:pt x="14709" y="9897"/>
                </a:cubicBezTo>
                <a:cubicBezTo>
                  <a:pt x="14732" y="9954"/>
                  <a:pt x="14753" y="10059"/>
                  <a:pt x="14734" y="10120"/>
                </a:cubicBezTo>
                <a:cubicBezTo>
                  <a:pt x="14712" y="10189"/>
                  <a:pt x="14633" y="10251"/>
                  <a:pt x="14585" y="10294"/>
                </a:cubicBezTo>
                <a:cubicBezTo>
                  <a:pt x="14522" y="10350"/>
                  <a:pt x="14448" y="10363"/>
                  <a:pt x="14362" y="10368"/>
                </a:cubicBezTo>
                <a:cubicBezTo>
                  <a:pt x="14258" y="10374"/>
                  <a:pt x="14222" y="10379"/>
                  <a:pt x="14213" y="10269"/>
                </a:cubicBezTo>
                <a:cubicBezTo>
                  <a:pt x="14213" y="10244"/>
                  <a:pt x="14213" y="10220"/>
                  <a:pt x="14213" y="10195"/>
                </a:cubicBezTo>
              </a:path>
              <a:path w="1439" h="2828">
                <a:moveTo>
                  <a:pt x="15032" y="9748"/>
                </a:moveTo>
                <a:cubicBezTo>
                  <a:pt x="15131" y="9748"/>
                  <a:pt x="15230" y="9748"/>
                  <a:pt x="15329" y="9748"/>
                </a:cubicBezTo>
              </a:path>
              <a:path w="1439" h="2828">
                <a:moveTo>
                  <a:pt x="15106" y="9897"/>
                </a:moveTo>
                <a:cubicBezTo>
                  <a:pt x="15239" y="9897"/>
                  <a:pt x="15352" y="9924"/>
                  <a:pt x="15453" y="9847"/>
                </a:cubicBezTo>
              </a:path>
              <a:path w="1439" h="2828">
                <a:moveTo>
                  <a:pt x="14511" y="11261"/>
                </a:moveTo>
                <a:cubicBezTo>
                  <a:pt x="14532" y="11210"/>
                  <a:pt x="14518" y="11105"/>
                  <a:pt x="14486" y="11038"/>
                </a:cubicBezTo>
                <a:cubicBezTo>
                  <a:pt x="14469" y="11003"/>
                  <a:pt x="14397" y="10947"/>
                  <a:pt x="14362" y="10939"/>
                </a:cubicBezTo>
                <a:cubicBezTo>
                  <a:pt x="14309" y="10927"/>
                  <a:pt x="14251" y="10979"/>
                  <a:pt x="14213" y="11013"/>
                </a:cubicBezTo>
                <a:cubicBezTo>
                  <a:pt x="14151" y="11069"/>
                  <a:pt x="14098" y="11187"/>
                  <a:pt x="14064" y="11261"/>
                </a:cubicBezTo>
                <a:cubicBezTo>
                  <a:pt x="14031" y="11332"/>
                  <a:pt x="14003" y="11482"/>
                  <a:pt x="14015" y="11559"/>
                </a:cubicBezTo>
                <a:cubicBezTo>
                  <a:pt x="14031" y="11659"/>
                  <a:pt x="14058" y="11743"/>
                  <a:pt x="14114" y="11832"/>
                </a:cubicBezTo>
                <a:cubicBezTo>
                  <a:pt x="14174" y="11928"/>
                  <a:pt x="14213" y="11993"/>
                  <a:pt x="14312" y="12055"/>
                </a:cubicBezTo>
                <a:cubicBezTo>
                  <a:pt x="14424" y="12125"/>
                  <a:pt x="14471" y="12129"/>
                  <a:pt x="14610" y="12129"/>
                </a:cubicBezTo>
                <a:cubicBezTo>
                  <a:pt x="14635" y="12129"/>
                  <a:pt x="14659" y="12129"/>
                  <a:pt x="14684" y="12129"/>
                </a:cubicBezTo>
              </a:path>
              <a:path w="1439" h="2828">
                <a:moveTo>
                  <a:pt x="15106" y="11658"/>
                </a:moveTo>
                <a:cubicBezTo>
                  <a:pt x="15181" y="11663"/>
                  <a:pt x="15232" y="11671"/>
                  <a:pt x="15304" y="11683"/>
                </a:cubicBezTo>
              </a:path>
              <a:path w="1439" h="2828">
                <a:moveTo>
                  <a:pt x="15180" y="11807"/>
                </a:moveTo>
                <a:cubicBezTo>
                  <a:pt x="15262" y="11821"/>
                  <a:pt x="15273" y="11821"/>
                  <a:pt x="15354" y="118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Ink 20"/>
          <p:cNvSpPr/>
          <p:nvPr/>
        </p:nvSpPr>
        <p:spPr>
          <a:xfrm>
            <a:off x="6973920" y="3456000"/>
            <a:ext cx="992160" cy="428760"/>
          </a:xfrm>
          <a:custGeom>
            <a:avLst/>
            <a:gdLst/>
            <a:ahLst/>
            <a:rect l="l" t="t" r="r" b="b"/>
            <a:pathLst>
              <a:path w="2755" h="1192">
                <a:moveTo>
                  <a:pt x="19372" y="9599"/>
                </a:moveTo>
                <a:cubicBezTo>
                  <a:pt x="19372" y="9763"/>
                  <a:pt x="19383" y="9910"/>
                  <a:pt x="19397" y="10071"/>
                </a:cubicBezTo>
                <a:cubicBezTo>
                  <a:pt x="19412" y="10237"/>
                  <a:pt x="19402" y="10407"/>
                  <a:pt x="19422" y="10567"/>
                </a:cubicBezTo>
                <a:cubicBezTo>
                  <a:pt x="19422" y="10592"/>
                  <a:pt x="19422" y="10616"/>
                  <a:pt x="19422" y="10641"/>
                </a:cubicBezTo>
                <a:cubicBezTo>
                  <a:pt x="19422" y="10560"/>
                  <a:pt x="19444" y="10514"/>
                  <a:pt x="19447" y="10443"/>
                </a:cubicBezTo>
                <a:cubicBezTo>
                  <a:pt x="19450" y="10380"/>
                  <a:pt x="19479" y="10231"/>
                  <a:pt x="19546" y="10195"/>
                </a:cubicBezTo>
                <a:cubicBezTo>
                  <a:pt x="19621" y="10155"/>
                  <a:pt x="19694" y="10205"/>
                  <a:pt x="19720" y="10269"/>
                </a:cubicBezTo>
                <a:cubicBezTo>
                  <a:pt x="19755" y="10353"/>
                  <a:pt x="19811" y="10401"/>
                  <a:pt x="19769" y="10492"/>
                </a:cubicBezTo>
                <a:cubicBezTo>
                  <a:pt x="19738" y="10559"/>
                  <a:pt x="19686" y="10633"/>
                  <a:pt x="19621" y="10641"/>
                </a:cubicBezTo>
                <a:cubicBezTo>
                  <a:pt x="19489" y="10656"/>
                  <a:pt x="19546" y="10683"/>
                  <a:pt x="19422" y="10641"/>
                </a:cubicBezTo>
                <a:cubicBezTo>
                  <a:pt x="19370" y="10641"/>
                  <a:pt x="19354" y="10640"/>
                  <a:pt x="19397" y="10592"/>
                </a:cubicBezTo>
              </a:path>
              <a:path w="2755" h="1192">
                <a:moveTo>
                  <a:pt x="20067" y="10195"/>
                </a:moveTo>
                <a:cubicBezTo>
                  <a:pt x="20141" y="10195"/>
                  <a:pt x="20216" y="10195"/>
                  <a:pt x="20290" y="10195"/>
                </a:cubicBezTo>
              </a:path>
              <a:path w="2755" h="1192">
                <a:moveTo>
                  <a:pt x="20092" y="10344"/>
                </a:moveTo>
                <a:cubicBezTo>
                  <a:pt x="20248" y="10344"/>
                  <a:pt x="20295" y="10346"/>
                  <a:pt x="20439" y="10269"/>
                </a:cubicBezTo>
              </a:path>
              <a:path w="2755" h="1192">
                <a:moveTo>
                  <a:pt x="20762" y="9897"/>
                </a:moveTo>
                <a:cubicBezTo>
                  <a:pt x="20762" y="10080"/>
                  <a:pt x="20755" y="10275"/>
                  <a:pt x="20786" y="10443"/>
                </a:cubicBezTo>
                <a:cubicBezTo>
                  <a:pt x="20799" y="10512"/>
                  <a:pt x="20793" y="10571"/>
                  <a:pt x="20811" y="10641"/>
                </a:cubicBezTo>
              </a:path>
              <a:path w="2755" h="1192">
                <a:moveTo>
                  <a:pt x="21034" y="10046"/>
                </a:moveTo>
                <a:cubicBezTo>
                  <a:pt x="21163" y="9968"/>
                  <a:pt x="21174" y="9931"/>
                  <a:pt x="21258" y="10046"/>
                </a:cubicBezTo>
                <a:cubicBezTo>
                  <a:pt x="21312" y="10120"/>
                  <a:pt x="21329" y="10176"/>
                  <a:pt x="21332" y="10269"/>
                </a:cubicBezTo>
                <a:cubicBezTo>
                  <a:pt x="21337" y="10392"/>
                  <a:pt x="21293" y="10493"/>
                  <a:pt x="21233" y="10592"/>
                </a:cubicBezTo>
                <a:cubicBezTo>
                  <a:pt x="21197" y="10651"/>
                  <a:pt x="21192" y="10641"/>
                  <a:pt x="21134" y="10691"/>
                </a:cubicBezTo>
                <a:cubicBezTo>
                  <a:pt x="21096" y="10645"/>
                  <a:pt x="21034" y="10641"/>
                  <a:pt x="21059" y="10567"/>
                </a:cubicBezTo>
                <a:cubicBezTo>
                  <a:pt x="21103" y="10435"/>
                  <a:pt x="21158" y="10530"/>
                  <a:pt x="21233" y="10567"/>
                </a:cubicBezTo>
                <a:cubicBezTo>
                  <a:pt x="21282" y="10591"/>
                  <a:pt x="21299" y="10643"/>
                  <a:pt x="21307" y="10691"/>
                </a:cubicBezTo>
              </a:path>
              <a:path w="2755" h="1192">
                <a:moveTo>
                  <a:pt x="21605" y="10641"/>
                </a:moveTo>
                <a:cubicBezTo>
                  <a:pt x="21642" y="10623"/>
                  <a:pt x="21645" y="10613"/>
                  <a:pt x="21654" y="10567"/>
                </a:cubicBezTo>
              </a:path>
              <a:path w="2755" h="1192">
                <a:moveTo>
                  <a:pt x="21977" y="9971"/>
                </a:moveTo>
                <a:cubicBezTo>
                  <a:pt x="21861" y="9938"/>
                  <a:pt x="21809" y="9913"/>
                  <a:pt x="21803" y="10046"/>
                </a:cubicBezTo>
                <a:cubicBezTo>
                  <a:pt x="21800" y="10126"/>
                  <a:pt x="21850" y="10192"/>
                  <a:pt x="21903" y="10269"/>
                </a:cubicBezTo>
                <a:cubicBezTo>
                  <a:pt x="21973" y="10371"/>
                  <a:pt x="21995" y="10463"/>
                  <a:pt x="22051" y="10567"/>
                </a:cubicBezTo>
                <a:cubicBezTo>
                  <a:pt x="22102" y="10662"/>
                  <a:pt x="22123" y="10666"/>
                  <a:pt x="22101" y="10765"/>
                </a:cubicBezTo>
                <a:cubicBezTo>
                  <a:pt x="22042" y="10789"/>
                  <a:pt x="22026" y="10764"/>
                  <a:pt x="21977" y="10716"/>
                </a:cubicBezTo>
                <a:cubicBezTo>
                  <a:pt x="21920" y="10660"/>
                  <a:pt x="21892" y="10572"/>
                  <a:pt x="21903" y="10492"/>
                </a:cubicBezTo>
                <a:cubicBezTo>
                  <a:pt x="21916" y="10399"/>
                  <a:pt x="21933" y="10344"/>
                  <a:pt x="21952" y="10269"/>
                </a:cubicBezTo>
                <a:cubicBezTo>
                  <a:pt x="21973" y="10185"/>
                  <a:pt x="21999" y="10129"/>
                  <a:pt x="22002" y="10046"/>
                </a:cubicBezTo>
                <a:cubicBezTo>
                  <a:pt x="22002" y="10021"/>
                  <a:pt x="22002" y="9996"/>
                  <a:pt x="22002" y="99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Ink 21"/>
          <p:cNvSpPr/>
          <p:nvPr/>
        </p:nvSpPr>
        <p:spPr>
          <a:xfrm>
            <a:off x="401760" y="3983040"/>
            <a:ext cx="1125360" cy="347760"/>
          </a:xfrm>
          <a:custGeom>
            <a:avLst/>
            <a:gdLst/>
            <a:ahLst/>
            <a:rect l="l" t="t" r="r" b="b"/>
            <a:pathLst>
              <a:path w="3127" h="968">
                <a:moveTo>
                  <a:pt x="1141" y="11137"/>
                </a:moveTo>
                <a:cubicBezTo>
                  <a:pt x="1121" y="11217"/>
                  <a:pt x="1096" y="11325"/>
                  <a:pt x="1116" y="11410"/>
                </a:cubicBezTo>
                <a:cubicBezTo>
                  <a:pt x="1136" y="11495"/>
                  <a:pt x="1141" y="11565"/>
                  <a:pt x="1141" y="11658"/>
                </a:cubicBezTo>
                <a:cubicBezTo>
                  <a:pt x="1141" y="11728"/>
                  <a:pt x="1116" y="11784"/>
                  <a:pt x="1116" y="11857"/>
                </a:cubicBezTo>
                <a:cubicBezTo>
                  <a:pt x="1116" y="11908"/>
                  <a:pt x="1117" y="11923"/>
                  <a:pt x="1141" y="11857"/>
                </a:cubicBezTo>
              </a:path>
              <a:path w="3127" h="968">
                <a:moveTo>
                  <a:pt x="1339" y="11162"/>
                </a:moveTo>
                <a:cubicBezTo>
                  <a:pt x="1348" y="11264"/>
                  <a:pt x="1343" y="11289"/>
                  <a:pt x="1339" y="11385"/>
                </a:cubicBezTo>
                <a:cubicBezTo>
                  <a:pt x="1334" y="11513"/>
                  <a:pt x="1301" y="11751"/>
                  <a:pt x="1364" y="11857"/>
                </a:cubicBezTo>
              </a:path>
              <a:path w="3127" h="968">
                <a:moveTo>
                  <a:pt x="1538" y="11807"/>
                </a:moveTo>
                <a:cubicBezTo>
                  <a:pt x="1561" y="11830"/>
                  <a:pt x="1569" y="11841"/>
                  <a:pt x="1563" y="11807"/>
                </a:cubicBezTo>
              </a:path>
              <a:path w="3127" h="968">
                <a:moveTo>
                  <a:pt x="1761" y="11286"/>
                </a:moveTo>
                <a:cubicBezTo>
                  <a:pt x="1733" y="11342"/>
                  <a:pt x="1672" y="11419"/>
                  <a:pt x="1687" y="11485"/>
                </a:cubicBezTo>
                <a:cubicBezTo>
                  <a:pt x="1717" y="11620"/>
                  <a:pt x="1804" y="11596"/>
                  <a:pt x="1910" y="11584"/>
                </a:cubicBezTo>
                <a:cubicBezTo>
                  <a:pt x="1918" y="11584"/>
                  <a:pt x="1927" y="11584"/>
                  <a:pt x="1935" y="11584"/>
                </a:cubicBezTo>
              </a:path>
              <a:path w="3127" h="968">
                <a:moveTo>
                  <a:pt x="1984" y="11112"/>
                </a:moveTo>
                <a:cubicBezTo>
                  <a:pt x="1969" y="11262"/>
                  <a:pt x="1951" y="11413"/>
                  <a:pt x="1935" y="11559"/>
                </a:cubicBezTo>
                <a:cubicBezTo>
                  <a:pt x="1924" y="11654"/>
                  <a:pt x="1954" y="12017"/>
                  <a:pt x="1960" y="12005"/>
                </a:cubicBezTo>
                <a:cubicBezTo>
                  <a:pt x="1960" y="11997"/>
                  <a:pt x="1960" y="11989"/>
                  <a:pt x="1960" y="11981"/>
                </a:cubicBezTo>
              </a:path>
              <a:path w="3127" h="968">
                <a:moveTo>
                  <a:pt x="2555" y="11534"/>
                </a:moveTo>
                <a:cubicBezTo>
                  <a:pt x="2524" y="11481"/>
                  <a:pt x="2484" y="11411"/>
                  <a:pt x="2406" y="11435"/>
                </a:cubicBezTo>
                <a:cubicBezTo>
                  <a:pt x="2330" y="11459"/>
                  <a:pt x="2326" y="11501"/>
                  <a:pt x="2356" y="11559"/>
                </a:cubicBezTo>
                <a:cubicBezTo>
                  <a:pt x="2379" y="11603"/>
                  <a:pt x="2412" y="11654"/>
                  <a:pt x="2456" y="11683"/>
                </a:cubicBezTo>
                <a:cubicBezTo>
                  <a:pt x="2521" y="11725"/>
                  <a:pt x="2556" y="11774"/>
                  <a:pt x="2604" y="11832"/>
                </a:cubicBezTo>
                <a:cubicBezTo>
                  <a:pt x="2632" y="11860"/>
                  <a:pt x="2641" y="11873"/>
                  <a:pt x="2629" y="11906"/>
                </a:cubicBezTo>
                <a:cubicBezTo>
                  <a:pt x="2551" y="11945"/>
                  <a:pt x="2465" y="11924"/>
                  <a:pt x="2381" y="11881"/>
                </a:cubicBezTo>
                <a:cubicBezTo>
                  <a:pt x="2324" y="11851"/>
                  <a:pt x="2337" y="11813"/>
                  <a:pt x="2332" y="11757"/>
                </a:cubicBezTo>
              </a:path>
              <a:path w="3127" h="968">
                <a:moveTo>
                  <a:pt x="2828" y="11633"/>
                </a:moveTo>
                <a:cubicBezTo>
                  <a:pt x="2828" y="11724"/>
                  <a:pt x="2828" y="11815"/>
                  <a:pt x="2828" y="11906"/>
                </a:cubicBezTo>
              </a:path>
              <a:path w="3127" h="968">
                <a:moveTo>
                  <a:pt x="2778" y="11261"/>
                </a:moveTo>
                <a:cubicBezTo>
                  <a:pt x="2803" y="11237"/>
                  <a:pt x="2812" y="11229"/>
                  <a:pt x="2828" y="11212"/>
                </a:cubicBezTo>
              </a:path>
              <a:path w="3127" h="968">
                <a:moveTo>
                  <a:pt x="3026" y="11832"/>
                </a:moveTo>
                <a:cubicBezTo>
                  <a:pt x="3034" y="11857"/>
                  <a:pt x="3043" y="11881"/>
                  <a:pt x="3051" y="11906"/>
                </a:cubicBezTo>
                <a:cubicBezTo>
                  <a:pt x="3059" y="11841"/>
                  <a:pt x="3076" y="11742"/>
                  <a:pt x="3101" y="11683"/>
                </a:cubicBezTo>
                <a:cubicBezTo>
                  <a:pt x="3112" y="11656"/>
                  <a:pt x="3167" y="11569"/>
                  <a:pt x="3200" y="11559"/>
                </a:cubicBezTo>
                <a:cubicBezTo>
                  <a:pt x="3248" y="11545"/>
                  <a:pt x="3299" y="11595"/>
                  <a:pt x="3324" y="11633"/>
                </a:cubicBezTo>
                <a:cubicBezTo>
                  <a:pt x="3362" y="11692"/>
                  <a:pt x="3394" y="11736"/>
                  <a:pt x="3398" y="11807"/>
                </a:cubicBezTo>
                <a:cubicBezTo>
                  <a:pt x="3402" y="11880"/>
                  <a:pt x="3365" y="11975"/>
                  <a:pt x="3423" y="11956"/>
                </a:cubicBezTo>
              </a:path>
              <a:path w="3127" h="968">
                <a:moveTo>
                  <a:pt x="3572" y="11410"/>
                </a:moveTo>
                <a:cubicBezTo>
                  <a:pt x="3548" y="11499"/>
                  <a:pt x="3547" y="11565"/>
                  <a:pt x="3547" y="11658"/>
                </a:cubicBezTo>
                <a:cubicBezTo>
                  <a:pt x="3547" y="11742"/>
                  <a:pt x="3572" y="11990"/>
                  <a:pt x="3572" y="11906"/>
                </a:cubicBezTo>
                <a:cubicBezTo>
                  <a:pt x="3572" y="11825"/>
                  <a:pt x="3547" y="11769"/>
                  <a:pt x="3547" y="11683"/>
                </a:cubicBezTo>
                <a:cubicBezTo>
                  <a:pt x="3547" y="11580"/>
                  <a:pt x="3558" y="11508"/>
                  <a:pt x="3572" y="11410"/>
                </a:cubicBezTo>
                <a:cubicBezTo>
                  <a:pt x="3582" y="11343"/>
                  <a:pt x="3586" y="11276"/>
                  <a:pt x="3597" y="11212"/>
                </a:cubicBezTo>
                <a:cubicBezTo>
                  <a:pt x="3611" y="11131"/>
                  <a:pt x="3628" y="11086"/>
                  <a:pt x="3721" y="11063"/>
                </a:cubicBezTo>
                <a:cubicBezTo>
                  <a:pt x="3737" y="11063"/>
                  <a:pt x="3754" y="11063"/>
                  <a:pt x="3770" y="11063"/>
                </a:cubicBezTo>
                <a:cubicBezTo>
                  <a:pt x="3813" y="11116"/>
                  <a:pt x="3836" y="11166"/>
                  <a:pt x="3820" y="11237"/>
                </a:cubicBezTo>
                <a:cubicBezTo>
                  <a:pt x="3802" y="11320"/>
                  <a:pt x="3753" y="11353"/>
                  <a:pt x="3696" y="11410"/>
                </a:cubicBezTo>
                <a:cubicBezTo>
                  <a:pt x="3666" y="11440"/>
                  <a:pt x="3630" y="11458"/>
                  <a:pt x="3597" y="11485"/>
                </a:cubicBezTo>
                <a:cubicBezTo>
                  <a:pt x="3636" y="11461"/>
                  <a:pt x="3718" y="11440"/>
                  <a:pt x="3770" y="11460"/>
                </a:cubicBezTo>
                <a:cubicBezTo>
                  <a:pt x="3807" y="11475"/>
                  <a:pt x="3848" y="11602"/>
                  <a:pt x="3845" y="11633"/>
                </a:cubicBezTo>
                <a:cubicBezTo>
                  <a:pt x="3839" y="11702"/>
                  <a:pt x="3810" y="11798"/>
                  <a:pt x="3770" y="11857"/>
                </a:cubicBezTo>
                <a:cubicBezTo>
                  <a:pt x="3746" y="11892"/>
                  <a:pt x="3661" y="11904"/>
                  <a:pt x="3621" y="11906"/>
                </a:cubicBezTo>
                <a:cubicBezTo>
                  <a:pt x="3570" y="11906"/>
                  <a:pt x="3555" y="11904"/>
                  <a:pt x="3597" y="11857"/>
                </a:cubicBezTo>
              </a:path>
              <a:path w="3127" h="968">
                <a:moveTo>
                  <a:pt x="3994" y="11584"/>
                </a:moveTo>
                <a:cubicBezTo>
                  <a:pt x="4052" y="11584"/>
                  <a:pt x="4109" y="11584"/>
                  <a:pt x="4167" y="11584"/>
                </a:cubicBezTo>
              </a:path>
              <a:path w="3127" h="968">
                <a:moveTo>
                  <a:pt x="3994" y="11708"/>
                </a:moveTo>
                <a:cubicBezTo>
                  <a:pt x="4086" y="11734"/>
                  <a:pt x="4148" y="11757"/>
                  <a:pt x="4242" y="11757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Ink 22"/>
          <p:cNvSpPr/>
          <p:nvPr/>
        </p:nvSpPr>
        <p:spPr>
          <a:xfrm>
            <a:off x="1697040" y="4044960"/>
            <a:ext cx="1160640" cy="304920"/>
          </a:xfrm>
          <a:custGeom>
            <a:avLst/>
            <a:gdLst/>
            <a:ahLst/>
            <a:rect l="l" t="t" r="r" b="b"/>
            <a:pathLst>
              <a:path w="3226" h="844">
                <a:moveTo>
                  <a:pt x="4713" y="11286"/>
                </a:moveTo>
                <a:cubicBezTo>
                  <a:pt x="4713" y="11414"/>
                  <a:pt x="4750" y="11594"/>
                  <a:pt x="4738" y="11708"/>
                </a:cubicBezTo>
                <a:cubicBezTo>
                  <a:pt x="4730" y="11787"/>
                  <a:pt x="4738" y="11866"/>
                  <a:pt x="4738" y="11956"/>
                </a:cubicBezTo>
              </a:path>
              <a:path w="3226" h="844">
                <a:moveTo>
                  <a:pt x="4837" y="11361"/>
                </a:moveTo>
                <a:cubicBezTo>
                  <a:pt x="4891" y="11306"/>
                  <a:pt x="4926" y="11262"/>
                  <a:pt x="5011" y="11286"/>
                </a:cubicBezTo>
                <a:cubicBezTo>
                  <a:pt x="5099" y="11311"/>
                  <a:pt x="5088" y="11395"/>
                  <a:pt x="5110" y="11460"/>
                </a:cubicBezTo>
                <a:cubicBezTo>
                  <a:pt x="5141" y="11552"/>
                  <a:pt x="5125" y="11620"/>
                  <a:pt x="5110" y="11708"/>
                </a:cubicBezTo>
                <a:cubicBezTo>
                  <a:pt x="5092" y="11813"/>
                  <a:pt x="5088" y="11793"/>
                  <a:pt x="5011" y="11832"/>
                </a:cubicBezTo>
                <a:cubicBezTo>
                  <a:pt x="4983" y="11860"/>
                  <a:pt x="4969" y="11869"/>
                  <a:pt x="4936" y="11857"/>
                </a:cubicBezTo>
                <a:cubicBezTo>
                  <a:pt x="4913" y="11819"/>
                  <a:pt x="4892" y="11752"/>
                  <a:pt x="4961" y="11733"/>
                </a:cubicBezTo>
                <a:cubicBezTo>
                  <a:pt x="5018" y="11717"/>
                  <a:pt x="5078" y="11732"/>
                  <a:pt x="5110" y="11782"/>
                </a:cubicBezTo>
                <a:cubicBezTo>
                  <a:pt x="5137" y="11824"/>
                  <a:pt x="5149" y="11846"/>
                  <a:pt x="5184" y="11881"/>
                </a:cubicBezTo>
              </a:path>
              <a:path w="3226" h="844">
                <a:moveTo>
                  <a:pt x="5333" y="11832"/>
                </a:moveTo>
                <a:cubicBezTo>
                  <a:pt x="5374" y="11873"/>
                  <a:pt x="5384" y="11819"/>
                  <a:pt x="5432" y="11807"/>
                </a:cubicBezTo>
              </a:path>
              <a:path w="3226" h="844">
                <a:moveTo>
                  <a:pt x="5755" y="11361"/>
                </a:moveTo>
                <a:cubicBezTo>
                  <a:pt x="5692" y="11298"/>
                  <a:pt x="5653" y="11234"/>
                  <a:pt x="5556" y="11261"/>
                </a:cubicBezTo>
                <a:cubicBezTo>
                  <a:pt x="5471" y="11285"/>
                  <a:pt x="5505" y="11376"/>
                  <a:pt x="5531" y="11435"/>
                </a:cubicBezTo>
                <a:cubicBezTo>
                  <a:pt x="5567" y="11517"/>
                  <a:pt x="5636" y="11577"/>
                  <a:pt x="5680" y="11658"/>
                </a:cubicBezTo>
                <a:cubicBezTo>
                  <a:pt x="5713" y="11720"/>
                  <a:pt x="5787" y="11819"/>
                  <a:pt x="5804" y="11881"/>
                </a:cubicBezTo>
                <a:cubicBezTo>
                  <a:pt x="5804" y="11931"/>
                  <a:pt x="5804" y="11948"/>
                  <a:pt x="5804" y="11981"/>
                </a:cubicBezTo>
                <a:cubicBezTo>
                  <a:pt x="5732" y="11972"/>
                  <a:pt x="5706" y="11957"/>
                  <a:pt x="5655" y="11906"/>
                </a:cubicBezTo>
                <a:cubicBezTo>
                  <a:pt x="5603" y="11854"/>
                  <a:pt x="5533" y="11765"/>
                  <a:pt x="5556" y="11683"/>
                </a:cubicBezTo>
                <a:cubicBezTo>
                  <a:pt x="5569" y="11638"/>
                  <a:pt x="5599" y="11577"/>
                  <a:pt x="5631" y="11534"/>
                </a:cubicBezTo>
                <a:cubicBezTo>
                  <a:pt x="5655" y="11501"/>
                  <a:pt x="5719" y="11423"/>
                  <a:pt x="5730" y="11385"/>
                </a:cubicBezTo>
                <a:cubicBezTo>
                  <a:pt x="5730" y="11323"/>
                  <a:pt x="5741" y="11299"/>
                  <a:pt x="5804" y="11286"/>
                </a:cubicBezTo>
              </a:path>
              <a:path w="3226" h="844">
                <a:moveTo>
                  <a:pt x="6176" y="11534"/>
                </a:moveTo>
                <a:cubicBezTo>
                  <a:pt x="6220" y="11599"/>
                  <a:pt x="6231" y="11614"/>
                  <a:pt x="6251" y="11658"/>
                </a:cubicBezTo>
                <a:cubicBezTo>
                  <a:pt x="6251" y="11594"/>
                  <a:pt x="6261" y="11547"/>
                  <a:pt x="6201" y="11509"/>
                </a:cubicBezTo>
                <a:cubicBezTo>
                  <a:pt x="6153" y="11479"/>
                  <a:pt x="6103" y="11467"/>
                  <a:pt x="6052" y="11460"/>
                </a:cubicBezTo>
                <a:cubicBezTo>
                  <a:pt x="6015" y="11524"/>
                  <a:pt x="6026" y="11572"/>
                  <a:pt x="6077" y="11633"/>
                </a:cubicBezTo>
                <a:cubicBezTo>
                  <a:pt x="6119" y="11684"/>
                  <a:pt x="6190" y="11707"/>
                  <a:pt x="6226" y="11757"/>
                </a:cubicBezTo>
                <a:cubicBezTo>
                  <a:pt x="6273" y="11822"/>
                  <a:pt x="6291" y="11872"/>
                  <a:pt x="6350" y="11931"/>
                </a:cubicBezTo>
                <a:cubicBezTo>
                  <a:pt x="6375" y="11956"/>
                  <a:pt x="6406" y="12064"/>
                  <a:pt x="6350" y="12080"/>
                </a:cubicBezTo>
                <a:cubicBezTo>
                  <a:pt x="6272" y="12102"/>
                  <a:pt x="6247" y="12051"/>
                  <a:pt x="6201" y="12005"/>
                </a:cubicBezTo>
                <a:cubicBezTo>
                  <a:pt x="6135" y="11939"/>
                  <a:pt x="6096" y="11918"/>
                  <a:pt x="6052" y="11832"/>
                </a:cubicBezTo>
              </a:path>
              <a:path w="3226" h="844">
                <a:moveTo>
                  <a:pt x="6449" y="11559"/>
                </a:moveTo>
                <a:cubicBezTo>
                  <a:pt x="6473" y="11652"/>
                  <a:pt x="6470" y="11740"/>
                  <a:pt x="6499" y="11832"/>
                </a:cubicBezTo>
                <a:cubicBezTo>
                  <a:pt x="6507" y="11857"/>
                  <a:pt x="6516" y="11881"/>
                  <a:pt x="6524" y="11906"/>
                </a:cubicBezTo>
              </a:path>
              <a:path w="3226" h="844">
                <a:moveTo>
                  <a:pt x="6474" y="11336"/>
                </a:moveTo>
                <a:cubicBezTo>
                  <a:pt x="6474" y="11291"/>
                  <a:pt x="6471" y="11278"/>
                  <a:pt x="6499" y="11261"/>
                </a:cubicBezTo>
              </a:path>
              <a:path w="3226" h="844">
                <a:moveTo>
                  <a:pt x="6672" y="11708"/>
                </a:moveTo>
                <a:cubicBezTo>
                  <a:pt x="6687" y="11776"/>
                  <a:pt x="6690" y="11829"/>
                  <a:pt x="6722" y="11881"/>
                </a:cubicBezTo>
                <a:cubicBezTo>
                  <a:pt x="6729" y="11790"/>
                  <a:pt x="6745" y="11694"/>
                  <a:pt x="6772" y="11609"/>
                </a:cubicBezTo>
                <a:cubicBezTo>
                  <a:pt x="6793" y="11545"/>
                  <a:pt x="6828" y="11462"/>
                  <a:pt x="6896" y="11509"/>
                </a:cubicBezTo>
                <a:cubicBezTo>
                  <a:pt x="6925" y="11529"/>
                  <a:pt x="6941" y="11650"/>
                  <a:pt x="6945" y="11683"/>
                </a:cubicBezTo>
                <a:cubicBezTo>
                  <a:pt x="6955" y="11767"/>
                  <a:pt x="6981" y="11835"/>
                  <a:pt x="6995" y="11906"/>
                </a:cubicBezTo>
                <a:cubicBezTo>
                  <a:pt x="7002" y="11939"/>
                  <a:pt x="7015" y="12065"/>
                  <a:pt x="7045" y="12005"/>
                </a:cubicBezTo>
              </a:path>
              <a:path w="3226" h="844">
                <a:moveTo>
                  <a:pt x="7169" y="11336"/>
                </a:moveTo>
                <a:cubicBezTo>
                  <a:pt x="7251" y="11283"/>
                  <a:pt x="7306" y="11268"/>
                  <a:pt x="7392" y="11237"/>
                </a:cubicBezTo>
              </a:path>
              <a:path w="3226" h="844">
                <a:moveTo>
                  <a:pt x="7218" y="11311"/>
                </a:moveTo>
                <a:cubicBezTo>
                  <a:pt x="7179" y="11368"/>
                  <a:pt x="7114" y="11432"/>
                  <a:pt x="7144" y="11509"/>
                </a:cubicBezTo>
                <a:cubicBezTo>
                  <a:pt x="7163" y="11558"/>
                  <a:pt x="7265" y="11523"/>
                  <a:pt x="7293" y="11509"/>
                </a:cubicBezTo>
                <a:cubicBezTo>
                  <a:pt x="7359" y="11477"/>
                  <a:pt x="7339" y="11444"/>
                  <a:pt x="7417" y="11485"/>
                </a:cubicBezTo>
                <a:cubicBezTo>
                  <a:pt x="7492" y="11525"/>
                  <a:pt x="7514" y="11597"/>
                  <a:pt x="7491" y="11683"/>
                </a:cubicBezTo>
                <a:cubicBezTo>
                  <a:pt x="7480" y="11724"/>
                  <a:pt x="7440" y="11802"/>
                  <a:pt x="7417" y="11832"/>
                </a:cubicBezTo>
                <a:cubicBezTo>
                  <a:pt x="7399" y="11855"/>
                  <a:pt x="7268" y="11886"/>
                  <a:pt x="7268" y="11832"/>
                </a:cubicBezTo>
                <a:cubicBezTo>
                  <a:pt x="7276" y="11815"/>
                  <a:pt x="7285" y="11799"/>
                  <a:pt x="7293" y="11782"/>
                </a:cubicBezTo>
              </a:path>
              <a:path w="3226" h="844">
                <a:moveTo>
                  <a:pt x="7838" y="11361"/>
                </a:moveTo>
                <a:cubicBezTo>
                  <a:pt x="7815" y="11347"/>
                  <a:pt x="7711" y="11315"/>
                  <a:pt x="7714" y="11385"/>
                </a:cubicBezTo>
                <a:cubicBezTo>
                  <a:pt x="7718" y="11471"/>
                  <a:pt x="7739" y="11585"/>
                  <a:pt x="7789" y="11658"/>
                </a:cubicBezTo>
                <a:cubicBezTo>
                  <a:pt x="7823" y="11707"/>
                  <a:pt x="7874" y="11771"/>
                  <a:pt x="7888" y="11832"/>
                </a:cubicBezTo>
                <a:cubicBezTo>
                  <a:pt x="7898" y="11876"/>
                  <a:pt x="7888" y="11936"/>
                  <a:pt x="7888" y="11981"/>
                </a:cubicBezTo>
                <a:cubicBezTo>
                  <a:pt x="7809" y="11971"/>
                  <a:pt x="7772" y="11960"/>
                  <a:pt x="7739" y="11881"/>
                </a:cubicBezTo>
                <a:cubicBezTo>
                  <a:pt x="7701" y="11790"/>
                  <a:pt x="7724" y="11759"/>
                  <a:pt x="7739" y="11683"/>
                </a:cubicBezTo>
                <a:cubicBezTo>
                  <a:pt x="7754" y="11609"/>
                  <a:pt x="7765" y="11598"/>
                  <a:pt x="7838" y="11559"/>
                </a:cubicBezTo>
                <a:cubicBezTo>
                  <a:pt x="7892" y="11532"/>
                  <a:pt x="7912" y="11520"/>
                  <a:pt x="7938" y="11485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Ink 23"/>
          <p:cNvSpPr/>
          <p:nvPr/>
        </p:nvSpPr>
        <p:spPr>
          <a:xfrm>
            <a:off x="3125880" y="4017960"/>
            <a:ext cx="1741320" cy="304920"/>
          </a:xfrm>
          <a:custGeom>
            <a:avLst/>
            <a:gdLst/>
            <a:ahLst/>
            <a:rect l="l" t="t" r="r" b="b"/>
            <a:pathLst>
              <a:path w="4838" h="844">
                <a:moveTo>
                  <a:pt x="8706" y="11286"/>
                </a:moveTo>
                <a:cubicBezTo>
                  <a:pt x="8683" y="11375"/>
                  <a:pt x="8682" y="11442"/>
                  <a:pt x="8682" y="11534"/>
                </a:cubicBezTo>
                <a:cubicBezTo>
                  <a:pt x="8682" y="11675"/>
                  <a:pt x="8682" y="11815"/>
                  <a:pt x="8682" y="11956"/>
                </a:cubicBezTo>
              </a:path>
              <a:path w="4838" h="844">
                <a:moveTo>
                  <a:pt x="8954" y="11311"/>
                </a:moveTo>
                <a:cubicBezTo>
                  <a:pt x="8968" y="11454"/>
                  <a:pt x="8954" y="11564"/>
                  <a:pt x="8954" y="11708"/>
                </a:cubicBezTo>
                <a:cubicBezTo>
                  <a:pt x="8954" y="11775"/>
                  <a:pt x="8936" y="11878"/>
                  <a:pt x="8979" y="11906"/>
                </a:cubicBezTo>
              </a:path>
              <a:path w="4838" h="844">
                <a:moveTo>
                  <a:pt x="9103" y="11832"/>
                </a:moveTo>
                <a:cubicBezTo>
                  <a:pt x="9111" y="11815"/>
                  <a:pt x="9120" y="11799"/>
                  <a:pt x="9128" y="11782"/>
                </a:cubicBezTo>
              </a:path>
              <a:path w="4838" h="844">
                <a:moveTo>
                  <a:pt x="9277" y="11336"/>
                </a:moveTo>
                <a:cubicBezTo>
                  <a:pt x="9249" y="11383"/>
                  <a:pt x="9231" y="11475"/>
                  <a:pt x="9252" y="11534"/>
                </a:cubicBezTo>
                <a:cubicBezTo>
                  <a:pt x="9280" y="11613"/>
                  <a:pt x="9378" y="11577"/>
                  <a:pt x="9426" y="11559"/>
                </a:cubicBezTo>
              </a:path>
              <a:path w="4838" h="844">
                <a:moveTo>
                  <a:pt x="9451" y="11162"/>
                </a:moveTo>
                <a:cubicBezTo>
                  <a:pt x="9431" y="11264"/>
                  <a:pt x="9405" y="11359"/>
                  <a:pt x="9401" y="11460"/>
                </a:cubicBezTo>
                <a:cubicBezTo>
                  <a:pt x="9399" y="11514"/>
                  <a:pt x="9365" y="11884"/>
                  <a:pt x="9426" y="11906"/>
                </a:cubicBezTo>
                <a:cubicBezTo>
                  <a:pt x="9434" y="11898"/>
                  <a:pt x="9443" y="11889"/>
                  <a:pt x="9451" y="11881"/>
                </a:cubicBezTo>
              </a:path>
              <a:path w="4838" h="844">
                <a:moveTo>
                  <a:pt x="9773" y="11460"/>
                </a:moveTo>
                <a:cubicBezTo>
                  <a:pt x="9692" y="11460"/>
                  <a:pt x="9635" y="11443"/>
                  <a:pt x="9624" y="11534"/>
                </a:cubicBezTo>
                <a:cubicBezTo>
                  <a:pt x="9615" y="11609"/>
                  <a:pt x="9665" y="11604"/>
                  <a:pt x="9699" y="11658"/>
                </a:cubicBezTo>
                <a:cubicBezTo>
                  <a:pt x="9726" y="11701"/>
                  <a:pt x="9741" y="11742"/>
                  <a:pt x="9773" y="11782"/>
                </a:cubicBezTo>
                <a:cubicBezTo>
                  <a:pt x="9739" y="11816"/>
                  <a:pt x="9706" y="11876"/>
                  <a:pt x="9649" y="11857"/>
                </a:cubicBezTo>
                <a:cubicBezTo>
                  <a:pt x="9574" y="11832"/>
                  <a:pt x="9536" y="11807"/>
                  <a:pt x="9525" y="11733"/>
                </a:cubicBezTo>
              </a:path>
              <a:path w="4838" h="844">
                <a:moveTo>
                  <a:pt x="9897" y="11559"/>
                </a:moveTo>
                <a:cubicBezTo>
                  <a:pt x="9878" y="11649"/>
                  <a:pt x="9872" y="11716"/>
                  <a:pt x="9872" y="11807"/>
                </a:cubicBezTo>
                <a:cubicBezTo>
                  <a:pt x="9872" y="11857"/>
                  <a:pt x="9872" y="11874"/>
                  <a:pt x="9872" y="11807"/>
                </a:cubicBezTo>
              </a:path>
              <a:path w="4838" h="844">
                <a:moveTo>
                  <a:pt x="9897" y="11237"/>
                </a:moveTo>
                <a:cubicBezTo>
                  <a:pt x="9942" y="11237"/>
                  <a:pt x="9955" y="11233"/>
                  <a:pt x="9971" y="11261"/>
                </a:cubicBezTo>
              </a:path>
              <a:path w="4838" h="844">
                <a:moveTo>
                  <a:pt x="9996" y="11708"/>
                </a:moveTo>
                <a:cubicBezTo>
                  <a:pt x="9996" y="11774"/>
                  <a:pt x="9996" y="11791"/>
                  <a:pt x="9996" y="11832"/>
                </a:cubicBezTo>
                <a:cubicBezTo>
                  <a:pt x="10004" y="11751"/>
                  <a:pt x="10033" y="11690"/>
                  <a:pt x="10046" y="11609"/>
                </a:cubicBezTo>
                <a:cubicBezTo>
                  <a:pt x="10057" y="11543"/>
                  <a:pt x="10071" y="11534"/>
                  <a:pt x="10120" y="11485"/>
                </a:cubicBezTo>
                <a:cubicBezTo>
                  <a:pt x="10198" y="11407"/>
                  <a:pt x="10206" y="11542"/>
                  <a:pt x="10220" y="11584"/>
                </a:cubicBezTo>
                <a:cubicBezTo>
                  <a:pt x="10240" y="11647"/>
                  <a:pt x="10265" y="11694"/>
                  <a:pt x="10269" y="11757"/>
                </a:cubicBezTo>
                <a:cubicBezTo>
                  <a:pt x="10273" y="11821"/>
                  <a:pt x="10288" y="11881"/>
                  <a:pt x="10319" y="11931"/>
                </a:cubicBezTo>
              </a:path>
              <a:path w="4838" h="844">
                <a:moveTo>
                  <a:pt x="10517" y="11237"/>
                </a:moveTo>
                <a:cubicBezTo>
                  <a:pt x="10641" y="11216"/>
                  <a:pt x="10665" y="11208"/>
                  <a:pt x="10740" y="11212"/>
                </a:cubicBezTo>
              </a:path>
              <a:path w="4838" h="844">
                <a:moveTo>
                  <a:pt x="10418" y="11286"/>
                </a:moveTo>
                <a:cubicBezTo>
                  <a:pt x="10396" y="11330"/>
                  <a:pt x="10393" y="11342"/>
                  <a:pt x="10368" y="11361"/>
                </a:cubicBezTo>
                <a:cubicBezTo>
                  <a:pt x="10412" y="11404"/>
                  <a:pt x="10450" y="11429"/>
                  <a:pt x="10517" y="11410"/>
                </a:cubicBezTo>
                <a:cubicBezTo>
                  <a:pt x="10619" y="11381"/>
                  <a:pt x="10579" y="11412"/>
                  <a:pt x="10616" y="11485"/>
                </a:cubicBezTo>
                <a:cubicBezTo>
                  <a:pt x="10641" y="11535"/>
                  <a:pt x="10664" y="11644"/>
                  <a:pt x="10641" y="11708"/>
                </a:cubicBezTo>
                <a:cubicBezTo>
                  <a:pt x="10620" y="11766"/>
                  <a:pt x="10559" y="11822"/>
                  <a:pt x="10492" y="11807"/>
                </a:cubicBezTo>
                <a:cubicBezTo>
                  <a:pt x="10449" y="11797"/>
                  <a:pt x="10422" y="11761"/>
                  <a:pt x="10393" y="11733"/>
                </a:cubicBezTo>
              </a:path>
              <a:path w="4838" h="844">
                <a:moveTo>
                  <a:pt x="10790" y="11485"/>
                </a:moveTo>
                <a:cubicBezTo>
                  <a:pt x="10777" y="11570"/>
                  <a:pt x="10743" y="11714"/>
                  <a:pt x="10765" y="11807"/>
                </a:cubicBezTo>
                <a:cubicBezTo>
                  <a:pt x="10782" y="11878"/>
                  <a:pt x="10844" y="11920"/>
                  <a:pt x="10914" y="11906"/>
                </a:cubicBezTo>
                <a:cubicBezTo>
                  <a:pt x="11022" y="11884"/>
                  <a:pt x="10988" y="11730"/>
                  <a:pt x="10988" y="11658"/>
                </a:cubicBezTo>
                <a:cubicBezTo>
                  <a:pt x="10988" y="11585"/>
                  <a:pt x="10970" y="11543"/>
                  <a:pt x="10939" y="11485"/>
                </a:cubicBezTo>
                <a:cubicBezTo>
                  <a:pt x="10910" y="11430"/>
                  <a:pt x="10862" y="11404"/>
                  <a:pt x="10840" y="11361"/>
                </a:cubicBezTo>
              </a:path>
              <a:path w="4838" h="844">
                <a:moveTo>
                  <a:pt x="11137" y="11559"/>
                </a:moveTo>
                <a:cubicBezTo>
                  <a:pt x="11199" y="11576"/>
                  <a:pt x="11225" y="11584"/>
                  <a:pt x="11286" y="11584"/>
                </a:cubicBezTo>
              </a:path>
              <a:path w="4838" h="844">
                <a:moveTo>
                  <a:pt x="11212" y="11708"/>
                </a:moveTo>
                <a:cubicBezTo>
                  <a:pt x="11305" y="11727"/>
                  <a:pt x="11333" y="11747"/>
                  <a:pt x="11410" y="11708"/>
                </a:cubicBezTo>
              </a:path>
              <a:path w="4838" h="844">
                <a:moveTo>
                  <a:pt x="11782" y="11485"/>
                </a:moveTo>
                <a:cubicBezTo>
                  <a:pt x="11782" y="11501"/>
                  <a:pt x="11782" y="11518"/>
                  <a:pt x="11782" y="11534"/>
                </a:cubicBezTo>
                <a:cubicBezTo>
                  <a:pt x="11796" y="11500"/>
                  <a:pt x="11794" y="11428"/>
                  <a:pt x="11733" y="11410"/>
                </a:cubicBezTo>
                <a:cubicBezTo>
                  <a:pt x="11683" y="11396"/>
                  <a:pt x="11646" y="11412"/>
                  <a:pt x="11609" y="11435"/>
                </a:cubicBezTo>
                <a:cubicBezTo>
                  <a:pt x="11617" y="11505"/>
                  <a:pt x="11634" y="11555"/>
                  <a:pt x="11683" y="11609"/>
                </a:cubicBezTo>
                <a:cubicBezTo>
                  <a:pt x="11718" y="11647"/>
                  <a:pt x="11738" y="11728"/>
                  <a:pt x="11757" y="11782"/>
                </a:cubicBezTo>
                <a:cubicBezTo>
                  <a:pt x="11784" y="11858"/>
                  <a:pt x="11793" y="11871"/>
                  <a:pt x="11757" y="11931"/>
                </a:cubicBezTo>
                <a:cubicBezTo>
                  <a:pt x="11711" y="11924"/>
                  <a:pt x="11636" y="11907"/>
                  <a:pt x="11609" y="11857"/>
                </a:cubicBezTo>
                <a:cubicBezTo>
                  <a:pt x="11609" y="11849"/>
                  <a:pt x="11609" y="11840"/>
                  <a:pt x="11609" y="11832"/>
                </a:cubicBezTo>
              </a:path>
              <a:path w="4838" h="844">
                <a:moveTo>
                  <a:pt x="12030" y="11559"/>
                </a:moveTo>
                <a:cubicBezTo>
                  <a:pt x="12062" y="11645"/>
                  <a:pt x="12035" y="11670"/>
                  <a:pt x="12030" y="11757"/>
                </a:cubicBezTo>
                <a:cubicBezTo>
                  <a:pt x="12030" y="11807"/>
                  <a:pt x="12030" y="11824"/>
                  <a:pt x="12030" y="11857"/>
                </a:cubicBezTo>
              </a:path>
              <a:path w="4838" h="844">
                <a:moveTo>
                  <a:pt x="11956" y="11336"/>
                </a:moveTo>
                <a:cubicBezTo>
                  <a:pt x="11986" y="11306"/>
                  <a:pt x="12000" y="11301"/>
                  <a:pt x="12030" y="11336"/>
                </a:cubicBezTo>
              </a:path>
              <a:path w="4838" h="844">
                <a:moveTo>
                  <a:pt x="12154" y="11757"/>
                </a:moveTo>
                <a:cubicBezTo>
                  <a:pt x="12217" y="11779"/>
                  <a:pt x="12173" y="11676"/>
                  <a:pt x="12204" y="11609"/>
                </a:cubicBezTo>
                <a:cubicBezTo>
                  <a:pt x="12244" y="11549"/>
                  <a:pt x="12248" y="11538"/>
                  <a:pt x="12278" y="11509"/>
                </a:cubicBezTo>
                <a:cubicBezTo>
                  <a:pt x="12329" y="11560"/>
                  <a:pt x="12353" y="11615"/>
                  <a:pt x="12378" y="11683"/>
                </a:cubicBezTo>
                <a:cubicBezTo>
                  <a:pt x="12402" y="11747"/>
                  <a:pt x="12415" y="11802"/>
                  <a:pt x="12452" y="11857"/>
                </a:cubicBezTo>
              </a:path>
              <a:path w="4838" h="844">
                <a:moveTo>
                  <a:pt x="12576" y="11336"/>
                </a:moveTo>
                <a:cubicBezTo>
                  <a:pt x="12667" y="11336"/>
                  <a:pt x="12675" y="11336"/>
                  <a:pt x="12725" y="11336"/>
                </a:cubicBezTo>
              </a:path>
              <a:path w="4838" h="844">
                <a:moveTo>
                  <a:pt x="12576" y="11361"/>
                </a:moveTo>
                <a:cubicBezTo>
                  <a:pt x="12517" y="11409"/>
                  <a:pt x="12502" y="11455"/>
                  <a:pt x="12551" y="11534"/>
                </a:cubicBezTo>
                <a:cubicBezTo>
                  <a:pt x="12581" y="11582"/>
                  <a:pt x="12633" y="11602"/>
                  <a:pt x="12675" y="11633"/>
                </a:cubicBezTo>
                <a:cubicBezTo>
                  <a:pt x="12686" y="11641"/>
                  <a:pt x="12775" y="11746"/>
                  <a:pt x="12774" y="11757"/>
                </a:cubicBezTo>
                <a:cubicBezTo>
                  <a:pt x="12770" y="11816"/>
                  <a:pt x="12715" y="11896"/>
                  <a:pt x="12650" y="11881"/>
                </a:cubicBezTo>
                <a:cubicBezTo>
                  <a:pt x="12557" y="11860"/>
                  <a:pt x="12558" y="11783"/>
                  <a:pt x="12551" y="11708"/>
                </a:cubicBezTo>
              </a:path>
              <a:path w="4838" h="844">
                <a:moveTo>
                  <a:pt x="12923" y="11385"/>
                </a:moveTo>
                <a:cubicBezTo>
                  <a:pt x="12895" y="11358"/>
                  <a:pt x="12881" y="11350"/>
                  <a:pt x="12849" y="11361"/>
                </a:cubicBezTo>
                <a:cubicBezTo>
                  <a:pt x="12823" y="11454"/>
                  <a:pt x="12822" y="11543"/>
                  <a:pt x="12849" y="11633"/>
                </a:cubicBezTo>
                <a:cubicBezTo>
                  <a:pt x="12865" y="11687"/>
                  <a:pt x="12911" y="11776"/>
                  <a:pt x="12898" y="11832"/>
                </a:cubicBezTo>
                <a:cubicBezTo>
                  <a:pt x="12874" y="11881"/>
                  <a:pt x="12866" y="11898"/>
                  <a:pt x="12849" y="11931"/>
                </a:cubicBezTo>
                <a:cubicBezTo>
                  <a:pt x="12789" y="11860"/>
                  <a:pt x="12757" y="11835"/>
                  <a:pt x="12799" y="11757"/>
                </a:cubicBezTo>
                <a:cubicBezTo>
                  <a:pt x="12830" y="11699"/>
                  <a:pt x="12847" y="11603"/>
                  <a:pt x="12898" y="11559"/>
                </a:cubicBezTo>
                <a:cubicBezTo>
                  <a:pt x="12967" y="11499"/>
                  <a:pt x="12982" y="11477"/>
                  <a:pt x="13022" y="11385"/>
                </a:cubicBezTo>
              </a:path>
              <a:path w="4838" h="844">
                <a:moveTo>
                  <a:pt x="13072" y="11708"/>
                </a:moveTo>
                <a:cubicBezTo>
                  <a:pt x="13095" y="11731"/>
                  <a:pt x="13103" y="11742"/>
                  <a:pt x="13097" y="11708"/>
                </a:cubicBezTo>
              </a:path>
              <a:path w="4838" h="844">
                <a:moveTo>
                  <a:pt x="13395" y="11385"/>
                </a:moveTo>
                <a:cubicBezTo>
                  <a:pt x="13422" y="11413"/>
                  <a:pt x="13430" y="11417"/>
                  <a:pt x="13419" y="11361"/>
                </a:cubicBezTo>
                <a:cubicBezTo>
                  <a:pt x="13351" y="11368"/>
                  <a:pt x="13287" y="11371"/>
                  <a:pt x="13246" y="11435"/>
                </a:cubicBezTo>
                <a:cubicBezTo>
                  <a:pt x="13204" y="11500"/>
                  <a:pt x="13177" y="11580"/>
                  <a:pt x="13196" y="11658"/>
                </a:cubicBezTo>
                <a:cubicBezTo>
                  <a:pt x="13209" y="11713"/>
                  <a:pt x="13267" y="11760"/>
                  <a:pt x="13295" y="11807"/>
                </a:cubicBezTo>
                <a:cubicBezTo>
                  <a:pt x="13326" y="11860"/>
                  <a:pt x="13340" y="11884"/>
                  <a:pt x="13395" y="11906"/>
                </a:cubicBezTo>
              </a:path>
              <a:path w="4838" h="844">
                <a:moveTo>
                  <a:pt x="13519" y="11981"/>
                </a:moveTo>
                <a:cubicBezTo>
                  <a:pt x="13436" y="12011"/>
                  <a:pt x="13361" y="12005"/>
                  <a:pt x="13271" y="12005"/>
                </a:cubicBezTo>
                <a:cubicBezTo>
                  <a:pt x="12850" y="12005"/>
                  <a:pt x="12420" y="12024"/>
                  <a:pt x="12005" y="11981"/>
                </a:cubicBezTo>
                <a:cubicBezTo>
                  <a:pt x="11906" y="11971"/>
                  <a:pt x="11791" y="12006"/>
                  <a:pt x="11708" y="11956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24"/>
          <p:cNvSpPr/>
          <p:nvPr/>
        </p:nvSpPr>
        <p:spPr>
          <a:xfrm>
            <a:off x="339840" y="4268880"/>
            <a:ext cx="3438360" cy="438120"/>
          </a:xfrm>
          <a:custGeom>
            <a:avLst/>
            <a:gdLst/>
            <a:ahLst/>
            <a:rect l="l" t="t" r="r" b="b"/>
            <a:pathLst>
              <a:path w="9550" h="1216">
                <a:moveTo>
                  <a:pt x="943" y="12005"/>
                </a:moveTo>
                <a:cubicBezTo>
                  <a:pt x="1012" y="12023"/>
                  <a:pt x="1082" y="12030"/>
                  <a:pt x="1166" y="12030"/>
                </a:cubicBezTo>
                <a:cubicBezTo>
                  <a:pt x="1287" y="12030"/>
                  <a:pt x="1391" y="12052"/>
                  <a:pt x="1513" y="12055"/>
                </a:cubicBezTo>
                <a:cubicBezTo>
                  <a:pt x="1919" y="12065"/>
                  <a:pt x="2325" y="12056"/>
                  <a:pt x="2729" y="12080"/>
                </a:cubicBezTo>
                <a:cubicBezTo>
                  <a:pt x="2977" y="12095"/>
                  <a:pt x="3226" y="12089"/>
                  <a:pt x="3473" y="12105"/>
                </a:cubicBezTo>
                <a:cubicBezTo>
                  <a:pt x="3631" y="12115"/>
                  <a:pt x="3787" y="12124"/>
                  <a:pt x="3944" y="12129"/>
                </a:cubicBezTo>
                <a:cubicBezTo>
                  <a:pt x="4060" y="12132"/>
                  <a:pt x="4076" y="12129"/>
                  <a:pt x="4192" y="12129"/>
                </a:cubicBezTo>
                <a:cubicBezTo>
                  <a:pt x="4184" y="12129"/>
                  <a:pt x="4175" y="12129"/>
                  <a:pt x="4167" y="12129"/>
                </a:cubicBezTo>
              </a:path>
              <a:path w="9550" h="1216">
                <a:moveTo>
                  <a:pt x="1885" y="12179"/>
                </a:moveTo>
                <a:cubicBezTo>
                  <a:pt x="1911" y="12223"/>
                  <a:pt x="1926" y="12299"/>
                  <a:pt x="1935" y="12353"/>
                </a:cubicBezTo>
                <a:cubicBezTo>
                  <a:pt x="1962" y="12512"/>
                  <a:pt x="1930" y="12698"/>
                  <a:pt x="1910" y="12849"/>
                </a:cubicBezTo>
                <a:cubicBezTo>
                  <a:pt x="1904" y="12896"/>
                  <a:pt x="1855" y="13080"/>
                  <a:pt x="1910" y="12973"/>
                </a:cubicBezTo>
              </a:path>
              <a:path w="9550" h="1216">
                <a:moveTo>
                  <a:pt x="2208" y="12328"/>
                </a:moveTo>
                <a:cubicBezTo>
                  <a:pt x="2217" y="12392"/>
                  <a:pt x="2232" y="12431"/>
                  <a:pt x="2232" y="12502"/>
                </a:cubicBezTo>
                <a:cubicBezTo>
                  <a:pt x="2232" y="12622"/>
                  <a:pt x="2233" y="12736"/>
                  <a:pt x="2208" y="12849"/>
                </a:cubicBezTo>
                <a:cubicBezTo>
                  <a:pt x="2208" y="12857"/>
                  <a:pt x="2208" y="12866"/>
                  <a:pt x="2208" y="12874"/>
                </a:cubicBezTo>
              </a:path>
              <a:path w="9550" h="1216">
                <a:moveTo>
                  <a:pt x="2307" y="12849"/>
                </a:moveTo>
                <a:cubicBezTo>
                  <a:pt x="2340" y="12816"/>
                  <a:pt x="2357" y="12799"/>
                  <a:pt x="2381" y="12774"/>
                </a:cubicBezTo>
              </a:path>
              <a:path w="9550" h="1216">
                <a:moveTo>
                  <a:pt x="2555" y="12402"/>
                </a:moveTo>
                <a:cubicBezTo>
                  <a:pt x="2535" y="12481"/>
                  <a:pt x="2507" y="12563"/>
                  <a:pt x="2580" y="12626"/>
                </a:cubicBezTo>
                <a:cubicBezTo>
                  <a:pt x="2628" y="12649"/>
                  <a:pt x="2642" y="12657"/>
                  <a:pt x="2679" y="12650"/>
                </a:cubicBezTo>
              </a:path>
              <a:path w="9550" h="1216">
                <a:moveTo>
                  <a:pt x="2803" y="12229"/>
                </a:moveTo>
                <a:cubicBezTo>
                  <a:pt x="2780" y="12305"/>
                  <a:pt x="2763" y="12399"/>
                  <a:pt x="2753" y="12477"/>
                </a:cubicBezTo>
                <a:cubicBezTo>
                  <a:pt x="2741" y="12567"/>
                  <a:pt x="2741" y="12660"/>
                  <a:pt x="2729" y="12750"/>
                </a:cubicBezTo>
                <a:cubicBezTo>
                  <a:pt x="2724" y="12785"/>
                  <a:pt x="2710" y="12998"/>
                  <a:pt x="2753" y="12998"/>
                </a:cubicBezTo>
                <a:cubicBezTo>
                  <a:pt x="2761" y="12990"/>
                  <a:pt x="2770" y="12981"/>
                  <a:pt x="2778" y="12973"/>
                </a:cubicBezTo>
              </a:path>
              <a:path w="9550" h="1216">
                <a:moveTo>
                  <a:pt x="4762" y="12030"/>
                </a:moveTo>
                <a:cubicBezTo>
                  <a:pt x="4873" y="11993"/>
                  <a:pt x="4949" y="11985"/>
                  <a:pt x="5085" y="11981"/>
                </a:cubicBezTo>
                <a:cubicBezTo>
                  <a:pt x="5228" y="11977"/>
                  <a:pt x="5366" y="11966"/>
                  <a:pt x="5507" y="11956"/>
                </a:cubicBezTo>
                <a:cubicBezTo>
                  <a:pt x="5672" y="11944"/>
                  <a:pt x="5838" y="11935"/>
                  <a:pt x="6003" y="11931"/>
                </a:cubicBezTo>
                <a:cubicBezTo>
                  <a:pt x="6161" y="11927"/>
                  <a:pt x="6314" y="11906"/>
                  <a:pt x="6474" y="11906"/>
                </a:cubicBezTo>
                <a:cubicBezTo>
                  <a:pt x="6635" y="11906"/>
                  <a:pt x="6813" y="11862"/>
                  <a:pt x="6970" y="11881"/>
                </a:cubicBezTo>
                <a:cubicBezTo>
                  <a:pt x="7109" y="11897"/>
                  <a:pt x="7249" y="11906"/>
                  <a:pt x="7392" y="11906"/>
                </a:cubicBezTo>
                <a:cubicBezTo>
                  <a:pt x="7458" y="11906"/>
                  <a:pt x="7475" y="11906"/>
                  <a:pt x="7541" y="11906"/>
                </a:cubicBezTo>
              </a:path>
              <a:path w="9550" h="1216">
                <a:moveTo>
                  <a:pt x="6052" y="12303"/>
                </a:moveTo>
                <a:cubicBezTo>
                  <a:pt x="6024" y="12409"/>
                  <a:pt x="6047" y="12468"/>
                  <a:pt x="6052" y="12576"/>
                </a:cubicBezTo>
                <a:cubicBezTo>
                  <a:pt x="6057" y="12679"/>
                  <a:pt x="6073" y="12776"/>
                  <a:pt x="6077" y="12874"/>
                </a:cubicBezTo>
                <a:cubicBezTo>
                  <a:pt x="6078" y="12889"/>
                  <a:pt x="6077" y="13170"/>
                  <a:pt x="6077" y="13022"/>
                </a:cubicBezTo>
              </a:path>
              <a:path w="9550" h="1216">
                <a:moveTo>
                  <a:pt x="6300" y="12402"/>
                </a:moveTo>
                <a:cubicBezTo>
                  <a:pt x="6333" y="12457"/>
                  <a:pt x="6325" y="12508"/>
                  <a:pt x="6325" y="12576"/>
                </a:cubicBezTo>
                <a:cubicBezTo>
                  <a:pt x="6325" y="12673"/>
                  <a:pt x="6315" y="12758"/>
                  <a:pt x="6300" y="12849"/>
                </a:cubicBezTo>
                <a:cubicBezTo>
                  <a:pt x="6290" y="12911"/>
                  <a:pt x="6298" y="12995"/>
                  <a:pt x="6325" y="13022"/>
                </a:cubicBezTo>
              </a:path>
              <a:path w="9550" h="1216">
                <a:moveTo>
                  <a:pt x="6474" y="12948"/>
                </a:moveTo>
                <a:cubicBezTo>
                  <a:pt x="6504" y="12918"/>
                  <a:pt x="6518" y="12907"/>
                  <a:pt x="6548" y="12898"/>
                </a:cubicBezTo>
              </a:path>
              <a:path w="9550" h="1216">
                <a:moveTo>
                  <a:pt x="6772" y="12452"/>
                </a:moveTo>
                <a:cubicBezTo>
                  <a:pt x="6755" y="12544"/>
                  <a:pt x="6754" y="12576"/>
                  <a:pt x="6821" y="12650"/>
                </a:cubicBezTo>
                <a:cubicBezTo>
                  <a:pt x="6856" y="12685"/>
                  <a:pt x="6878" y="12698"/>
                  <a:pt x="6921" y="12700"/>
                </a:cubicBezTo>
              </a:path>
              <a:path w="9550" h="1216">
                <a:moveTo>
                  <a:pt x="6995" y="12278"/>
                </a:moveTo>
                <a:cubicBezTo>
                  <a:pt x="6962" y="12268"/>
                  <a:pt x="6951" y="12355"/>
                  <a:pt x="6945" y="12427"/>
                </a:cubicBezTo>
                <a:cubicBezTo>
                  <a:pt x="6933" y="12566"/>
                  <a:pt x="6955" y="12691"/>
                  <a:pt x="6970" y="12824"/>
                </a:cubicBezTo>
                <a:cubicBezTo>
                  <a:pt x="6970" y="12898"/>
                  <a:pt x="6970" y="12923"/>
                  <a:pt x="6970" y="12973"/>
                </a:cubicBezTo>
              </a:path>
              <a:path w="9550" h="1216">
                <a:moveTo>
                  <a:pt x="8607" y="11931"/>
                </a:moveTo>
                <a:cubicBezTo>
                  <a:pt x="8824" y="11931"/>
                  <a:pt x="9038" y="11918"/>
                  <a:pt x="9252" y="11906"/>
                </a:cubicBezTo>
                <a:cubicBezTo>
                  <a:pt x="9525" y="11891"/>
                  <a:pt x="9801" y="11900"/>
                  <a:pt x="10071" y="11881"/>
                </a:cubicBezTo>
                <a:cubicBezTo>
                  <a:pt x="10172" y="11874"/>
                  <a:pt x="10528" y="11920"/>
                  <a:pt x="10443" y="11857"/>
                </a:cubicBezTo>
              </a:path>
              <a:path w="9550" h="1216">
                <a:moveTo>
                  <a:pt x="9227" y="12105"/>
                </a:moveTo>
                <a:cubicBezTo>
                  <a:pt x="9150" y="12124"/>
                  <a:pt x="9132" y="12116"/>
                  <a:pt x="9103" y="12154"/>
                </a:cubicBezTo>
                <a:cubicBezTo>
                  <a:pt x="9141" y="12220"/>
                  <a:pt x="9174" y="12228"/>
                  <a:pt x="9227" y="12278"/>
                </a:cubicBezTo>
                <a:cubicBezTo>
                  <a:pt x="9283" y="12331"/>
                  <a:pt x="9337" y="12387"/>
                  <a:pt x="9376" y="12452"/>
                </a:cubicBezTo>
                <a:cubicBezTo>
                  <a:pt x="9415" y="12517"/>
                  <a:pt x="9372" y="12570"/>
                  <a:pt x="9302" y="12576"/>
                </a:cubicBezTo>
                <a:cubicBezTo>
                  <a:pt x="9198" y="12586"/>
                  <a:pt x="9206" y="12546"/>
                  <a:pt x="9153" y="12477"/>
                </a:cubicBezTo>
                <a:cubicBezTo>
                  <a:pt x="9125" y="12449"/>
                  <a:pt x="9116" y="12435"/>
                  <a:pt x="9128" y="12402"/>
                </a:cubicBezTo>
              </a:path>
              <a:path w="9550" h="1216">
                <a:moveTo>
                  <a:pt x="9451" y="12278"/>
                </a:moveTo>
                <a:cubicBezTo>
                  <a:pt x="9451" y="12298"/>
                  <a:pt x="9471" y="12477"/>
                  <a:pt x="9426" y="12477"/>
                </a:cubicBezTo>
                <a:cubicBezTo>
                  <a:pt x="9426" y="12469"/>
                  <a:pt x="9426" y="12460"/>
                  <a:pt x="9426" y="12452"/>
                </a:cubicBezTo>
              </a:path>
              <a:path w="9550" h="1216">
                <a:moveTo>
                  <a:pt x="9451" y="11956"/>
                </a:moveTo>
                <a:cubicBezTo>
                  <a:pt x="9467" y="11956"/>
                  <a:pt x="9484" y="11956"/>
                  <a:pt x="9500" y="11956"/>
                </a:cubicBezTo>
              </a:path>
              <a:path w="9550" h="1216">
                <a:moveTo>
                  <a:pt x="9525" y="12402"/>
                </a:moveTo>
                <a:cubicBezTo>
                  <a:pt x="9597" y="12385"/>
                  <a:pt x="9562" y="12338"/>
                  <a:pt x="9599" y="12278"/>
                </a:cubicBezTo>
                <a:cubicBezTo>
                  <a:pt x="9624" y="12254"/>
                  <a:pt x="9633" y="12246"/>
                  <a:pt x="9649" y="12229"/>
                </a:cubicBezTo>
                <a:cubicBezTo>
                  <a:pt x="9695" y="12286"/>
                  <a:pt x="9723" y="12333"/>
                  <a:pt x="9748" y="12402"/>
                </a:cubicBezTo>
                <a:cubicBezTo>
                  <a:pt x="9768" y="12463"/>
                  <a:pt x="9766" y="12478"/>
                  <a:pt x="9798" y="12502"/>
                </a:cubicBezTo>
              </a:path>
              <a:path w="9550" h="1216">
                <a:moveTo>
                  <a:pt x="9897" y="12055"/>
                </a:moveTo>
                <a:cubicBezTo>
                  <a:pt x="10024" y="12022"/>
                  <a:pt x="10043" y="12005"/>
                  <a:pt x="10145" y="12005"/>
                </a:cubicBezTo>
              </a:path>
              <a:path w="9550" h="1216">
                <a:moveTo>
                  <a:pt x="9996" y="12030"/>
                </a:moveTo>
                <a:cubicBezTo>
                  <a:pt x="9946" y="12047"/>
                  <a:pt x="9897" y="12063"/>
                  <a:pt x="9847" y="12080"/>
                </a:cubicBezTo>
                <a:cubicBezTo>
                  <a:pt x="9859" y="12161"/>
                  <a:pt x="9887" y="12176"/>
                  <a:pt x="9947" y="12229"/>
                </a:cubicBezTo>
                <a:cubicBezTo>
                  <a:pt x="10008" y="12283"/>
                  <a:pt x="10062" y="12367"/>
                  <a:pt x="10046" y="12452"/>
                </a:cubicBezTo>
                <a:cubicBezTo>
                  <a:pt x="10038" y="12469"/>
                  <a:pt x="10029" y="12485"/>
                  <a:pt x="10021" y="12502"/>
                </a:cubicBezTo>
                <a:cubicBezTo>
                  <a:pt x="9969" y="12472"/>
                  <a:pt x="9936" y="12458"/>
                  <a:pt x="9922" y="12402"/>
                </a:cubicBezTo>
              </a:path>
              <a:path w="9550" h="1216">
                <a:moveTo>
                  <a:pt x="10244" y="12080"/>
                </a:moveTo>
                <a:cubicBezTo>
                  <a:pt x="10209" y="12189"/>
                  <a:pt x="10273" y="12234"/>
                  <a:pt x="10269" y="12328"/>
                </a:cubicBezTo>
                <a:cubicBezTo>
                  <a:pt x="10267" y="12384"/>
                  <a:pt x="10221" y="12502"/>
                  <a:pt x="10145" y="12477"/>
                </a:cubicBezTo>
                <a:cubicBezTo>
                  <a:pt x="10137" y="12469"/>
                  <a:pt x="10128" y="12460"/>
                  <a:pt x="10120" y="12452"/>
                </a:cubicBezTo>
                <a:cubicBezTo>
                  <a:pt x="10112" y="12402"/>
                  <a:pt x="10134" y="12343"/>
                  <a:pt x="10195" y="12303"/>
                </a:cubicBezTo>
                <a:cubicBezTo>
                  <a:pt x="10276" y="12250"/>
                  <a:pt x="10299" y="12245"/>
                  <a:pt x="10344" y="12154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25"/>
          <p:cNvSpPr/>
          <p:nvPr/>
        </p:nvSpPr>
        <p:spPr>
          <a:xfrm>
            <a:off x="4321080" y="4375080"/>
            <a:ext cx="501840" cy="206280"/>
          </a:xfrm>
          <a:custGeom>
            <a:avLst/>
            <a:gdLst/>
            <a:ahLst/>
            <a:rect l="l" t="t" r="r" b="b"/>
            <a:pathLst>
              <a:path w="1391" h="572">
                <a:moveTo>
                  <a:pt x="12254" y="12303"/>
                </a:moveTo>
                <a:cubicBezTo>
                  <a:pt x="12197" y="12275"/>
                  <a:pt x="12123" y="12229"/>
                  <a:pt x="12055" y="12254"/>
                </a:cubicBezTo>
                <a:cubicBezTo>
                  <a:pt x="11978" y="12282"/>
                  <a:pt x="12011" y="12384"/>
                  <a:pt x="12055" y="12427"/>
                </a:cubicBezTo>
                <a:cubicBezTo>
                  <a:pt x="12110" y="12482"/>
                  <a:pt x="12169" y="12541"/>
                  <a:pt x="12229" y="12601"/>
                </a:cubicBezTo>
                <a:cubicBezTo>
                  <a:pt x="12276" y="12648"/>
                  <a:pt x="12249" y="12671"/>
                  <a:pt x="12229" y="12725"/>
                </a:cubicBezTo>
                <a:cubicBezTo>
                  <a:pt x="12159" y="12716"/>
                  <a:pt x="12109" y="12700"/>
                  <a:pt x="12055" y="12650"/>
                </a:cubicBezTo>
                <a:cubicBezTo>
                  <a:pt x="12010" y="12606"/>
                  <a:pt x="11993" y="12596"/>
                  <a:pt x="12005" y="12551"/>
                </a:cubicBezTo>
              </a:path>
              <a:path w="1391" h="572">
                <a:moveTo>
                  <a:pt x="12427" y="12452"/>
                </a:moveTo>
                <a:cubicBezTo>
                  <a:pt x="12431" y="12538"/>
                  <a:pt x="12473" y="12714"/>
                  <a:pt x="12427" y="12601"/>
                </a:cubicBezTo>
              </a:path>
              <a:path w="1391" h="572">
                <a:moveTo>
                  <a:pt x="12477" y="12204"/>
                </a:moveTo>
                <a:lnTo>
                  <a:pt x="12477" y="12204"/>
                </a:lnTo>
              </a:path>
              <a:path w="1391" h="572">
                <a:moveTo>
                  <a:pt x="12601" y="12626"/>
                </a:moveTo>
                <a:cubicBezTo>
                  <a:pt x="12611" y="12557"/>
                  <a:pt x="12642" y="12502"/>
                  <a:pt x="12650" y="12427"/>
                </a:cubicBezTo>
                <a:cubicBezTo>
                  <a:pt x="12650" y="12366"/>
                  <a:pt x="12641" y="12350"/>
                  <a:pt x="12675" y="12328"/>
                </a:cubicBezTo>
                <a:cubicBezTo>
                  <a:pt x="12737" y="12390"/>
                  <a:pt x="12747" y="12423"/>
                  <a:pt x="12774" y="12502"/>
                </a:cubicBezTo>
                <a:cubicBezTo>
                  <a:pt x="12801" y="12581"/>
                  <a:pt x="12796" y="12635"/>
                  <a:pt x="12849" y="12700"/>
                </a:cubicBezTo>
              </a:path>
              <a:path w="1391" h="572">
                <a:moveTo>
                  <a:pt x="12923" y="12229"/>
                </a:moveTo>
                <a:cubicBezTo>
                  <a:pt x="12990" y="12190"/>
                  <a:pt x="13021" y="12167"/>
                  <a:pt x="13097" y="12154"/>
                </a:cubicBezTo>
              </a:path>
              <a:path w="1391" h="572">
                <a:moveTo>
                  <a:pt x="12923" y="12154"/>
                </a:moveTo>
                <a:cubicBezTo>
                  <a:pt x="12892" y="12206"/>
                  <a:pt x="12886" y="12259"/>
                  <a:pt x="12948" y="12303"/>
                </a:cubicBezTo>
                <a:cubicBezTo>
                  <a:pt x="12997" y="12338"/>
                  <a:pt x="13089" y="12422"/>
                  <a:pt x="13122" y="12477"/>
                </a:cubicBezTo>
                <a:cubicBezTo>
                  <a:pt x="13150" y="12524"/>
                  <a:pt x="13162" y="12643"/>
                  <a:pt x="13097" y="12675"/>
                </a:cubicBezTo>
                <a:cubicBezTo>
                  <a:pt x="12995" y="12725"/>
                  <a:pt x="12979" y="12583"/>
                  <a:pt x="12973" y="12526"/>
                </a:cubicBezTo>
              </a:path>
              <a:path w="1391" h="572">
                <a:moveTo>
                  <a:pt x="13345" y="12278"/>
                </a:moveTo>
                <a:cubicBezTo>
                  <a:pt x="13258" y="12303"/>
                  <a:pt x="13271" y="12334"/>
                  <a:pt x="13271" y="12427"/>
                </a:cubicBezTo>
                <a:cubicBezTo>
                  <a:pt x="13271" y="12507"/>
                  <a:pt x="13295" y="12568"/>
                  <a:pt x="13295" y="12650"/>
                </a:cubicBezTo>
                <a:cubicBezTo>
                  <a:pt x="13295" y="12695"/>
                  <a:pt x="13299" y="12708"/>
                  <a:pt x="13271" y="12725"/>
                </a:cubicBezTo>
                <a:cubicBezTo>
                  <a:pt x="13214" y="12718"/>
                  <a:pt x="13102" y="12711"/>
                  <a:pt x="13122" y="12626"/>
                </a:cubicBezTo>
                <a:cubicBezTo>
                  <a:pt x="13135" y="12570"/>
                  <a:pt x="13212" y="12540"/>
                  <a:pt x="13246" y="12526"/>
                </a:cubicBezTo>
                <a:cubicBezTo>
                  <a:pt x="13300" y="12504"/>
                  <a:pt x="13350" y="12479"/>
                  <a:pt x="13395" y="1245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Ink 26"/>
          <p:cNvSpPr/>
          <p:nvPr/>
        </p:nvSpPr>
        <p:spPr>
          <a:xfrm>
            <a:off x="946080" y="4705200"/>
            <a:ext cx="706680" cy="312840"/>
          </a:xfrm>
          <a:custGeom>
            <a:avLst/>
            <a:gdLst/>
            <a:ahLst/>
            <a:rect l="l" t="t" r="r" b="b"/>
            <a:pathLst>
              <a:path w="1961" h="869">
                <a:moveTo>
                  <a:pt x="2902" y="13395"/>
                </a:moveTo>
                <a:cubicBezTo>
                  <a:pt x="2886" y="13331"/>
                  <a:pt x="2843" y="13324"/>
                  <a:pt x="2778" y="13320"/>
                </a:cubicBezTo>
                <a:cubicBezTo>
                  <a:pt x="2694" y="13315"/>
                  <a:pt x="2636" y="13353"/>
                  <a:pt x="2654" y="13444"/>
                </a:cubicBezTo>
                <a:cubicBezTo>
                  <a:pt x="2671" y="13529"/>
                  <a:pt x="2775" y="13640"/>
                  <a:pt x="2828" y="13717"/>
                </a:cubicBezTo>
                <a:cubicBezTo>
                  <a:pt x="2879" y="13790"/>
                  <a:pt x="2894" y="13825"/>
                  <a:pt x="2902" y="13915"/>
                </a:cubicBezTo>
                <a:cubicBezTo>
                  <a:pt x="2819" y="13915"/>
                  <a:pt x="2800" y="13904"/>
                  <a:pt x="2729" y="13866"/>
                </a:cubicBezTo>
                <a:cubicBezTo>
                  <a:pt x="2646" y="13822"/>
                  <a:pt x="2635" y="13812"/>
                  <a:pt x="2629" y="13717"/>
                </a:cubicBezTo>
                <a:cubicBezTo>
                  <a:pt x="2629" y="13709"/>
                  <a:pt x="2629" y="13700"/>
                  <a:pt x="2629" y="13692"/>
                </a:cubicBezTo>
              </a:path>
              <a:path w="1961" h="869">
                <a:moveTo>
                  <a:pt x="3175" y="13643"/>
                </a:moveTo>
                <a:cubicBezTo>
                  <a:pt x="3175" y="13670"/>
                  <a:pt x="3144" y="13932"/>
                  <a:pt x="3150" y="13940"/>
                </a:cubicBezTo>
                <a:cubicBezTo>
                  <a:pt x="3166" y="13963"/>
                  <a:pt x="3151" y="13872"/>
                  <a:pt x="3150" y="13866"/>
                </a:cubicBezTo>
              </a:path>
              <a:path w="1961" h="869">
                <a:moveTo>
                  <a:pt x="3051" y="13146"/>
                </a:moveTo>
                <a:cubicBezTo>
                  <a:pt x="3076" y="13154"/>
                  <a:pt x="3100" y="13163"/>
                  <a:pt x="3125" y="13171"/>
                </a:cubicBezTo>
              </a:path>
              <a:path w="1961" h="869">
                <a:moveTo>
                  <a:pt x="3274" y="13742"/>
                </a:moveTo>
                <a:cubicBezTo>
                  <a:pt x="3293" y="13836"/>
                  <a:pt x="3280" y="13856"/>
                  <a:pt x="3324" y="13891"/>
                </a:cubicBezTo>
                <a:cubicBezTo>
                  <a:pt x="3324" y="13802"/>
                  <a:pt x="3337" y="13728"/>
                  <a:pt x="3349" y="13643"/>
                </a:cubicBezTo>
                <a:cubicBezTo>
                  <a:pt x="3357" y="13582"/>
                  <a:pt x="3376" y="13515"/>
                  <a:pt x="3448" y="13494"/>
                </a:cubicBezTo>
                <a:cubicBezTo>
                  <a:pt x="3522" y="13472"/>
                  <a:pt x="3561" y="13563"/>
                  <a:pt x="3572" y="13618"/>
                </a:cubicBezTo>
                <a:cubicBezTo>
                  <a:pt x="3586" y="13687"/>
                  <a:pt x="3593" y="13771"/>
                  <a:pt x="3597" y="13841"/>
                </a:cubicBezTo>
                <a:cubicBezTo>
                  <a:pt x="3597" y="13886"/>
                  <a:pt x="3593" y="13899"/>
                  <a:pt x="3621" y="13915"/>
                </a:cubicBezTo>
              </a:path>
              <a:path w="1961" h="869">
                <a:moveTo>
                  <a:pt x="3845" y="13271"/>
                </a:moveTo>
                <a:cubicBezTo>
                  <a:pt x="3845" y="13369"/>
                  <a:pt x="3832" y="13454"/>
                  <a:pt x="3820" y="13543"/>
                </a:cubicBezTo>
                <a:cubicBezTo>
                  <a:pt x="3805" y="13654"/>
                  <a:pt x="3820" y="13778"/>
                  <a:pt x="3820" y="13891"/>
                </a:cubicBezTo>
                <a:cubicBezTo>
                  <a:pt x="3820" y="13755"/>
                  <a:pt x="3830" y="13623"/>
                  <a:pt x="3845" y="13494"/>
                </a:cubicBezTo>
                <a:cubicBezTo>
                  <a:pt x="3854" y="13414"/>
                  <a:pt x="3861" y="13345"/>
                  <a:pt x="3894" y="13271"/>
                </a:cubicBezTo>
                <a:cubicBezTo>
                  <a:pt x="3923" y="13206"/>
                  <a:pt x="3932" y="13179"/>
                  <a:pt x="3969" y="13122"/>
                </a:cubicBezTo>
                <a:cubicBezTo>
                  <a:pt x="3997" y="13067"/>
                  <a:pt x="4011" y="13050"/>
                  <a:pt x="4068" y="13072"/>
                </a:cubicBezTo>
                <a:cubicBezTo>
                  <a:pt x="4114" y="13118"/>
                  <a:pt x="4138" y="13130"/>
                  <a:pt x="4142" y="13196"/>
                </a:cubicBezTo>
                <a:cubicBezTo>
                  <a:pt x="4146" y="13270"/>
                  <a:pt x="4091" y="13350"/>
                  <a:pt x="4018" y="13370"/>
                </a:cubicBezTo>
                <a:cubicBezTo>
                  <a:pt x="3969" y="13370"/>
                  <a:pt x="3952" y="13370"/>
                  <a:pt x="3919" y="13370"/>
                </a:cubicBezTo>
                <a:cubicBezTo>
                  <a:pt x="3968" y="13392"/>
                  <a:pt x="4087" y="13420"/>
                  <a:pt x="4118" y="13469"/>
                </a:cubicBezTo>
                <a:cubicBezTo>
                  <a:pt x="4167" y="13548"/>
                  <a:pt x="4191" y="13684"/>
                  <a:pt x="4142" y="13767"/>
                </a:cubicBezTo>
                <a:cubicBezTo>
                  <a:pt x="4112" y="13817"/>
                  <a:pt x="4025" y="13878"/>
                  <a:pt x="3969" y="13891"/>
                </a:cubicBezTo>
                <a:cubicBezTo>
                  <a:pt x="3912" y="13904"/>
                  <a:pt x="3821" y="13862"/>
                  <a:pt x="3845" y="13791"/>
                </a:cubicBezTo>
                <a:cubicBezTo>
                  <a:pt x="3853" y="13783"/>
                  <a:pt x="3862" y="13775"/>
                  <a:pt x="3870" y="13767"/>
                </a:cubicBezTo>
              </a:path>
              <a:path w="1961" h="869">
                <a:moveTo>
                  <a:pt x="4316" y="13519"/>
                </a:moveTo>
                <a:cubicBezTo>
                  <a:pt x="4390" y="13519"/>
                  <a:pt x="4465" y="13519"/>
                  <a:pt x="4539" y="13519"/>
                </a:cubicBezTo>
              </a:path>
              <a:path w="1961" h="869">
                <a:moveTo>
                  <a:pt x="4415" y="13568"/>
                </a:moveTo>
                <a:cubicBezTo>
                  <a:pt x="4512" y="13627"/>
                  <a:pt x="4522" y="13652"/>
                  <a:pt x="4589" y="1364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Ink 27"/>
          <p:cNvSpPr/>
          <p:nvPr/>
        </p:nvSpPr>
        <p:spPr>
          <a:xfrm>
            <a:off x="1776240" y="4732200"/>
            <a:ext cx="893880" cy="339840"/>
          </a:xfrm>
          <a:custGeom>
            <a:avLst/>
            <a:gdLst/>
            <a:ahLst/>
            <a:rect l="l" t="t" r="r" b="b"/>
            <a:pathLst>
              <a:path w="2482" h="944">
                <a:moveTo>
                  <a:pt x="4936" y="13940"/>
                </a:moveTo>
                <a:cubicBezTo>
                  <a:pt x="4944" y="13940"/>
                  <a:pt x="4953" y="13940"/>
                  <a:pt x="4961" y="13940"/>
                </a:cubicBezTo>
              </a:path>
              <a:path w="2482" h="944">
                <a:moveTo>
                  <a:pt x="5531" y="13494"/>
                </a:moveTo>
                <a:cubicBezTo>
                  <a:pt x="5555" y="13384"/>
                  <a:pt x="5564" y="13323"/>
                  <a:pt x="5507" y="13221"/>
                </a:cubicBezTo>
                <a:cubicBezTo>
                  <a:pt x="5472" y="13158"/>
                  <a:pt x="5379" y="13151"/>
                  <a:pt x="5333" y="13171"/>
                </a:cubicBezTo>
                <a:cubicBezTo>
                  <a:pt x="5241" y="13211"/>
                  <a:pt x="5259" y="13251"/>
                  <a:pt x="5259" y="13345"/>
                </a:cubicBezTo>
                <a:cubicBezTo>
                  <a:pt x="5259" y="13411"/>
                  <a:pt x="5274" y="13502"/>
                  <a:pt x="5333" y="13543"/>
                </a:cubicBezTo>
                <a:cubicBezTo>
                  <a:pt x="5371" y="13570"/>
                  <a:pt x="5478" y="13596"/>
                  <a:pt x="5507" y="13543"/>
                </a:cubicBezTo>
                <a:cubicBezTo>
                  <a:pt x="5525" y="13511"/>
                  <a:pt x="5531" y="13299"/>
                  <a:pt x="5531" y="13419"/>
                </a:cubicBezTo>
                <a:cubicBezTo>
                  <a:pt x="5531" y="13490"/>
                  <a:pt x="5511" y="13529"/>
                  <a:pt x="5507" y="13593"/>
                </a:cubicBezTo>
                <a:cubicBezTo>
                  <a:pt x="5500" y="13720"/>
                  <a:pt x="5355" y="13968"/>
                  <a:pt x="5482" y="13965"/>
                </a:cubicBezTo>
                <a:cubicBezTo>
                  <a:pt x="5490" y="13957"/>
                  <a:pt x="5499" y="13948"/>
                  <a:pt x="5507" y="13940"/>
                </a:cubicBezTo>
              </a:path>
              <a:path w="2482" h="944">
                <a:moveTo>
                  <a:pt x="5829" y="13295"/>
                </a:moveTo>
                <a:cubicBezTo>
                  <a:pt x="5928" y="13295"/>
                  <a:pt x="6028" y="13295"/>
                  <a:pt x="6127" y="13295"/>
                </a:cubicBezTo>
              </a:path>
              <a:path w="2482" h="944">
                <a:moveTo>
                  <a:pt x="5904" y="13271"/>
                </a:moveTo>
                <a:cubicBezTo>
                  <a:pt x="5898" y="13281"/>
                  <a:pt x="5797" y="13450"/>
                  <a:pt x="5904" y="13444"/>
                </a:cubicBezTo>
                <a:cubicBezTo>
                  <a:pt x="6001" y="13439"/>
                  <a:pt x="6019" y="13394"/>
                  <a:pt x="6102" y="13469"/>
                </a:cubicBezTo>
                <a:cubicBezTo>
                  <a:pt x="6150" y="13512"/>
                  <a:pt x="6149" y="13607"/>
                  <a:pt x="6152" y="13667"/>
                </a:cubicBezTo>
                <a:cubicBezTo>
                  <a:pt x="6155" y="13736"/>
                  <a:pt x="6119" y="13814"/>
                  <a:pt x="6077" y="13866"/>
                </a:cubicBezTo>
                <a:cubicBezTo>
                  <a:pt x="6030" y="13924"/>
                  <a:pt x="5971" y="13915"/>
                  <a:pt x="5904" y="13915"/>
                </a:cubicBezTo>
                <a:cubicBezTo>
                  <a:pt x="5823" y="13915"/>
                  <a:pt x="5837" y="13884"/>
                  <a:pt x="5829" y="13816"/>
                </a:cubicBezTo>
              </a:path>
              <a:path w="2482" h="944">
                <a:moveTo>
                  <a:pt x="6400" y="13444"/>
                </a:moveTo>
                <a:cubicBezTo>
                  <a:pt x="6523" y="13451"/>
                  <a:pt x="6544" y="13440"/>
                  <a:pt x="6623" y="13519"/>
                </a:cubicBezTo>
                <a:cubicBezTo>
                  <a:pt x="6699" y="13595"/>
                  <a:pt x="6746" y="13624"/>
                  <a:pt x="6697" y="13742"/>
                </a:cubicBezTo>
                <a:cubicBezTo>
                  <a:pt x="6660" y="13832"/>
                  <a:pt x="6591" y="13886"/>
                  <a:pt x="6499" y="13891"/>
                </a:cubicBezTo>
                <a:cubicBezTo>
                  <a:pt x="6440" y="13894"/>
                  <a:pt x="6384" y="13860"/>
                  <a:pt x="6400" y="13791"/>
                </a:cubicBezTo>
                <a:cubicBezTo>
                  <a:pt x="6408" y="13775"/>
                  <a:pt x="6416" y="13758"/>
                  <a:pt x="6424" y="13742"/>
                </a:cubicBezTo>
                <a:cubicBezTo>
                  <a:pt x="6473" y="13748"/>
                  <a:pt x="6567" y="13751"/>
                  <a:pt x="6598" y="13791"/>
                </a:cubicBezTo>
                <a:cubicBezTo>
                  <a:pt x="6647" y="13854"/>
                  <a:pt x="6689" y="13888"/>
                  <a:pt x="6747" y="13940"/>
                </a:cubicBezTo>
                <a:cubicBezTo>
                  <a:pt x="6803" y="13990"/>
                  <a:pt x="6769" y="13987"/>
                  <a:pt x="6846" y="13965"/>
                </a:cubicBezTo>
              </a:path>
              <a:path w="2482" h="944">
                <a:moveTo>
                  <a:pt x="6970" y="13345"/>
                </a:moveTo>
                <a:cubicBezTo>
                  <a:pt x="7054" y="13345"/>
                  <a:pt x="7101" y="13344"/>
                  <a:pt x="7169" y="13395"/>
                </a:cubicBezTo>
                <a:cubicBezTo>
                  <a:pt x="7220" y="13433"/>
                  <a:pt x="7240" y="13534"/>
                  <a:pt x="7243" y="13593"/>
                </a:cubicBezTo>
                <a:cubicBezTo>
                  <a:pt x="7247" y="13676"/>
                  <a:pt x="7243" y="13765"/>
                  <a:pt x="7218" y="13841"/>
                </a:cubicBezTo>
                <a:cubicBezTo>
                  <a:pt x="7199" y="13899"/>
                  <a:pt x="7137" y="13981"/>
                  <a:pt x="7069" y="13965"/>
                </a:cubicBezTo>
                <a:cubicBezTo>
                  <a:pt x="6946" y="13936"/>
                  <a:pt x="7047" y="13828"/>
                  <a:pt x="7144" y="13841"/>
                </a:cubicBezTo>
                <a:cubicBezTo>
                  <a:pt x="7208" y="13850"/>
                  <a:pt x="7293" y="13946"/>
                  <a:pt x="7342" y="13990"/>
                </a:cubicBezTo>
                <a:cubicBezTo>
                  <a:pt x="7374" y="14018"/>
                  <a:pt x="7391" y="14056"/>
                  <a:pt x="7417" y="14089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Ink 28"/>
          <p:cNvSpPr/>
          <p:nvPr/>
        </p:nvSpPr>
        <p:spPr>
          <a:xfrm>
            <a:off x="1357200" y="5072040"/>
            <a:ext cx="866880" cy="401760"/>
          </a:xfrm>
          <a:custGeom>
            <a:avLst/>
            <a:gdLst/>
            <a:ahLst/>
            <a:rect l="l" t="t" r="r" b="b"/>
            <a:pathLst>
              <a:path w="2407" h="1117">
                <a:moveTo>
                  <a:pt x="3919" y="14461"/>
                </a:moveTo>
                <a:cubicBezTo>
                  <a:pt x="3897" y="14548"/>
                  <a:pt x="3894" y="14619"/>
                  <a:pt x="3894" y="14709"/>
                </a:cubicBezTo>
                <a:cubicBezTo>
                  <a:pt x="3894" y="14824"/>
                  <a:pt x="3925" y="14987"/>
                  <a:pt x="3870" y="15081"/>
                </a:cubicBezTo>
              </a:path>
              <a:path w="2407" h="1117">
                <a:moveTo>
                  <a:pt x="3770" y="14436"/>
                </a:moveTo>
                <a:cubicBezTo>
                  <a:pt x="3778" y="14395"/>
                  <a:pt x="3787" y="14353"/>
                  <a:pt x="3795" y="14312"/>
                </a:cubicBezTo>
                <a:cubicBezTo>
                  <a:pt x="3885" y="14312"/>
                  <a:pt x="3902" y="14318"/>
                  <a:pt x="3969" y="14362"/>
                </a:cubicBezTo>
                <a:cubicBezTo>
                  <a:pt x="4023" y="14397"/>
                  <a:pt x="4072" y="14414"/>
                  <a:pt x="4118" y="14461"/>
                </a:cubicBezTo>
                <a:cubicBezTo>
                  <a:pt x="4171" y="14515"/>
                  <a:pt x="4147" y="14598"/>
                  <a:pt x="4068" y="14610"/>
                </a:cubicBezTo>
                <a:cubicBezTo>
                  <a:pt x="3913" y="14633"/>
                  <a:pt x="3907" y="14567"/>
                  <a:pt x="4018" y="14610"/>
                </a:cubicBezTo>
                <a:cubicBezTo>
                  <a:pt x="4080" y="14634"/>
                  <a:pt x="4170" y="14689"/>
                  <a:pt x="4192" y="14759"/>
                </a:cubicBezTo>
                <a:cubicBezTo>
                  <a:pt x="4210" y="14816"/>
                  <a:pt x="4202" y="14914"/>
                  <a:pt x="4167" y="14957"/>
                </a:cubicBezTo>
                <a:cubicBezTo>
                  <a:pt x="4121" y="15014"/>
                  <a:pt x="4089" y="15007"/>
                  <a:pt x="4018" y="15007"/>
                </a:cubicBezTo>
                <a:cubicBezTo>
                  <a:pt x="3932" y="15007"/>
                  <a:pt x="3905" y="14985"/>
                  <a:pt x="3894" y="14908"/>
                </a:cubicBezTo>
              </a:path>
              <a:path w="2407" h="1117">
                <a:moveTo>
                  <a:pt x="4390" y="14684"/>
                </a:moveTo>
                <a:cubicBezTo>
                  <a:pt x="4522" y="14684"/>
                  <a:pt x="4555" y="14684"/>
                  <a:pt x="4638" y="14684"/>
                </a:cubicBezTo>
              </a:path>
              <a:path w="2407" h="1117">
                <a:moveTo>
                  <a:pt x="4465" y="14808"/>
                </a:moveTo>
                <a:cubicBezTo>
                  <a:pt x="4535" y="14835"/>
                  <a:pt x="4587" y="14833"/>
                  <a:pt x="4663" y="14833"/>
                </a:cubicBezTo>
                <a:cubicBezTo>
                  <a:pt x="4671" y="14833"/>
                  <a:pt x="4680" y="14833"/>
                  <a:pt x="4688" y="14833"/>
                </a:cubicBezTo>
              </a:path>
              <a:path w="2407" h="1117">
                <a:moveTo>
                  <a:pt x="4887" y="14387"/>
                </a:moveTo>
                <a:cubicBezTo>
                  <a:pt x="4911" y="14412"/>
                  <a:pt x="4919" y="14420"/>
                  <a:pt x="4936" y="14436"/>
                </a:cubicBezTo>
                <a:cubicBezTo>
                  <a:pt x="4981" y="14392"/>
                  <a:pt x="5065" y="14265"/>
                  <a:pt x="5135" y="14288"/>
                </a:cubicBezTo>
                <a:cubicBezTo>
                  <a:pt x="5167" y="14298"/>
                  <a:pt x="5268" y="14318"/>
                  <a:pt x="5283" y="14362"/>
                </a:cubicBezTo>
                <a:cubicBezTo>
                  <a:pt x="5304" y="14421"/>
                  <a:pt x="5241" y="14490"/>
                  <a:pt x="5234" y="14536"/>
                </a:cubicBezTo>
                <a:cubicBezTo>
                  <a:pt x="5221" y="14621"/>
                  <a:pt x="5228" y="14701"/>
                  <a:pt x="5209" y="14784"/>
                </a:cubicBezTo>
                <a:cubicBezTo>
                  <a:pt x="5192" y="14859"/>
                  <a:pt x="5206" y="14963"/>
                  <a:pt x="5184" y="15032"/>
                </a:cubicBezTo>
                <a:cubicBezTo>
                  <a:pt x="5155" y="15060"/>
                  <a:pt x="5147" y="15073"/>
                  <a:pt x="5159" y="15106"/>
                </a:cubicBezTo>
              </a:path>
              <a:path w="2407" h="1117">
                <a:moveTo>
                  <a:pt x="5407" y="14560"/>
                </a:moveTo>
                <a:cubicBezTo>
                  <a:pt x="5455" y="14513"/>
                  <a:pt x="5467" y="14462"/>
                  <a:pt x="5507" y="14412"/>
                </a:cubicBezTo>
                <a:cubicBezTo>
                  <a:pt x="5536" y="14376"/>
                  <a:pt x="5573" y="14345"/>
                  <a:pt x="5606" y="14312"/>
                </a:cubicBezTo>
                <a:cubicBezTo>
                  <a:pt x="5688" y="14378"/>
                  <a:pt x="5647" y="14375"/>
                  <a:pt x="5680" y="14461"/>
                </a:cubicBezTo>
                <a:cubicBezTo>
                  <a:pt x="5712" y="14542"/>
                  <a:pt x="5705" y="14639"/>
                  <a:pt x="5705" y="14734"/>
                </a:cubicBezTo>
                <a:cubicBezTo>
                  <a:pt x="5705" y="14817"/>
                  <a:pt x="5680" y="14916"/>
                  <a:pt x="5631" y="14982"/>
                </a:cubicBezTo>
                <a:cubicBezTo>
                  <a:pt x="5588" y="15041"/>
                  <a:pt x="5545" y="15046"/>
                  <a:pt x="5482" y="15007"/>
                </a:cubicBezTo>
                <a:cubicBezTo>
                  <a:pt x="5432" y="14976"/>
                  <a:pt x="5456" y="14897"/>
                  <a:pt x="5482" y="14858"/>
                </a:cubicBezTo>
                <a:cubicBezTo>
                  <a:pt x="5537" y="14776"/>
                  <a:pt x="5600" y="14870"/>
                  <a:pt x="5631" y="14908"/>
                </a:cubicBezTo>
                <a:cubicBezTo>
                  <a:pt x="5672" y="14957"/>
                  <a:pt x="5676" y="15064"/>
                  <a:pt x="5705" y="15131"/>
                </a:cubicBezTo>
                <a:cubicBezTo>
                  <a:pt x="5739" y="15209"/>
                  <a:pt x="5735" y="15200"/>
                  <a:pt x="5804" y="15180"/>
                </a:cubicBezTo>
              </a:path>
              <a:path w="2407" h="1117">
                <a:moveTo>
                  <a:pt x="6028" y="14238"/>
                </a:moveTo>
                <a:cubicBezTo>
                  <a:pt x="6028" y="14106"/>
                  <a:pt x="6038" y="14297"/>
                  <a:pt x="6052" y="14312"/>
                </a:cubicBezTo>
                <a:cubicBezTo>
                  <a:pt x="6115" y="14381"/>
                  <a:pt x="6201" y="14321"/>
                  <a:pt x="6176" y="14238"/>
                </a:cubicBezTo>
                <a:cubicBezTo>
                  <a:pt x="6160" y="14185"/>
                  <a:pt x="6096" y="14141"/>
                  <a:pt x="6052" y="14114"/>
                </a:cubicBezTo>
                <a:cubicBezTo>
                  <a:pt x="6036" y="14106"/>
                  <a:pt x="6019" y="14097"/>
                  <a:pt x="6003" y="14089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Ink 29"/>
          <p:cNvSpPr/>
          <p:nvPr/>
        </p:nvSpPr>
        <p:spPr>
          <a:xfrm>
            <a:off x="5099040" y="2687760"/>
            <a:ext cx="973080" cy="474480"/>
          </a:xfrm>
          <a:custGeom>
            <a:avLst/>
            <a:gdLst/>
            <a:ahLst/>
            <a:rect l="l" t="t" r="r" b="b"/>
            <a:pathLst>
              <a:path w="2705" h="1316">
                <a:moveTo>
                  <a:pt x="14412" y="7913"/>
                </a:moveTo>
                <a:cubicBezTo>
                  <a:pt x="14392" y="8011"/>
                  <a:pt x="14367" y="8111"/>
                  <a:pt x="14362" y="8210"/>
                </a:cubicBezTo>
                <a:cubicBezTo>
                  <a:pt x="14358" y="8288"/>
                  <a:pt x="14329" y="8362"/>
                  <a:pt x="14312" y="8434"/>
                </a:cubicBezTo>
                <a:cubicBezTo>
                  <a:pt x="14285" y="8551"/>
                  <a:pt x="14226" y="8666"/>
                  <a:pt x="14188" y="8781"/>
                </a:cubicBezTo>
                <a:cubicBezTo>
                  <a:pt x="14162" y="8703"/>
                  <a:pt x="14163" y="8641"/>
                  <a:pt x="14163" y="8558"/>
                </a:cubicBezTo>
                <a:cubicBezTo>
                  <a:pt x="14163" y="8468"/>
                  <a:pt x="14173" y="8396"/>
                  <a:pt x="14188" y="8310"/>
                </a:cubicBezTo>
                <a:cubicBezTo>
                  <a:pt x="14210" y="8187"/>
                  <a:pt x="14245" y="8060"/>
                  <a:pt x="14263" y="7938"/>
                </a:cubicBezTo>
                <a:cubicBezTo>
                  <a:pt x="14276" y="7853"/>
                  <a:pt x="14299" y="7772"/>
                  <a:pt x="14312" y="7689"/>
                </a:cubicBezTo>
                <a:cubicBezTo>
                  <a:pt x="14321" y="7628"/>
                  <a:pt x="14332" y="7551"/>
                  <a:pt x="14362" y="7491"/>
                </a:cubicBezTo>
                <a:cubicBezTo>
                  <a:pt x="14370" y="7483"/>
                  <a:pt x="14379" y="7474"/>
                  <a:pt x="14387" y="7466"/>
                </a:cubicBezTo>
                <a:cubicBezTo>
                  <a:pt x="14422" y="7528"/>
                  <a:pt x="14425" y="7582"/>
                  <a:pt x="14461" y="7640"/>
                </a:cubicBezTo>
                <a:cubicBezTo>
                  <a:pt x="14500" y="7704"/>
                  <a:pt x="14527" y="7786"/>
                  <a:pt x="14536" y="7863"/>
                </a:cubicBezTo>
                <a:cubicBezTo>
                  <a:pt x="14548" y="7965"/>
                  <a:pt x="14555" y="8062"/>
                  <a:pt x="14585" y="8161"/>
                </a:cubicBezTo>
                <a:cubicBezTo>
                  <a:pt x="14618" y="8272"/>
                  <a:pt x="14664" y="8394"/>
                  <a:pt x="14684" y="8508"/>
                </a:cubicBezTo>
                <a:cubicBezTo>
                  <a:pt x="14697" y="8579"/>
                  <a:pt x="14692" y="8662"/>
                  <a:pt x="14709" y="8731"/>
                </a:cubicBezTo>
                <a:cubicBezTo>
                  <a:pt x="14717" y="8748"/>
                  <a:pt x="14726" y="8764"/>
                  <a:pt x="14734" y="8781"/>
                </a:cubicBezTo>
              </a:path>
              <a:path w="2705" h="1316">
                <a:moveTo>
                  <a:pt x="14163" y="8285"/>
                </a:moveTo>
                <a:cubicBezTo>
                  <a:pt x="14245" y="8285"/>
                  <a:pt x="14310" y="8306"/>
                  <a:pt x="14387" y="8310"/>
                </a:cubicBezTo>
                <a:cubicBezTo>
                  <a:pt x="14529" y="8318"/>
                  <a:pt x="14667" y="8298"/>
                  <a:pt x="14808" y="8285"/>
                </a:cubicBezTo>
              </a:path>
              <a:path w="2705" h="1316">
                <a:moveTo>
                  <a:pt x="14883" y="8285"/>
                </a:moveTo>
                <a:cubicBezTo>
                  <a:pt x="14990" y="8285"/>
                  <a:pt x="15098" y="8285"/>
                  <a:pt x="15205" y="8285"/>
                </a:cubicBezTo>
              </a:path>
              <a:path w="2705" h="1316">
                <a:moveTo>
                  <a:pt x="14908" y="8409"/>
                </a:moveTo>
                <a:cubicBezTo>
                  <a:pt x="15007" y="8409"/>
                  <a:pt x="15106" y="8409"/>
                  <a:pt x="15205" y="8409"/>
                </a:cubicBezTo>
              </a:path>
              <a:path w="2705" h="1316">
                <a:moveTo>
                  <a:pt x="15602" y="8012"/>
                </a:moveTo>
                <a:cubicBezTo>
                  <a:pt x="15666" y="8012"/>
                  <a:pt x="15743" y="8050"/>
                  <a:pt x="15801" y="8037"/>
                </a:cubicBezTo>
                <a:cubicBezTo>
                  <a:pt x="15886" y="8018"/>
                  <a:pt x="15956" y="8012"/>
                  <a:pt x="16049" y="8012"/>
                </a:cubicBezTo>
              </a:path>
              <a:path w="2705" h="1316">
                <a:moveTo>
                  <a:pt x="15677" y="8012"/>
                </a:moveTo>
                <a:cubicBezTo>
                  <a:pt x="15633" y="8080"/>
                  <a:pt x="15577" y="8147"/>
                  <a:pt x="15602" y="8235"/>
                </a:cubicBezTo>
                <a:cubicBezTo>
                  <a:pt x="15610" y="8252"/>
                  <a:pt x="15619" y="8268"/>
                  <a:pt x="15627" y="8285"/>
                </a:cubicBezTo>
                <a:cubicBezTo>
                  <a:pt x="15677" y="8278"/>
                  <a:pt x="15756" y="8256"/>
                  <a:pt x="15801" y="8235"/>
                </a:cubicBezTo>
                <a:cubicBezTo>
                  <a:pt x="15866" y="8205"/>
                  <a:pt x="15885" y="8209"/>
                  <a:pt x="15949" y="8235"/>
                </a:cubicBezTo>
                <a:cubicBezTo>
                  <a:pt x="16026" y="8266"/>
                  <a:pt x="16050" y="8285"/>
                  <a:pt x="16073" y="8334"/>
                </a:cubicBezTo>
                <a:cubicBezTo>
                  <a:pt x="16107" y="8407"/>
                  <a:pt x="16133" y="8490"/>
                  <a:pt x="16098" y="8558"/>
                </a:cubicBezTo>
                <a:cubicBezTo>
                  <a:pt x="16060" y="8632"/>
                  <a:pt x="16007" y="8693"/>
                  <a:pt x="15925" y="8706"/>
                </a:cubicBezTo>
                <a:cubicBezTo>
                  <a:pt x="15846" y="8718"/>
                  <a:pt x="15711" y="8732"/>
                  <a:pt x="15677" y="8657"/>
                </a:cubicBezTo>
                <a:cubicBezTo>
                  <a:pt x="15677" y="8649"/>
                  <a:pt x="15677" y="8640"/>
                  <a:pt x="15677" y="8632"/>
                </a:cubicBezTo>
              </a:path>
              <a:path w="2705" h="1316">
                <a:moveTo>
                  <a:pt x="16470" y="8086"/>
                </a:moveTo>
                <a:cubicBezTo>
                  <a:pt x="16491" y="8015"/>
                  <a:pt x="16497" y="8039"/>
                  <a:pt x="16446" y="7987"/>
                </a:cubicBezTo>
                <a:cubicBezTo>
                  <a:pt x="16392" y="7994"/>
                  <a:pt x="16296" y="7993"/>
                  <a:pt x="16247" y="8012"/>
                </a:cubicBezTo>
                <a:cubicBezTo>
                  <a:pt x="16191" y="8034"/>
                  <a:pt x="16112" y="8094"/>
                  <a:pt x="16123" y="8161"/>
                </a:cubicBezTo>
                <a:cubicBezTo>
                  <a:pt x="16131" y="8206"/>
                  <a:pt x="16218" y="8287"/>
                  <a:pt x="16247" y="8310"/>
                </a:cubicBezTo>
                <a:cubicBezTo>
                  <a:pt x="16335" y="8379"/>
                  <a:pt x="16381" y="8388"/>
                  <a:pt x="16446" y="8483"/>
                </a:cubicBezTo>
                <a:cubicBezTo>
                  <a:pt x="16488" y="8545"/>
                  <a:pt x="16488" y="8552"/>
                  <a:pt x="16495" y="8632"/>
                </a:cubicBezTo>
                <a:cubicBezTo>
                  <a:pt x="16406" y="8666"/>
                  <a:pt x="16362" y="8651"/>
                  <a:pt x="16272" y="8632"/>
                </a:cubicBezTo>
                <a:cubicBezTo>
                  <a:pt x="16202" y="8617"/>
                  <a:pt x="16178" y="8572"/>
                  <a:pt x="16173" y="8508"/>
                </a:cubicBezTo>
                <a:cubicBezTo>
                  <a:pt x="16169" y="8453"/>
                  <a:pt x="16242" y="8371"/>
                  <a:pt x="16272" y="8334"/>
                </a:cubicBezTo>
                <a:cubicBezTo>
                  <a:pt x="16329" y="8264"/>
                  <a:pt x="16429" y="8202"/>
                  <a:pt x="16495" y="8136"/>
                </a:cubicBezTo>
              </a:path>
              <a:path w="2705" h="1316">
                <a:moveTo>
                  <a:pt x="16669" y="7789"/>
                </a:moveTo>
                <a:cubicBezTo>
                  <a:pt x="16632" y="7890"/>
                  <a:pt x="16605" y="7938"/>
                  <a:pt x="16669" y="8037"/>
                </a:cubicBezTo>
                <a:cubicBezTo>
                  <a:pt x="16702" y="8088"/>
                  <a:pt x="16782" y="8066"/>
                  <a:pt x="16818" y="8037"/>
                </a:cubicBezTo>
                <a:cubicBezTo>
                  <a:pt x="16842" y="8017"/>
                  <a:pt x="16878" y="7920"/>
                  <a:pt x="16867" y="7888"/>
                </a:cubicBezTo>
                <a:cubicBezTo>
                  <a:pt x="16855" y="7852"/>
                  <a:pt x="16814" y="7756"/>
                  <a:pt x="16768" y="7739"/>
                </a:cubicBezTo>
                <a:cubicBezTo>
                  <a:pt x="16719" y="7721"/>
                  <a:pt x="16664" y="7700"/>
                  <a:pt x="16619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Ink 30"/>
          <p:cNvSpPr/>
          <p:nvPr/>
        </p:nvSpPr>
        <p:spPr>
          <a:xfrm>
            <a:off x="5581800" y="3295800"/>
            <a:ext cx="1098360" cy="490320"/>
          </a:xfrm>
          <a:custGeom>
            <a:avLst/>
            <a:gdLst/>
            <a:ahLst/>
            <a:rect l="l" t="t" r="r" b="b"/>
            <a:pathLst>
              <a:path w="3052" h="1365">
                <a:moveTo>
                  <a:pt x="15503" y="9401"/>
                </a:moveTo>
                <a:cubicBezTo>
                  <a:pt x="15553" y="9276"/>
                  <a:pt x="15566" y="9352"/>
                  <a:pt x="15627" y="9376"/>
                </a:cubicBezTo>
                <a:cubicBezTo>
                  <a:pt x="15666" y="9391"/>
                  <a:pt x="15765" y="9394"/>
                  <a:pt x="15801" y="9401"/>
                </a:cubicBezTo>
                <a:cubicBezTo>
                  <a:pt x="15817" y="9401"/>
                  <a:pt x="15834" y="9401"/>
                  <a:pt x="15850" y="9401"/>
                </a:cubicBezTo>
                <a:cubicBezTo>
                  <a:pt x="15820" y="9471"/>
                  <a:pt x="15806" y="9520"/>
                  <a:pt x="15801" y="9599"/>
                </a:cubicBezTo>
                <a:cubicBezTo>
                  <a:pt x="15793" y="9726"/>
                  <a:pt x="15790" y="9848"/>
                  <a:pt x="15776" y="9971"/>
                </a:cubicBezTo>
                <a:cubicBezTo>
                  <a:pt x="15767" y="10054"/>
                  <a:pt x="15769" y="10138"/>
                  <a:pt x="15751" y="10220"/>
                </a:cubicBezTo>
                <a:cubicBezTo>
                  <a:pt x="15736" y="10285"/>
                  <a:pt x="15729" y="10449"/>
                  <a:pt x="15751" y="10294"/>
                </a:cubicBezTo>
              </a:path>
              <a:path w="3052" h="1365">
                <a:moveTo>
                  <a:pt x="15999" y="9550"/>
                </a:moveTo>
                <a:cubicBezTo>
                  <a:pt x="16050" y="9648"/>
                  <a:pt x="16022" y="9461"/>
                  <a:pt x="16049" y="9401"/>
                </a:cubicBezTo>
                <a:cubicBezTo>
                  <a:pt x="16065" y="9364"/>
                  <a:pt x="16077" y="9337"/>
                  <a:pt x="16098" y="9302"/>
                </a:cubicBezTo>
                <a:cubicBezTo>
                  <a:pt x="16209" y="9302"/>
                  <a:pt x="16183" y="9356"/>
                  <a:pt x="16222" y="9451"/>
                </a:cubicBezTo>
                <a:cubicBezTo>
                  <a:pt x="16252" y="9524"/>
                  <a:pt x="16262" y="9618"/>
                  <a:pt x="16247" y="9699"/>
                </a:cubicBezTo>
                <a:cubicBezTo>
                  <a:pt x="16226" y="9810"/>
                  <a:pt x="16234" y="9938"/>
                  <a:pt x="16197" y="10046"/>
                </a:cubicBezTo>
                <a:cubicBezTo>
                  <a:pt x="16171" y="10122"/>
                  <a:pt x="16105" y="10192"/>
                  <a:pt x="16073" y="10269"/>
                </a:cubicBezTo>
                <a:cubicBezTo>
                  <a:pt x="16051" y="10337"/>
                  <a:pt x="16050" y="10358"/>
                  <a:pt x="15999" y="10368"/>
                </a:cubicBezTo>
                <a:cubicBezTo>
                  <a:pt x="15939" y="10325"/>
                  <a:pt x="15933" y="10283"/>
                  <a:pt x="15949" y="10195"/>
                </a:cubicBezTo>
                <a:cubicBezTo>
                  <a:pt x="15962" y="10123"/>
                  <a:pt x="16012" y="10061"/>
                  <a:pt x="16073" y="10046"/>
                </a:cubicBezTo>
                <a:cubicBezTo>
                  <a:pt x="16081" y="10046"/>
                  <a:pt x="16090" y="10046"/>
                  <a:pt x="16098" y="10046"/>
                </a:cubicBezTo>
                <a:cubicBezTo>
                  <a:pt x="16155" y="10117"/>
                  <a:pt x="16179" y="10122"/>
                  <a:pt x="16197" y="10220"/>
                </a:cubicBezTo>
                <a:cubicBezTo>
                  <a:pt x="16202" y="10248"/>
                  <a:pt x="16197" y="10507"/>
                  <a:pt x="16197" y="10368"/>
                </a:cubicBezTo>
              </a:path>
              <a:path w="3052" h="1365">
                <a:moveTo>
                  <a:pt x="16346" y="9376"/>
                </a:moveTo>
                <a:cubicBezTo>
                  <a:pt x="16337" y="9499"/>
                  <a:pt x="16303" y="9495"/>
                  <a:pt x="16421" y="9525"/>
                </a:cubicBezTo>
                <a:cubicBezTo>
                  <a:pt x="16455" y="9468"/>
                  <a:pt x="16453" y="9428"/>
                  <a:pt x="16446" y="9376"/>
                </a:cubicBezTo>
                <a:cubicBezTo>
                  <a:pt x="16435" y="9293"/>
                  <a:pt x="16399" y="9302"/>
                  <a:pt x="16321" y="9302"/>
                </a:cubicBezTo>
              </a:path>
              <a:path w="3052" h="1365">
                <a:moveTo>
                  <a:pt x="17066" y="9153"/>
                </a:moveTo>
                <a:cubicBezTo>
                  <a:pt x="17033" y="9259"/>
                  <a:pt x="17004" y="9383"/>
                  <a:pt x="16942" y="9475"/>
                </a:cubicBezTo>
                <a:cubicBezTo>
                  <a:pt x="16866" y="9587"/>
                  <a:pt x="16849" y="9701"/>
                  <a:pt x="16793" y="9823"/>
                </a:cubicBezTo>
                <a:cubicBezTo>
                  <a:pt x="16727" y="9968"/>
                  <a:pt x="16648" y="10135"/>
                  <a:pt x="16570" y="10269"/>
                </a:cubicBezTo>
                <a:cubicBezTo>
                  <a:pt x="16547" y="10307"/>
                  <a:pt x="16420" y="10483"/>
                  <a:pt x="16421" y="10517"/>
                </a:cubicBezTo>
                <a:cubicBezTo>
                  <a:pt x="16429" y="10509"/>
                  <a:pt x="16438" y="10500"/>
                  <a:pt x="16446" y="10492"/>
                </a:cubicBezTo>
              </a:path>
              <a:path w="3052" h="1365">
                <a:moveTo>
                  <a:pt x="17338" y="9599"/>
                </a:moveTo>
                <a:cubicBezTo>
                  <a:pt x="17338" y="9730"/>
                  <a:pt x="17319" y="9844"/>
                  <a:pt x="17314" y="9971"/>
                </a:cubicBezTo>
                <a:cubicBezTo>
                  <a:pt x="17311" y="10056"/>
                  <a:pt x="17289" y="10104"/>
                  <a:pt x="17289" y="10195"/>
                </a:cubicBezTo>
                <a:cubicBezTo>
                  <a:pt x="17289" y="10269"/>
                  <a:pt x="17276" y="10381"/>
                  <a:pt x="17314" y="10418"/>
                </a:cubicBezTo>
              </a:path>
              <a:path w="3052" h="1365">
                <a:moveTo>
                  <a:pt x="17587" y="9599"/>
                </a:moveTo>
                <a:cubicBezTo>
                  <a:pt x="17587" y="9712"/>
                  <a:pt x="17567" y="9785"/>
                  <a:pt x="17562" y="9897"/>
                </a:cubicBezTo>
                <a:cubicBezTo>
                  <a:pt x="17557" y="9992"/>
                  <a:pt x="17551" y="10025"/>
                  <a:pt x="17562" y="10120"/>
                </a:cubicBezTo>
                <a:cubicBezTo>
                  <a:pt x="17573" y="10214"/>
                  <a:pt x="17564" y="10215"/>
                  <a:pt x="17611" y="10294"/>
                </a:cubicBezTo>
                <a:cubicBezTo>
                  <a:pt x="17643" y="10348"/>
                  <a:pt x="17691" y="10390"/>
                  <a:pt x="17760" y="10344"/>
                </a:cubicBezTo>
                <a:cubicBezTo>
                  <a:pt x="17843" y="10289"/>
                  <a:pt x="17838" y="10230"/>
                  <a:pt x="17859" y="10145"/>
                </a:cubicBezTo>
                <a:cubicBezTo>
                  <a:pt x="17886" y="10039"/>
                  <a:pt x="17874" y="10005"/>
                  <a:pt x="17859" y="9897"/>
                </a:cubicBezTo>
                <a:cubicBezTo>
                  <a:pt x="17850" y="9833"/>
                  <a:pt x="17831" y="9725"/>
                  <a:pt x="17785" y="9674"/>
                </a:cubicBezTo>
                <a:cubicBezTo>
                  <a:pt x="17750" y="9636"/>
                  <a:pt x="17709" y="9585"/>
                  <a:pt x="17661" y="9550"/>
                </a:cubicBezTo>
                <a:cubicBezTo>
                  <a:pt x="17613" y="9515"/>
                  <a:pt x="17568" y="9495"/>
                  <a:pt x="17587" y="9550"/>
                </a:cubicBezTo>
              </a:path>
              <a:path w="3052" h="1365">
                <a:moveTo>
                  <a:pt x="18256" y="9525"/>
                </a:moveTo>
                <a:cubicBezTo>
                  <a:pt x="18166" y="9506"/>
                  <a:pt x="18099" y="9500"/>
                  <a:pt x="18008" y="9500"/>
                </a:cubicBezTo>
                <a:cubicBezTo>
                  <a:pt x="17964" y="9500"/>
                  <a:pt x="17881" y="9536"/>
                  <a:pt x="17884" y="9599"/>
                </a:cubicBezTo>
                <a:cubicBezTo>
                  <a:pt x="17886" y="9647"/>
                  <a:pt x="17951" y="9736"/>
                  <a:pt x="17983" y="9773"/>
                </a:cubicBezTo>
                <a:cubicBezTo>
                  <a:pt x="18064" y="9866"/>
                  <a:pt x="18150" y="9935"/>
                  <a:pt x="18207" y="10046"/>
                </a:cubicBezTo>
                <a:cubicBezTo>
                  <a:pt x="18243" y="10116"/>
                  <a:pt x="18256" y="10192"/>
                  <a:pt x="18256" y="10269"/>
                </a:cubicBezTo>
                <a:cubicBezTo>
                  <a:pt x="18256" y="10290"/>
                  <a:pt x="18220" y="10429"/>
                  <a:pt x="18157" y="10418"/>
                </a:cubicBezTo>
                <a:cubicBezTo>
                  <a:pt x="18110" y="10409"/>
                  <a:pt x="17989" y="10294"/>
                  <a:pt x="17983" y="10269"/>
                </a:cubicBezTo>
                <a:cubicBezTo>
                  <a:pt x="17967" y="10196"/>
                  <a:pt x="17992" y="10083"/>
                  <a:pt x="18008" y="10046"/>
                </a:cubicBezTo>
                <a:cubicBezTo>
                  <a:pt x="18047" y="9958"/>
                  <a:pt x="18114" y="9926"/>
                  <a:pt x="18157" y="9847"/>
                </a:cubicBezTo>
                <a:cubicBezTo>
                  <a:pt x="18210" y="9750"/>
                  <a:pt x="18250" y="9651"/>
                  <a:pt x="18306" y="9550"/>
                </a:cubicBezTo>
              </a:path>
              <a:path w="3052" h="1365">
                <a:moveTo>
                  <a:pt x="18380" y="9327"/>
                </a:moveTo>
                <a:cubicBezTo>
                  <a:pt x="18358" y="9379"/>
                  <a:pt x="18339" y="9441"/>
                  <a:pt x="18355" y="9500"/>
                </a:cubicBezTo>
                <a:cubicBezTo>
                  <a:pt x="18388" y="9619"/>
                  <a:pt x="18443" y="9617"/>
                  <a:pt x="18529" y="9550"/>
                </a:cubicBezTo>
                <a:cubicBezTo>
                  <a:pt x="18577" y="9512"/>
                  <a:pt x="18555" y="9445"/>
                  <a:pt x="18529" y="9401"/>
                </a:cubicBezTo>
                <a:cubicBezTo>
                  <a:pt x="18477" y="9314"/>
                  <a:pt x="18472" y="9302"/>
                  <a:pt x="18380" y="930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Ink 31"/>
          <p:cNvSpPr/>
          <p:nvPr/>
        </p:nvSpPr>
        <p:spPr>
          <a:xfrm>
            <a:off x="5589720" y="3848040"/>
            <a:ext cx="1063440" cy="536760"/>
          </a:xfrm>
          <a:custGeom>
            <a:avLst/>
            <a:gdLst/>
            <a:ahLst/>
            <a:rect l="l" t="t" r="r" b="b"/>
            <a:pathLst>
              <a:path w="2952" h="1489">
                <a:moveTo>
                  <a:pt x="15652" y="11162"/>
                </a:moveTo>
                <a:cubicBezTo>
                  <a:pt x="15652" y="11170"/>
                  <a:pt x="15652" y="11179"/>
                  <a:pt x="15652" y="11187"/>
                </a:cubicBezTo>
              </a:path>
              <a:path w="2952" h="1489">
                <a:moveTo>
                  <a:pt x="15652" y="11162"/>
                </a:moveTo>
                <a:cubicBezTo>
                  <a:pt x="15677" y="11170"/>
                  <a:pt x="15701" y="11179"/>
                  <a:pt x="15726" y="11187"/>
                </a:cubicBezTo>
              </a:path>
              <a:path w="2952" h="1489">
                <a:moveTo>
                  <a:pt x="15726" y="11187"/>
                </a:moveTo>
                <a:cubicBezTo>
                  <a:pt x="15779" y="11180"/>
                  <a:pt x="15876" y="11181"/>
                  <a:pt x="15925" y="11162"/>
                </a:cubicBezTo>
                <a:cubicBezTo>
                  <a:pt x="15947" y="11139"/>
                  <a:pt x="15952" y="11131"/>
                  <a:pt x="15974" y="11137"/>
                </a:cubicBezTo>
              </a:path>
              <a:path w="2952" h="1489">
                <a:moveTo>
                  <a:pt x="15602" y="11137"/>
                </a:moveTo>
                <a:cubicBezTo>
                  <a:pt x="15602" y="11220"/>
                  <a:pt x="15613" y="11293"/>
                  <a:pt x="15577" y="11361"/>
                </a:cubicBezTo>
                <a:cubicBezTo>
                  <a:pt x="15553" y="11410"/>
                  <a:pt x="15545" y="11427"/>
                  <a:pt x="15528" y="11460"/>
                </a:cubicBezTo>
                <a:cubicBezTo>
                  <a:pt x="15559" y="11442"/>
                  <a:pt x="15620" y="11370"/>
                  <a:pt x="15652" y="11361"/>
                </a:cubicBezTo>
                <a:cubicBezTo>
                  <a:pt x="15716" y="11343"/>
                  <a:pt x="15799" y="11358"/>
                  <a:pt x="15850" y="11385"/>
                </a:cubicBezTo>
                <a:cubicBezTo>
                  <a:pt x="15915" y="11419"/>
                  <a:pt x="15964" y="11508"/>
                  <a:pt x="15949" y="11584"/>
                </a:cubicBezTo>
                <a:cubicBezTo>
                  <a:pt x="15942" y="11621"/>
                  <a:pt x="15901" y="11738"/>
                  <a:pt x="15875" y="11757"/>
                </a:cubicBezTo>
                <a:cubicBezTo>
                  <a:pt x="15820" y="11799"/>
                  <a:pt x="15784" y="11847"/>
                  <a:pt x="15726" y="11881"/>
                </a:cubicBezTo>
                <a:cubicBezTo>
                  <a:pt x="15667" y="11916"/>
                  <a:pt x="15654" y="11927"/>
                  <a:pt x="15602" y="11906"/>
                </a:cubicBezTo>
              </a:path>
              <a:path w="2952" h="1489">
                <a:moveTo>
                  <a:pt x="16073" y="11162"/>
                </a:moveTo>
                <a:cubicBezTo>
                  <a:pt x="16049" y="11235"/>
                  <a:pt x="16048" y="11314"/>
                  <a:pt x="16024" y="11385"/>
                </a:cubicBezTo>
                <a:cubicBezTo>
                  <a:pt x="16000" y="11456"/>
                  <a:pt x="15999" y="11507"/>
                  <a:pt x="15999" y="11584"/>
                </a:cubicBezTo>
                <a:cubicBezTo>
                  <a:pt x="15999" y="11622"/>
                  <a:pt x="16028" y="11717"/>
                  <a:pt x="16073" y="11733"/>
                </a:cubicBezTo>
                <a:cubicBezTo>
                  <a:pt x="16115" y="11748"/>
                  <a:pt x="16207" y="11737"/>
                  <a:pt x="16222" y="11683"/>
                </a:cubicBezTo>
                <a:cubicBezTo>
                  <a:pt x="16244" y="11605"/>
                  <a:pt x="16251" y="11513"/>
                  <a:pt x="16272" y="11435"/>
                </a:cubicBezTo>
                <a:cubicBezTo>
                  <a:pt x="16286" y="11382"/>
                  <a:pt x="16323" y="11296"/>
                  <a:pt x="16297" y="11237"/>
                </a:cubicBezTo>
                <a:cubicBezTo>
                  <a:pt x="16257" y="11145"/>
                  <a:pt x="16196" y="11113"/>
                  <a:pt x="16098" y="11137"/>
                </a:cubicBezTo>
                <a:cubicBezTo>
                  <a:pt x="16041" y="11151"/>
                  <a:pt x="15979" y="11188"/>
                  <a:pt x="15925" y="11212"/>
                </a:cubicBezTo>
              </a:path>
              <a:path w="2952" h="1489">
                <a:moveTo>
                  <a:pt x="16371" y="11013"/>
                </a:moveTo>
                <a:cubicBezTo>
                  <a:pt x="16341" y="11043"/>
                  <a:pt x="16330" y="11057"/>
                  <a:pt x="16321" y="11088"/>
                </a:cubicBezTo>
              </a:path>
              <a:path w="2952" h="1489">
                <a:moveTo>
                  <a:pt x="16346" y="11187"/>
                </a:moveTo>
                <a:cubicBezTo>
                  <a:pt x="16427" y="11175"/>
                  <a:pt x="16441" y="11150"/>
                  <a:pt x="16446" y="11063"/>
                </a:cubicBezTo>
                <a:cubicBezTo>
                  <a:pt x="16452" y="10965"/>
                  <a:pt x="16362" y="11027"/>
                  <a:pt x="16297" y="11038"/>
                </a:cubicBezTo>
              </a:path>
              <a:path w="2952" h="1489">
                <a:moveTo>
                  <a:pt x="17190" y="10691"/>
                </a:moveTo>
                <a:cubicBezTo>
                  <a:pt x="17162" y="10773"/>
                  <a:pt x="17138" y="10892"/>
                  <a:pt x="17090" y="10964"/>
                </a:cubicBezTo>
                <a:cubicBezTo>
                  <a:pt x="17015" y="11077"/>
                  <a:pt x="16943" y="11195"/>
                  <a:pt x="16867" y="11311"/>
                </a:cubicBezTo>
                <a:cubicBezTo>
                  <a:pt x="16779" y="11445"/>
                  <a:pt x="16688" y="11576"/>
                  <a:pt x="16594" y="11708"/>
                </a:cubicBezTo>
                <a:cubicBezTo>
                  <a:pt x="16495" y="11848"/>
                  <a:pt x="16421" y="11974"/>
                  <a:pt x="16346" y="12129"/>
                </a:cubicBezTo>
                <a:cubicBezTo>
                  <a:pt x="16338" y="12146"/>
                  <a:pt x="16329" y="12162"/>
                  <a:pt x="16321" y="12179"/>
                </a:cubicBezTo>
              </a:path>
              <a:path w="2952" h="1489">
                <a:moveTo>
                  <a:pt x="17264" y="11013"/>
                </a:moveTo>
                <a:cubicBezTo>
                  <a:pt x="17240" y="11108"/>
                  <a:pt x="17239" y="11188"/>
                  <a:pt x="17239" y="11286"/>
                </a:cubicBezTo>
                <a:cubicBezTo>
                  <a:pt x="17239" y="11369"/>
                  <a:pt x="17225" y="11430"/>
                  <a:pt x="17214" y="11509"/>
                </a:cubicBezTo>
                <a:cubicBezTo>
                  <a:pt x="17201" y="11597"/>
                  <a:pt x="17194" y="11693"/>
                  <a:pt x="17190" y="11782"/>
                </a:cubicBezTo>
                <a:cubicBezTo>
                  <a:pt x="17187" y="11853"/>
                  <a:pt x="17165" y="11907"/>
                  <a:pt x="17165" y="11981"/>
                </a:cubicBezTo>
                <a:cubicBezTo>
                  <a:pt x="17165" y="11989"/>
                  <a:pt x="17165" y="11997"/>
                  <a:pt x="17165" y="12005"/>
                </a:cubicBezTo>
              </a:path>
              <a:path w="2952" h="1489">
                <a:moveTo>
                  <a:pt x="17587" y="11038"/>
                </a:moveTo>
                <a:cubicBezTo>
                  <a:pt x="17579" y="11130"/>
                  <a:pt x="17531" y="11175"/>
                  <a:pt x="17512" y="11261"/>
                </a:cubicBezTo>
                <a:cubicBezTo>
                  <a:pt x="17495" y="11338"/>
                  <a:pt x="17431" y="11385"/>
                  <a:pt x="17413" y="11460"/>
                </a:cubicBezTo>
                <a:cubicBezTo>
                  <a:pt x="17413" y="11476"/>
                  <a:pt x="17413" y="11493"/>
                  <a:pt x="17413" y="11509"/>
                </a:cubicBezTo>
                <a:cubicBezTo>
                  <a:pt x="17497" y="11499"/>
                  <a:pt x="17530" y="11496"/>
                  <a:pt x="17611" y="11509"/>
                </a:cubicBezTo>
                <a:cubicBezTo>
                  <a:pt x="17661" y="11517"/>
                  <a:pt x="17729" y="11556"/>
                  <a:pt x="17785" y="11534"/>
                </a:cubicBezTo>
                <a:cubicBezTo>
                  <a:pt x="17793" y="11526"/>
                  <a:pt x="17802" y="11517"/>
                  <a:pt x="17810" y="11509"/>
                </a:cubicBezTo>
              </a:path>
              <a:path w="2952" h="1489">
                <a:moveTo>
                  <a:pt x="17983" y="10864"/>
                </a:moveTo>
                <a:cubicBezTo>
                  <a:pt x="17948" y="10944"/>
                  <a:pt x="17934" y="11001"/>
                  <a:pt x="17934" y="11088"/>
                </a:cubicBezTo>
                <a:cubicBezTo>
                  <a:pt x="17934" y="11188"/>
                  <a:pt x="17909" y="11280"/>
                  <a:pt x="17909" y="11385"/>
                </a:cubicBezTo>
                <a:cubicBezTo>
                  <a:pt x="17909" y="11545"/>
                  <a:pt x="17913" y="11713"/>
                  <a:pt x="17884" y="11857"/>
                </a:cubicBezTo>
                <a:cubicBezTo>
                  <a:pt x="17884" y="11901"/>
                  <a:pt x="17881" y="11921"/>
                  <a:pt x="17909" y="11881"/>
                </a:cubicBezTo>
              </a:path>
              <a:path w="2952" h="1489">
                <a:moveTo>
                  <a:pt x="18306" y="10790"/>
                </a:moveTo>
                <a:cubicBezTo>
                  <a:pt x="18297" y="10860"/>
                  <a:pt x="18281" y="10915"/>
                  <a:pt x="18281" y="10988"/>
                </a:cubicBezTo>
                <a:cubicBezTo>
                  <a:pt x="18281" y="11005"/>
                  <a:pt x="18281" y="11021"/>
                  <a:pt x="18281" y="11038"/>
                </a:cubicBezTo>
              </a:path>
              <a:path w="2952" h="1489">
                <a:moveTo>
                  <a:pt x="18306" y="11112"/>
                </a:moveTo>
                <a:cubicBezTo>
                  <a:pt x="18372" y="11103"/>
                  <a:pt x="18382" y="11086"/>
                  <a:pt x="18430" y="11038"/>
                </a:cubicBezTo>
                <a:cubicBezTo>
                  <a:pt x="18459" y="11009"/>
                  <a:pt x="18489" y="10887"/>
                  <a:pt x="18479" y="10840"/>
                </a:cubicBezTo>
                <a:cubicBezTo>
                  <a:pt x="18466" y="10779"/>
                  <a:pt x="18385" y="10769"/>
                  <a:pt x="18331" y="10790"/>
                </a:cubicBezTo>
                <a:cubicBezTo>
                  <a:pt x="18323" y="10798"/>
                  <a:pt x="18314" y="10807"/>
                  <a:pt x="18306" y="10815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32"/>
          <p:cNvSpPr/>
          <p:nvPr/>
        </p:nvSpPr>
        <p:spPr>
          <a:xfrm>
            <a:off x="5348160" y="4626000"/>
            <a:ext cx="1528920" cy="839880"/>
          </a:xfrm>
          <a:custGeom>
            <a:avLst/>
            <a:gdLst/>
            <a:ahLst/>
            <a:rect l="l" t="t" r="r" b="b"/>
            <a:pathLst>
              <a:path w="4243" h="2332">
                <a:moveTo>
                  <a:pt x="15131" y="13295"/>
                </a:moveTo>
                <a:cubicBezTo>
                  <a:pt x="15145" y="13262"/>
                  <a:pt x="15143" y="13168"/>
                  <a:pt x="15081" y="13146"/>
                </a:cubicBezTo>
                <a:cubicBezTo>
                  <a:pt x="15022" y="13125"/>
                  <a:pt x="14948" y="13122"/>
                  <a:pt x="14883" y="13122"/>
                </a:cubicBezTo>
                <a:cubicBezTo>
                  <a:pt x="14925" y="13205"/>
                  <a:pt x="14948" y="13227"/>
                  <a:pt x="15032" y="13271"/>
                </a:cubicBezTo>
                <a:cubicBezTo>
                  <a:pt x="15100" y="13306"/>
                  <a:pt x="15142" y="13355"/>
                  <a:pt x="15180" y="13419"/>
                </a:cubicBezTo>
                <a:cubicBezTo>
                  <a:pt x="15215" y="13478"/>
                  <a:pt x="15253" y="13508"/>
                  <a:pt x="15205" y="13568"/>
                </a:cubicBezTo>
                <a:cubicBezTo>
                  <a:pt x="15159" y="13625"/>
                  <a:pt x="15015" y="13596"/>
                  <a:pt x="14957" y="13568"/>
                </a:cubicBezTo>
                <a:cubicBezTo>
                  <a:pt x="14925" y="13553"/>
                  <a:pt x="14866" y="13472"/>
                  <a:pt x="14858" y="13444"/>
                </a:cubicBezTo>
                <a:cubicBezTo>
                  <a:pt x="14858" y="13403"/>
                  <a:pt x="14858" y="13395"/>
                  <a:pt x="14858" y="13370"/>
                </a:cubicBezTo>
              </a:path>
              <a:path w="4243" h="2332">
                <a:moveTo>
                  <a:pt x="15429" y="13320"/>
                </a:moveTo>
                <a:cubicBezTo>
                  <a:pt x="15437" y="13358"/>
                  <a:pt x="15508" y="13578"/>
                  <a:pt x="15429" y="13469"/>
                </a:cubicBezTo>
              </a:path>
              <a:path w="4243" h="2332">
                <a:moveTo>
                  <a:pt x="15379" y="12923"/>
                </a:moveTo>
                <a:cubicBezTo>
                  <a:pt x="15379" y="12879"/>
                  <a:pt x="15376" y="12865"/>
                  <a:pt x="15404" y="12849"/>
                </a:cubicBezTo>
              </a:path>
              <a:path w="4243" h="2332">
                <a:moveTo>
                  <a:pt x="15652" y="13419"/>
                </a:moveTo>
                <a:cubicBezTo>
                  <a:pt x="15652" y="13444"/>
                  <a:pt x="15652" y="13469"/>
                  <a:pt x="15652" y="13494"/>
                </a:cubicBezTo>
                <a:cubicBezTo>
                  <a:pt x="15628" y="13447"/>
                  <a:pt x="15608" y="13356"/>
                  <a:pt x="15627" y="13295"/>
                </a:cubicBezTo>
                <a:cubicBezTo>
                  <a:pt x="15665" y="13202"/>
                  <a:pt x="15658" y="13184"/>
                  <a:pt x="15701" y="13146"/>
                </a:cubicBezTo>
                <a:cubicBezTo>
                  <a:pt x="15731" y="13176"/>
                  <a:pt x="15793" y="13232"/>
                  <a:pt x="15801" y="13271"/>
                </a:cubicBezTo>
                <a:cubicBezTo>
                  <a:pt x="15816" y="13344"/>
                  <a:pt x="15809" y="13421"/>
                  <a:pt x="15825" y="13494"/>
                </a:cubicBezTo>
                <a:cubicBezTo>
                  <a:pt x="15839" y="13558"/>
                  <a:pt x="15865" y="13616"/>
                  <a:pt x="15900" y="13667"/>
                </a:cubicBezTo>
              </a:path>
              <a:path w="4243" h="2332">
                <a:moveTo>
                  <a:pt x="16123" y="13022"/>
                </a:moveTo>
                <a:cubicBezTo>
                  <a:pt x="16217" y="13016"/>
                  <a:pt x="16302" y="12998"/>
                  <a:pt x="16396" y="12998"/>
                </a:cubicBezTo>
              </a:path>
              <a:path w="4243" h="2332">
                <a:moveTo>
                  <a:pt x="16297" y="12973"/>
                </a:moveTo>
                <a:cubicBezTo>
                  <a:pt x="16254" y="12982"/>
                  <a:pt x="16097" y="12989"/>
                  <a:pt x="16073" y="13072"/>
                </a:cubicBezTo>
                <a:cubicBezTo>
                  <a:pt x="16049" y="13155"/>
                  <a:pt x="16140" y="13210"/>
                  <a:pt x="16197" y="13246"/>
                </a:cubicBezTo>
                <a:cubicBezTo>
                  <a:pt x="16236" y="13271"/>
                  <a:pt x="16316" y="13310"/>
                  <a:pt x="16346" y="13345"/>
                </a:cubicBezTo>
                <a:cubicBezTo>
                  <a:pt x="16377" y="13381"/>
                  <a:pt x="16430" y="13472"/>
                  <a:pt x="16421" y="13519"/>
                </a:cubicBezTo>
                <a:cubicBezTo>
                  <a:pt x="16400" y="13632"/>
                  <a:pt x="16294" y="13614"/>
                  <a:pt x="16222" y="13568"/>
                </a:cubicBezTo>
                <a:cubicBezTo>
                  <a:pt x="16136" y="13512"/>
                  <a:pt x="16098" y="13507"/>
                  <a:pt x="16123" y="13419"/>
                </a:cubicBezTo>
              </a:path>
              <a:path w="4243" h="2332">
                <a:moveTo>
                  <a:pt x="16669" y="13022"/>
                </a:moveTo>
                <a:cubicBezTo>
                  <a:pt x="16602" y="13004"/>
                  <a:pt x="16511" y="12964"/>
                  <a:pt x="16495" y="13072"/>
                </a:cubicBezTo>
                <a:cubicBezTo>
                  <a:pt x="16475" y="13208"/>
                  <a:pt x="16565" y="13258"/>
                  <a:pt x="16619" y="13370"/>
                </a:cubicBezTo>
                <a:cubicBezTo>
                  <a:pt x="16656" y="13447"/>
                  <a:pt x="16710" y="13580"/>
                  <a:pt x="16694" y="13667"/>
                </a:cubicBezTo>
                <a:cubicBezTo>
                  <a:pt x="16686" y="13684"/>
                  <a:pt x="16677" y="13700"/>
                  <a:pt x="16669" y="13717"/>
                </a:cubicBezTo>
                <a:cubicBezTo>
                  <a:pt x="16605" y="13691"/>
                  <a:pt x="16538" y="13671"/>
                  <a:pt x="16520" y="13593"/>
                </a:cubicBezTo>
                <a:cubicBezTo>
                  <a:pt x="16503" y="13523"/>
                  <a:pt x="16519" y="13432"/>
                  <a:pt x="16545" y="13370"/>
                </a:cubicBezTo>
                <a:cubicBezTo>
                  <a:pt x="16567" y="13317"/>
                  <a:pt x="16647" y="13231"/>
                  <a:pt x="16694" y="13196"/>
                </a:cubicBezTo>
                <a:cubicBezTo>
                  <a:pt x="16733" y="13167"/>
                  <a:pt x="16779" y="13152"/>
                  <a:pt x="16818" y="13122"/>
                </a:cubicBezTo>
              </a:path>
              <a:path w="4243" h="2332">
                <a:moveTo>
                  <a:pt x="16669" y="13791"/>
                </a:moveTo>
                <a:cubicBezTo>
                  <a:pt x="16482" y="13815"/>
                  <a:pt x="16312" y="13816"/>
                  <a:pt x="16123" y="13816"/>
                </a:cubicBezTo>
                <a:cubicBezTo>
                  <a:pt x="15913" y="13816"/>
                  <a:pt x="15709" y="13824"/>
                  <a:pt x="15503" y="13841"/>
                </a:cubicBezTo>
                <a:cubicBezTo>
                  <a:pt x="15403" y="13849"/>
                  <a:pt x="15300" y="13835"/>
                  <a:pt x="15205" y="13866"/>
                </a:cubicBezTo>
                <a:cubicBezTo>
                  <a:pt x="15161" y="13880"/>
                  <a:pt x="15137" y="13909"/>
                  <a:pt x="15106" y="13940"/>
                </a:cubicBezTo>
              </a:path>
              <a:path w="4243" h="2332">
                <a:moveTo>
                  <a:pt x="15751" y="13965"/>
                </a:moveTo>
                <a:lnTo>
                  <a:pt x="15751" y="14238"/>
                </a:lnTo>
                <a:lnTo>
                  <a:pt x="15726" y="14312"/>
                </a:lnTo>
                <a:lnTo>
                  <a:pt x="15726" y="14387"/>
                </a:lnTo>
                <a:lnTo>
                  <a:pt x="15726" y="14436"/>
                </a:lnTo>
                <a:lnTo>
                  <a:pt x="15726" y="14486"/>
                </a:lnTo>
                <a:lnTo>
                  <a:pt x="15701" y="14560"/>
                </a:lnTo>
                <a:lnTo>
                  <a:pt x="15701" y="14635"/>
                </a:lnTo>
                <a:lnTo>
                  <a:pt x="15701" y="14610"/>
                </a:lnTo>
              </a:path>
              <a:path w="4243" h="2332">
                <a:moveTo>
                  <a:pt x="15925" y="13990"/>
                </a:moveTo>
                <a:cubicBezTo>
                  <a:pt x="15925" y="14152"/>
                  <a:pt x="15944" y="14302"/>
                  <a:pt x="15949" y="14461"/>
                </a:cubicBezTo>
                <a:cubicBezTo>
                  <a:pt x="15951" y="14541"/>
                  <a:pt x="15954" y="14594"/>
                  <a:pt x="15974" y="14660"/>
                </a:cubicBezTo>
                <a:cubicBezTo>
                  <a:pt x="15974" y="14668"/>
                  <a:pt x="15974" y="14676"/>
                  <a:pt x="15974" y="14684"/>
                </a:cubicBezTo>
              </a:path>
              <a:path w="4243" h="2332">
                <a:moveTo>
                  <a:pt x="16148" y="14610"/>
                </a:moveTo>
                <a:cubicBezTo>
                  <a:pt x="16183" y="14575"/>
                  <a:pt x="16196" y="14553"/>
                  <a:pt x="16197" y="14511"/>
                </a:cubicBezTo>
              </a:path>
              <a:path w="4243" h="2332">
                <a:moveTo>
                  <a:pt x="16346" y="14114"/>
                </a:moveTo>
                <a:cubicBezTo>
                  <a:pt x="16321" y="14203"/>
                  <a:pt x="16308" y="14252"/>
                  <a:pt x="16346" y="14337"/>
                </a:cubicBezTo>
                <a:cubicBezTo>
                  <a:pt x="16375" y="14401"/>
                  <a:pt x="16416" y="14401"/>
                  <a:pt x="16470" y="14436"/>
                </a:cubicBezTo>
              </a:path>
              <a:path w="4243" h="2332">
                <a:moveTo>
                  <a:pt x="16545" y="14039"/>
                </a:moveTo>
                <a:cubicBezTo>
                  <a:pt x="16499" y="14040"/>
                  <a:pt x="16520" y="14131"/>
                  <a:pt x="16520" y="14213"/>
                </a:cubicBezTo>
                <a:cubicBezTo>
                  <a:pt x="16520" y="14314"/>
                  <a:pt x="16495" y="14408"/>
                  <a:pt x="16495" y="14511"/>
                </a:cubicBezTo>
                <a:cubicBezTo>
                  <a:pt x="16495" y="14575"/>
                  <a:pt x="16485" y="14754"/>
                  <a:pt x="16520" y="14808"/>
                </a:cubicBezTo>
                <a:cubicBezTo>
                  <a:pt x="16528" y="14808"/>
                  <a:pt x="16537" y="14808"/>
                  <a:pt x="16545" y="14808"/>
                </a:cubicBezTo>
              </a:path>
              <a:path w="4243" h="2332">
                <a:moveTo>
                  <a:pt x="16942" y="13990"/>
                </a:moveTo>
                <a:cubicBezTo>
                  <a:pt x="17052" y="13966"/>
                  <a:pt x="17067" y="13970"/>
                  <a:pt x="17165" y="13990"/>
                </a:cubicBezTo>
              </a:path>
              <a:path w="4243" h="2332">
                <a:moveTo>
                  <a:pt x="17016" y="14188"/>
                </a:moveTo>
                <a:cubicBezTo>
                  <a:pt x="17111" y="14249"/>
                  <a:pt x="17135" y="14278"/>
                  <a:pt x="17239" y="14238"/>
                </a:cubicBezTo>
              </a:path>
              <a:path w="4243" h="2332">
                <a:moveTo>
                  <a:pt x="17711" y="13370"/>
                </a:moveTo>
                <a:cubicBezTo>
                  <a:pt x="17674" y="13356"/>
                  <a:pt x="17562" y="13306"/>
                  <a:pt x="17537" y="13370"/>
                </a:cubicBezTo>
                <a:cubicBezTo>
                  <a:pt x="17507" y="13448"/>
                  <a:pt x="17581" y="13529"/>
                  <a:pt x="17611" y="13593"/>
                </a:cubicBezTo>
                <a:cubicBezTo>
                  <a:pt x="17654" y="13685"/>
                  <a:pt x="17712" y="13779"/>
                  <a:pt x="17760" y="13866"/>
                </a:cubicBezTo>
                <a:cubicBezTo>
                  <a:pt x="17666" y="13902"/>
                  <a:pt x="17641" y="13888"/>
                  <a:pt x="17562" y="13816"/>
                </a:cubicBezTo>
                <a:cubicBezTo>
                  <a:pt x="17514" y="13772"/>
                  <a:pt x="17512" y="13757"/>
                  <a:pt x="17512" y="13692"/>
                </a:cubicBezTo>
              </a:path>
              <a:path w="4243" h="2332">
                <a:moveTo>
                  <a:pt x="17835" y="13395"/>
                </a:moveTo>
                <a:cubicBezTo>
                  <a:pt x="17851" y="13491"/>
                  <a:pt x="17895" y="13670"/>
                  <a:pt x="17859" y="13767"/>
                </a:cubicBezTo>
                <a:cubicBezTo>
                  <a:pt x="17851" y="13767"/>
                  <a:pt x="17843" y="13767"/>
                  <a:pt x="17835" y="13767"/>
                </a:cubicBezTo>
              </a:path>
              <a:path w="4243" h="2332">
                <a:moveTo>
                  <a:pt x="17760" y="13047"/>
                </a:moveTo>
                <a:cubicBezTo>
                  <a:pt x="17783" y="13024"/>
                  <a:pt x="17787" y="13016"/>
                  <a:pt x="17810" y="13022"/>
                </a:cubicBezTo>
              </a:path>
              <a:path w="4243" h="2332">
                <a:moveTo>
                  <a:pt x="18008" y="13643"/>
                </a:moveTo>
                <a:cubicBezTo>
                  <a:pt x="18008" y="13668"/>
                  <a:pt x="18008" y="13692"/>
                  <a:pt x="18008" y="13717"/>
                </a:cubicBezTo>
                <a:cubicBezTo>
                  <a:pt x="18016" y="13663"/>
                  <a:pt x="18017" y="13599"/>
                  <a:pt x="18033" y="13543"/>
                </a:cubicBezTo>
                <a:cubicBezTo>
                  <a:pt x="18052" y="13475"/>
                  <a:pt x="18072" y="13450"/>
                  <a:pt x="18107" y="13395"/>
                </a:cubicBezTo>
                <a:cubicBezTo>
                  <a:pt x="18185" y="13273"/>
                  <a:pt x="18212" y="13372"/>
                  <a:pt x="18256" y="13444"/>
                </a:cubicBezTo>
                <a:cubicBezTo>
                  <a:pt x="18289" y="13500"/>
                  <a:pt x="18302" y="13573"/>
                  <a:pt x="18306" y="13643"/>
                </a:cubicBezTo>
                <a:cubicBezTo>
                  <a:pt x="18309" y="13706"/>
                  <a:pt x="18325" y="13752"/>
                  <a:pt x="18331" y="13816"/>
                </a:cubicBezTo>
              </a:path>
              <a:path w="4243" h="2332">
                <a:moveTo>
                  <a:pt x="18479" y="13097"/>
                </a:moveTo>
                <a:cubicBezTo>
                  <a:pt x="18510" y="13159"/>
                  <a:pt x="18504" y="13221"/>
                  <a:pt x="18504" y="13295"/>
                </a:cubicBezTo>
                <a:cubicBezTo>
                  <a:pt x="18504" y="13403"/>
                  <a:pt x="18512" y="13493"/>
                  <a:pt x="18529" y="13593"/>
                </a:cubicBezTo>
                <a:cubicBezTo>
                  <a:pt x="18529" y="13643"/>
                  <a:pt x="18529" y="13659"/>
                  <a:pt x="18529" y="13692"/>
                </a:cubicBezTo>
              </a:path>
              <a:path w="4243" h="2332">
                <a:moveTo>
                  <a:pt x="18678" y="13097"/>
                </a:moveTo>
                <a:cubicBezTo>
                  <a:pt x="18669" y="13177"/>
                  <a:pt x="18641" y="13227"/>
                  <a:pt x="18678" y="13295"/>
                </a:cubicBezTo>
                <a:cubicBezTo>
                  <a:pt x="18706" y="13347"/>
                  <a:pt x="18737" y="13400"/>
                  <a:pt x="18777" y="13444"/>
                </a:cubicBezTo>
                <a:cubicBezTo>
                  <a:pt x="18834" y="13508"/>
                  <a:pt x="18849" y="13483"/>
                  <a:pt x="18926" y="13469"/>
                </a:cubicBezTo>
              </a:path>
              <a:path w="4243" h="2332">
                <a:moveTo>
                  <a:pt x="18926" y="13022"/>
                </a:moveTo>
                <a:cubicBezTo>
                  <a:pt x="18916" y="13147"/>
                  <a:pt x="18901" y="13266"/>
                  <a:pt x="18901" y="13395"/>
                </a:cubicBezTo>
                <a:cubicBezTo>
                  <a:pt x="18901" y="13505"/>
                  <a:pt x="18885" y="13585"/>
                  <a:pt x="18901" y="13692"/>
                </a:cubicBezTo>
                <a:cubicBezTo>
                  <a:pt x="18912" y="13763"/>
                  <a:pt x="18892" y="13815"/>
                  <a:pt x="18901" y="13891"/>
                </a:cubicBezTo>
              </a:path>
              <a:path w="4243" h="2332">
                <a:moveTo>
                  <a:pt x="19100" y="13866"/>
                </a:moveTo>
                <a:cubicBezTo>
                  <a:pt x="19001" y="13902"/>
                  <a:pt x="18904" y="13937"/>
                  <a:pt x="18802" y="13965"/>
                </a:cubicBezTo>
                <a:cubicBezTo>
                  <a:pt x="18667" y="14002"/>
                  <a:pt x="18519" y="14011"/>
                  <a:pt x="18380" y="14015"/>
                </a:cubicBezTo>
                <a:cubicBezTo>
                  <a:pt x="18238" y="14019"/>
                  <a:pt x="18100" y="14036"/>
                  <a:pt x="17959" y="14039"/>
                </a:cubicBezTo>
                <a:cubicBezTo>
                  <a:pt x="17794" y="14043"/>
                  <a:pt x="17628" y="14039"/>
                  <a:pt x="17462" y="14039"/>
                </a:cubicBezTo>
              </a:path>
              <a:path w="4243" h="2332">
                <a:moveTo>
                  <a:pt x="18430" y="14461"/>
                </a:moveTo>
                <a:cubicBezTo>
                  <a:pt x="18369" y="14446"/>
                  <a:pt x="18382" y="14389"/>
                  <a:pt x="18331" y="14362"/>
                </a:cubicBezTo>
                <a:cubicBezTo>
                  <a:pt x="18239" y="14313"/>
                  <a:pt x="18169" y="14346"/>
                  <a:pt x="18083" y="14387"/>
                </a:cubicBezTo>
                <a:cubicBezTo>
                  <a:pt x="18007" y="14423"/>
                  <a:pt x="17975" y="14474"/>
                  <a:pt x="17959" y="14560"/>
                </a:cubicBezTo>
                <a:cubicBezTo>
                  <a:pt x="17947" y="14624"/>
                  <a:pt x="17979" y="14753"/>
                  <a:pt x="18008" y="14808"/>
                </a:cubicBezTo>
                <a:cubicBezTo>
                  <a:pt x="18062" y="14911"/>
                  <a:pt x="18184" y="15018"/>
                  <a:pt x="18281" y="15081"/>
                </a:cubicBezTo>
                <a:cubicBezTo>
                  <a:pt x="18318" y="15105"/>
                  <a:pt x="18390" y="15170"/>
                  <a:pt x="18430" y="15180"/>
                </a:cubicBezTo>
                <a:cubicBezTo>
                  <a:pt x="18471" y="15180"/>
                  <a:pt x="18495" y="15180"/>
                  <a:pt x="18455" y="15180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33"/>
          <p:cNvSpPr/>
          <p:nvPr/>
        </p:nvSpPr>
        <p:spPr>
          <a:xfrm>
            <a:off x="7153200" y="4152960"/>
            <a:ext cx="1677960" cy="438120"/>
          </a:xfrm>
          <a:custGeom>
            <a:avLst/>
            <a:gdLst/>
            <a:ahLst/>
            <a:rect l="l" t="t" r="r" b="b"/>
            <a:pathLst>
              <a:path w="4664" h="1217">
                <a:moveTo>
                  <a:pt x="20141" y="12229"/>
                </a:moveTo>
                <a:cubicBezTo>
                  <a:pt x="20165" y="12189"/>
                  <a:pt x="20186" y="12107"/>
                  <a:pt x="20166" y="12055"/>
                </a:cubicBezTo>
                <a:cubicBezTo>
                  <a:pt x="20154" y="12023"/>
                  <a:pt x="20114" y="11984"/>
                  <a:pt x="20092" y="11956"/>
                </a:cubicBezTo>
                <a:cubicBezTo>
                  <a:pt x="20037" y="11987"/>
                  <a:pt x="19981" y="12026"/>
                  <a:pt x="19943" y="12080"/>
                </a:cubicBezTo>
                <a:cubicBezTo>
                  <a:pt x="19910" y="12126"/>
                  <a:pt x="19879" y="12247"/>
                  <a:pt x="19869" y="12303"/>
                </a:cubicBezTo>
                <a:cubicBezTo>
                  <a:pt x="19853" y="12389"/>
                  <a:pt x="19890" y="12498"/>
                  <a:pt x="19918" y="12576"/>
                </a:cubicBezTo>
                <a:cubicBezTo>
                  <a:pt x="19943" y="12645"/>
                  <a:pt x="20008" y="12689"/>
                  <a:pt x="20067" y="12725"/>
                </a:cubicBezTo>
                <a:cubicBezTo>
                  <a:pt x="20136" y="12767"/>
                  <a:pt x="20172" y="12748"/>
                  <a:pt x="20241" y="12725"/>
                </a:cubicBezTo>
              </a:path>
              <a:path w="4664" h="1217">
                <a:moveTo>
                  <a:pt x="20489" y="12278"/>
                </a:moveTo>
                <a:cubicBezTo>
                  <a:pt x="20589" y="12261"/>
                  <a:pt x="20662" y="12254"/>
                  <a:pt x="20762" y="12254"/>
                </a:cubicBezTo>
              </a:path>
              <a:path w="4664" h="1217">
                <a:moveTo>
                  <a:pt x="20489" y="12378"/>
                </a:moveTo>
                <a:cubicBezTo>
                  <a:pt x="20572" y="12408"/>
                  <a:pt x="20624" y="12427"/>
                  <a:pt x="20712" y="12427"/>
                </a:cubicBezTo>
                <a:cubicBezTo>
                  <a:pt x="20737" y="12427"/>
                  <a:pt x="20761" y="12427"/>
                  <a:pt x="20786" y="12427"/>
                </a:cubicBezTo>
              </a:path>
              <a:path w="4664" h="1217">
                <a:moveTo>
                  <a:pt x="23366" y="11534"/>
                </a:moveTo>
                <a:cubicBezTo>
                  <a:pt x="23357" y="11609"/>
                  <a:pt x="23327" y="11664"/>
                  <a:pt x="23292" y="11733"/>
                </a:cubicBezTo>
                <a:cubicBezTo>
                  <a:pt x="23257" y="11804"/>
                  <a:pt x="23171" y="11868"/>
                  <a:pt x="23118" y="11931"/>
                </a:cubicBezTo>
                <a:cubicBezTo>
                  <a:pt x="23032" y="12034"/>
                  <a:pt x="22927" y="12122"/>
                  <a:pt x="22845" y="12229"/>
                </a:cubicBezTo>
                <a:cubicBezTo>
                  <a:pt x="22778" y="12316"/>
                  <a:pt x="22700" y="12454"/>
                  <a:pt x="22622" y="12526"/>
                </a:cubicBezTo>
                <a:cubicBezTo>
                  <a:pt x="22561" y="12583"/>
                  <a:pt x="22547" y="12629"/>
                  <a:pt x="22498" y="12700"/>
                </a:cubicBezTo>
                <a:cubicBezTo>
                  <a:pt x="22490" y="12708"/>
                  <a:pt x="22481" y="12717"/>
                  <a:pt x="22473" y="12725"/>
                </a:cubicBezTo>
              </a:path>
              <a:path w="4664" h="1217">
                <a:moveTo>
                  <a:pt x="21109" y="11906"/>
                </a:moveTo>
                <a:cubicBezTo>
                  <a:pt x="21109" y="12124"/>
                  <a:pt x="21104" y="12334"/>
                  <a:pt x="21084" y="12551"/>
                </a:cubicBezTo>
                <a:cubicBezTo>
                  <a:pt x="21082" y="12575"/>
                  <a:pt x="21084" y="12763"/>
                  <a:pt x="21084" y="12626"/>
                </a:cubicBezTo>
              </a:path>
              <a:path w="4664" h="1217">
                <a:moveTo>
                  <a:pt x="21307" y="11981"/>
                </a:moveTo>
                <a:cubicBezTo>
                  <a:pt x="21274" y="12088"/>
                  <a:pt x="21237" y="12191"/>
                  <a:pt x="21233" y="12303"/>
                </a:cubicBezTo>
                <a:cubicBezTo>
                  <a:pt x="21229" y="12402"/>
                  <a:pt x="21218" y="12455"/>
                  <a:pt x="21233" y="12551"/>
                </a:cubicBezTo>
                <a:cubicBezTo>
                  <a:pt x="21244" y="12619"/>
                  <a:pt x="21251" y="12701"/>
                  <a:pt x="21332" y="12725"/>
                </a:cubicBezTo>
                <a:cubicBezTo>
                  <a:pt x="21399" y="12745"/>
                  <a:pt x="21431" y="12673"/>
                  <a:pt x="21456" y="12626"/>
                </a:cubicBezTo>
                <a:cubicBezTo>
                  <a:pt x="21500" y="12543"/>
                  <a:pt x="21536" y="12495"/>
                  <a:pt x="21555" y="12402"/>
                </a:cubicBezTo>
                <a:cubicBezTo>
                  <a:pt x="21579" y="12288"/>
                  <a:pt x="21586" y="12188"/>
                  <a:pt x="21555" y="12080"/>
                </a:cubicBezTo>
                <a:cubicBezTo>
                  <a:pt x="21538" y="12020"/>
                  <a:pt x="21499" y="11974"/>
                  <a:pt x="21456" y="11931"/>
                </a:cubicBezTo>
                <a:cubicBezTo>
                  <a:pt x="21448" y="11923"/>
                  <a:pt x="21439" y="11914"/>
                  <a:pt x="21431" y="11906"/>
                </a:cubicBezTo>
                <a:cubicBezTo>
                  <a:pt x="21360" y="11927"/>
                  <a:pt x="21348" y="11960"/>
                  <a:pt x="21307" y="12030"/>
                </a:cubicBezTo>
              </a:path>
              <a:path w="4664" h="1217">
                <a:moveTo>
                  <a:pt x="21630" y="12601"/>
                </a:moveTo>
                <a:cubicBezTo>
                  <a:pt x="21630" y="12645"/>
                  <a:pt x="21626" y="12665"/>
                  <a:pt x="21654" y="12626"/>
                </a:cubicBezTo>
              </a:path>
              <a:path w="4664" h="1217">
                <a:moveTo>
                  <a:pt x="21779" y="11956"/>
                </a:moveTo>
                <a:cubicBezTo>
                  <a:pt x="21825" y="11894"/>
                  <a:pt x="21930" y="11770"/>
                  <a:pt x="21977" y="11931"/>
                </a:cubicBezTo>
                <a:cubicBezTo>
                  <a:pt x="21993" y="11987"/>
                  <a:pt x="21984" y="12089"/>
                  <a:pt x="21952" y="12129"/>
                </a:cubicBezTo>
                <a:cubicBezTo>
                  <a:pt x="21916" y="12174"/>
                  <a:pt x="21869" y="12213"/>
                  <a:pt x="21828" y="12254"/>
                </a:cubicBezTo>
                <a:cubicBezTo>
                  <a:pt x="21912" y="12264"/>
                  <a:pt x="21958" y="12278"/>
                  <a:pt x="22002" y="12353"/>
                </a:cubicBezTo>
                <a:cubicBezTo>
                  <a:pt x="22038" y="12414"/>
                  <a:pt x="22070" y="12504"/>
                  <a:pt x="22051" y="12576"/>
                </a:cubicBezTo>
                <a:cubicBezTo>
                  <a:pt x="22035" y="12636"/>
                  <a:pt x="22020" y="12707"/>
                  <a:pt x="21952" y="12725"/>
                </a:cubicBezTo>
                <a:cubicBezTo>
                  <a:pt x="21911" y="12736"/>
                  <a:pt x="21832" y="12699"/>
                  <a:pt x="21803" y="12675"/>
                </a:cubicBezTo>
                <a:cubicBezTo>
                  <a:pt x="21781" y="12652"/>
                  <a:pt x="21776" y="12644"/>
                  <a:pt x="21754" y="12650"/>
                </a:cubicBezTo>
              </a:path>
              <a:path w="4664" h="1217">
                <a:moveTo>
                  <a:pt x="23292" y="12080"/>
                </a:moveTo>
                <a:cubicBezTo>
                  <a:pt x="23339" y="12032"/>
                  <a:pt x="23381" y="11989"/>
                  <a:pt x="23440" y="11956"/>
                </a:cubicBezTo>
                <a:cubicBezTo>
                  <a:pt x="23488" y="11932"/>
                  <a:pt x="23503" y="11924"/>
                  <a:pt x="23540" y="11931"/>
                </a:cubicBezTo>
                <a:cubicBezTo>
                  <a:pt x="23570" y="11983"/>
                  <a:pt x="23576" y="12037"/>
                  <a:pt x="23515" y="12080"/>
                </a:cubicBezTo>
                <a:cubicBezTo>
                  <a:pt x="23476" y="12108"/>
                  <a:pt x="23318" y="12141"/>
                  <a:pt x="23391" y="12129"/>
                </a:cubicBezTo>
                <a:cubicBezTo>
                  <a:pt x="23454" y="12118"/>
                  <a:pt x="23541" y="12132"/>
                  <a:pt x="23564" y="12204"/>
                </a:cubicBezTo>
                <a:cubicBezTo>
                  <a:pt x="23587" y="12275"/>
                  <a:pt x="23563" y="12387"/>
                  <a:pt x="23540" y="12452"/>
                </a:cubicBezTo>
                <a:cubicBezTo>
                  <a:pt x="23512" y="12533"/>
                  <a:pt x="23467" y="12561"/>
                  <a:pt x="23391" y="12576"/>
                </a:cubicBezTo>
                <a:cubicBezTo>
                  <a:pt x="23370" y="12580"/>
                  <a:pt x="23242" y="12552"/>
                  <a:pt x="23242" y="12526"/>
                </a:cubicBezTo>
                <a:cubicBezTo>
                  <a:pt x="23250" y="12510"/>
                  <a:pt x="23259" y="12493"/>
                  <a:pt x="23267" y="12477"/>
                </a:cubicBezTo>
              </a:path>
              <a:path w="4664" h="1217">
                <a:moveTo>
                  <a:pt x="23614" y="12626"/>
                </a:moveTo>
                <a:cubicBezTo>
                  <a:pt x="23622" y="12618"/>
                  <a:pt x="23631" y="12609"/>
                  <a:pt x="23639" y="12601"/>
                </a:cubicBezTo>
              </a:path>
              <a:path w="4664" h="1217">
                <a:moveTo>
                  <a:pt x="23862" y="12080"/>
                </a:moveTo>
                <a:cubicBezTo>
                  <a:pt x="23904" y="12038"/>
                  <a:pt x="23922" y="11970"/>
                  <a:pt x="23986" y="11981"/>
                </a:cubicBezTo>
                <a:cubicBezTo>
                  <a:pt x="24082" y="11997"/>
                  <a:pt x="24094" y="12103"/>
                  <a:pt x="24085" y="12179"/>
                </a:cubicBezTo>
                <a:cubicBezTo>
                  <a:pt x="24076" y="12261"/>
                  <a:pt x="24059" y="12358"/>
                  <a:pt x="24011" y="12427"/>
                </a:cubicBezTo>
                <a:cubicBezTo>
                  <a:pt x="23977" y="12475"/>
                  <a:pt x="23982" y="12526"/>
                  <a:pt x="23937" y="12576"/>
                </a:cubicBezTo>
                <a:cubicBezTo>
                  <a:pt x="23909" y="12604"/>
                  <a:pt x="23895" y="12613"/>
                  <a:pt x="23862" y="12601"/>
                </a:cubicBezTo>
                <a:cubicBezTo>
                  <a:pt x="23825" y="12540"/>
                  <a:pt x="23830" y="12490"/>
                  <a:pt x="23862" y="12427"/>
                </a:cubicBezTo>
                <a:cubicBezTo>
                  <a:pt x="23886" y="12379"/>
                  <a:pt x="23893" y="12363"/>
                  <a:pt x="23937" y="12378"/>
                </a:cubicBezTo>
                <a:cubicBezTo>
                  <a:pt x="23974" y="12425"/>
                  <a:pt x="24000" y="12478"/>
                  <a:pt x="24036" y="12526"/>
                </a:cubicBezTo>
                <a:cubicBezTo>
                  <a:pt x="24063" y="12562"/>
                  <a:pt x="24103" y="12594"/>
                  <a:pt x="24135" y="12626"/>
                </a:cubicBezTo>
              </a:path>
              <a:path w="4664" h="1217">
                <a:moveTo>
                  <a:pt x="24309" y="12005"/>
                </a:moveTo>
                <a:cubicBezTo>
                  <a:pt x="24406" y="11979"/>
                  <a:pt x="24439" y="11994"/>
                  <a:pt x="24532" y="12005"/>
                </a:cubicBezTo>
              </a:path>
              <a:path w="4664" h="1217">
                <a:moveTo>
                  <a:pt x="24284" y="11981"/>
                </a:moveTo>
                <a:cubicBezTo>
                  <a:pt x="24232" y="12010"/>
                  <a:pt x="24175" y="12040"/>
                  <a:pt x="24160" y="12105"/>
                </a:cubicBezTo>
                <a:cubicBezTo>
                  <a:pt x="24140" y="12188"/>
                  <a:pt x="24196" y="12230"/>
                  <a:pt x="24259" y="12179"/>
                </a:cubicBezTo>
                <a:cubicBezTo>
                  <a:pt x="24316" y="12133"/>
                  <a:pt x="24337" y="12158"/>
                  <a:pt x="24383" y="12204"/>
                </a:cubicBezTo>
                <a:cubicBezTo>
                  <a:pt x="24448" y="12269"/>
                  <a:pt x="24468" y="12311"/>
                  <a:pt x="24482" y="12402"/>
                </a:cubicBezTo>
                <a:cubicBezTo>
                  <a:pt x="24493" y="12473"/>
                  <a:pt x="24529" y="12543"/>
                  <a:pt x="24482" y="12601"/>
                </a:cubicBezTo>
                <a:cubicBezTo>
                  <a:pt x="24449" y="12642"/>
                  <a:pt x="24371" y="12620"/>
                  <a:pt x="24333" y="12601"/>
                </a:cubicBezTo>
                <a:cubicBezTo>
                  <a:pt x="24279" y="12574"/>
                  <a:pt x="24225" y="12559"/>
                  <a:pt x="24160" y="125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Lesson 6.1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rt three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Ink 3"/>
          <p:cNvSpPr/>
          <p:nvPr/>
        </p:nvSpPr>
        <p:spPr>
          <a:xfrm>
            <a:off x="250920" y="295200"/>
            <a:ext cx="411120" cy="384120"/>
          </a:xfrm>
          <a:custGeom>
            <a:avLst/>
            <a:gdLst/>
            <a:ahLst/>
            <a:rect l="l" t="t" r="r" b="b"/>
            <a:pathLst>
              <a:path w="1142" h="1067">
                <a:moveTo>
                  <a:pt x="1017" y="1067"/>
                </a:moveTo>
                <a:cubicBezTo>
                  <a:pt x="1031" y="1167"/>
                  <a:pt x="1042" y="1216"/>
                  <a:pt x="1042" y="1339"/>
                </a:cubicBezTo>
                <a:cubicBezTo>
                  <a:pt x="1042" y="1429"/>
                  <a:pt x="1056" y="1505"/>
                  <a:pt x="1067" y="1588"/>
                </a:cubicBezTo>
                <a:cubicBezTo>
                  <a:pt x="1072" y="1622"/>
                  <a:pt x="1067" y="1833"/>
                  <a:pt x="1067" y="1786"/>
                </a:cubicBezTo>
              </a:path>
              <a:path w="1142" h="1067">
                <a:moveTo>
                  <a:pt x="1513" y="1116"/>
                </a:moveTo>
                <a:cubicBezTo>
                  <a:pt x="1484" y="1058"/>
                  <a:pt x="1460" y="1012"/>
                  <a:pt x="1414" y="967"/>
                </a:cubicBezTo>
                <a:cubicBezTo>
                  <a:pt x="1362" y="916"/>
                  <a:pt x="1294" y="1023"/>
                  <a:pt x="1265" y="1067"/>
                </a:cubicBezTo>
                <a:cubicBezTo>
                  <a:pt x="1253" y="1085"/>
                  <a:pt x="1190" y="1219"/>
                  <a:pt x="1191" y="1240"/>
                </a:cubicBezTo>
                <a:cubicBezTo>
                  <a:pt x="1214" y="1288"/>
                  <a:pt x="1222" y="1303"/>
                  <a:pt x="1215" y="1339"/>
                </a:cubicBezTo>
                <a:cubicBezTo>
                  <a:pt x="1310" y="1329"/>
                  <a:pt x="1344" y="1324"/>
                  <a:pt x="1389" y="1240"/>
                </a:cubicBezTo>
                <a:cubicBezTo>
                  <a:pt x="1419" y="1184"/>
                  <a:pt x="1431" y="1152"/>
                  <a:pt x="1439" y="1091"/>
                </a:cubicBezTo>
                <a:cubicBezTo>
                  <a:pt x="1439" y="1250"/>
                  <a:pt x="1435" y="1418"/>
                  <a:pt x="1463" y="1563"/>
                </a:cubicBezTo>
                <a:cubicBezTo>
                  <a:pt x="1463" y="1612"/>
                  <a:pt x="1463" y="1629"/>
                  <a:pt x="1463" y="1662"/>
                </a:cubicBezTo>
              </a:path>
              <a:path w="1142" h="1067">
                <a:moveTo>
                  <a:pt x="1612" y="992"/>
                </a:moveTo>
                <a:cubicBezTo>
                  <a:pt x="1477" y="821"/>
                  <a:pt x="1491" y="819"/>
                  <a:pt x="1290" y="819"/>
                </a:cubicBezTo>
                <a:cubicBezTo>
                  <a:pt x="1167" y="819"/>
                  <a:pt x="1082" y="900"/>
                  <a:pt x="992" y="967"/>
                </a:cubicBezTo>
                <a:cubicBezTo>
                  <a:pt x="776" y="1127"/>
                  <a:pt x="721" y="1264"/>
                  <a:pt x="695" y="1513"/>
                </a:cubicBezTo>
                <a:cubicBezTo>
                  <a:pt x="686" y="1598"/>
                  <a:pt x="718" y="1678"/>
                  <a:pt x="769" y="1736"/>
                </a:cubicBezTo>
                <a:cubicBezTo>
                  <a:pt x="818" y="1791"/>
                  <a:pt x="889" y="1871"/>
                  <a:pt x="967" y="1885"/>
                </a:cubicBezTo>
                <a:cubicBezTo>
                  <a:pt x="1071" y="1903"/>
                  <a:pt x="1194" y="1877"/>
                  <a:pt x="1290" y="1836"/>
                </a:cubicBezTo>
                <a:cubicBezTo>
                  <a:pt x="1411" y="1785"/>
                  <a:pt x="1516" y="1724"/>
                  <a:pt x="1612" y="1637"/>
                </a:cubicBezTo>
                <a:cubicBezTo>
                  <a:pt x="1715" y="1544"/>
                  <a:pt x="1818" y="1435"/>
                  <a:pt x="1836" y="1290"/>
                </a:cubicBezTo>
                <a:cubicBezTo>
                  <a:pt x="1846" y="1211"/>
                  <a:pt x="1872" y="1008"/>
                  <a:pt x="1811" y="943"/>
                </a:cubicBezTo>
                <a:cubicBezTo>
                  <a:pt x="1773" y="903"/>
                  <a:pt x="1647" y="829"/>
                  <a:pt x="1588" y="819"/>
                </a:cubicBezTo>
                <a:cubicBezTo>
                  <a:pt x="1472" y="799"/>
                  <a:pt x="1298" y="804"/>
                  <a:pt x="1191" y="84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Ink 4"/>
          <p:cNvSpPr/>
          <p:nvPr/>
        </p:nvSpPr>
        <p:spPr>
          <a:xfrm>
            <a:off x="812880" y="169920"/>
            <a:ext cx="982440" cy="509400"/>
          </a:xfrm>
          <a:custGeom>
            <a:avLst/>
            <a:gdLst/>
            <a:ahLst/>
            <a:rect l="l" t="t" r="r" b="b"/>
            <a:pathLst>
              <a:path w="2730" h="1415">
                <a:moveTo>
                  <a:pt x="2456" y="1067"/>
                </a:moveTo>
                <a:cubicBezTo>
                  <a:pt x="2415" y="1188"/>
                  <a:pt x="2383" y="1296"/>
                  <a:pt x="2356" y="1414"/>
                </a:cubicBezTo>
                <a:cubicBezTo>
                  <a:pt x="2337" y="1500"/>
                  <a:pt x="2275" y="1577"/>
                  <a:pt x="2257" y="1662"/>
                </a:cubicBezTo>
                <a:cubicBezTo>
                  <a:pt x="2257" y="1712"/>
                  <a:pt x="2257" y="1728"/>
                  <a:pt x="2257" y="1761"/>
                </a:cubicBezTo>
                <a:cubicBezTo>
                  <a:pt x="2279" y="1674"/>
                  <a:pt x="2321" y="1576"/>
                  <a:pt x="2332" y="1488"/>
                </a:cubicBezTo>
                <a:cubicBezTo>
                  <a:pt x="2347" y="1369"/>
                  <a:pt x="2352" y="1258"/>
                  <a:pt x="2381" y="1141"/>
                </a:cubicBezTo>
                <a:cubicBezTo>
                  <a:pt x="2413" y="1010"/>
                  <a:pt x="2451" y="867"/>
                  <a:pt x="2505" y="744"/>
                </a:cubicBezTo>
                <a:cubicBezTo>
                  <a:pt x="2539" y="666"/>
                  <a:pt x="2554" y="647"/>
                  <a:pt x="2604" y="595"/>
                </a:cubicBezTo>
                <a:cubicBezTo>
                  <a:pt x="2698" y="608"/>
                  <a:pt x="2667" y="637"/>
                  <a:pt x="2704" y="719"/>
                </a:cubicBezTo>
                <a:cubicBezTo>
                  <a:pt x="2743" y="805"/>
                  <a:pt x="2729" y="898"/>
                  <a:pt x="2729" y="992"/>
                </a:cubicBezTo>
                <a:cubicBezTo>
                  <a:pt x="2729" y="1118"/>
                  <a:pt x="2753" y="1235"/>
                  <a:pt x="2753" y="1364"/>
                </a:cubicBezTo>
                <a:cubicBezTo>
                  <a:pt x="2753" y="1484"/>
                  <a:pt x="2767" y="1623"/>
                  <a:pt x="2803" y="1736"/>
                </a:cubicBezTo>
                <a:cubicBezTo>
                  <a:pt x="2821" y="1792"/>
                  <a:pt x="2935" y="1886"/>
                  <a:pt x="2877" y="1885"/>
                </a:cubicBezTo>
                <a:cubicBezTo>
                  <a:pt x="2855" y="1863"/>
                  <a:pt x="2847" y="1858"/>
                  <a:pt x="2853" y="1836"/>
                </a:cubicBezTo>
              </a:path>
              <a:path w="2730" h="1415">
                <a:moveTo>
                  <a:pt x="2356" y="1290"/>
                </a:moveTo>
                <a:cubicBezTo>
                  <a:pt x="2419" y="1273"/>
                  <a:pt x="2500" y="1251"/>
                  <a:pt x="2555" y="1240"/>
                </a:cubicBezTo>
                <a:cubicBezTo>
                  <a:pt x="2612" y="1228"/>
                  <a:pt x="2671" y="1221"/>
                  <a:pt x="2729" y="1215"/>
                </a:cubicBezTo>
              </a:path>
              <a:path w="2730" h="1415">
                <a:moveTo>
                  <a:pt x="3001" y="1265"/>
                </a:moveTo>
                <a:cubicBezTo>
                  <a:pt x="3078" y="1236"/>
                  <a:pt x="3142" y="1223"/>
                  <a:pt x="3225" y="1215"/>
                </a:cubicBezTo>
              </a:path>
              <a:path w="2730" h="1415">
                <a:moveTo>
                  <a:pt x="3026" y="1389"/>
                </a:moveTo>
                <a:cubicBezTo>
                  <a:pt x="3161" y="1409"/>
                  <a:pt x="3195" y="1395"/>
                  <a:pt x="3324" y="1339"/>
                </a:cubicBezTo>
              </a:path>
              <a:path w="2730" h="1415">
                <a:moveTo>
                  <a:pt x="3646" y="794"/>
                </a:moveTo>
                <a:cubicBezTo>
                  <a:pt x="3646" y="912"/>
                  <a:pt x="3654" y="1003"/>
                  <a:pt x="3646" y="1116"/>
                </a:cubicBezTo>
                <a:cubicBezTo>
                  <a:pt x="3643" y="1160"/>
                  <a:pt x="3624" y="1687"/>
                  <a:pt x="3671" y="1687"/>
                </a:cubicBezTo>
                <a:cubicBezTo>
                  <a:pt x="3671" y="1679"/>
                  <a:pt x="3671" y="1670"/>
                  <a:pt x="3671" y="1662"/>
                </a:cubicBezTo>
              </a:path>
              <a:path w="2730" h="1415">
                <a:moveTo>
                  <a:pt x="4018" y="819"/>
                </a:moveTo>
                <a:cubicBezTo>
                  <a:pt x="4018" y="1108"/>
                  <a:pt x="4018" y="1398"/>
                  <a:pt x="4018" y="1687"/>
                </a:cubicBezTo>
              </a:path>
              <a:path w="2730" h="1415">
                <a:moveTo>
                  <a:pt x="4316" y="893"/>
                </a:moveTo>
                <a:cubicBezTo>
                  <a:pt x="4308" y="997"/>
                  <a:pt x="4276" y="1088"/>
                  <a:pt x="4266" y="1191"/>
                </a:cubicBezTo>
                <a:cubicBezTo>
                  <a:pt x="4256" y="1302"/>
                  <a:pt x="4257" y="1410"/>
                  <a:pt x="4266" y="1513"/>
                </a:cubicBezTo>
                <a:cubicBezTo>
                  <a:pt x="4272" y="1586"/>
                  <a:pt x="4290" y="1609"/>
                  <a:pt x="4366" y="1612"/>
                </a:cubicBezTo>
                <a:cubicBezTo>
                  <a:pt x="4439" y="1615"/>
                  <a:pt x="4483" y="1584"/>
                  <a:pt x="4539" y="1538"/>
                </a:cubicBezTo>
                <a:cubicBezTo>
                  <a:pt x="4605" y="1483"/>
                  <a:pt x="4624" y="1327"/>
                  <a:pt x="4638" y="1240"/>
                </a:cubicBezTo>
                <a:cubicBezTo>
                  <a:pt x="4645" y="1193"/>
                  <a:pt x="4625" y="1053"/>
                  <a:pt x="4589" y="1017"/>
                </a:cubicBezTo>
                <a:cubicBezTo>
                  <a:pt x="4554" y="982"/>
                  <a:pt x="4437" y="927"/>
                  <a:pt x="4390" y="918"/>
                </a:cubicBezTo>
                <a:cubicBezTo>
                  <a:pt x="4349" y="918"/>
                  <a:pt x="4333" y="926"/>
                  <a:pt x="4341" y="893"/>
                </a:cubicBezTo>
              </a:path>
              <a:path w="2730" h="1415">
                <a:moveTo>
                  <a:pt x="4862" y="546"/>
                </a:moveTo>
                <a:cubicBezTo>
                  <a:pt x="4837" y="612"/>
                  <a:pt x="4827" y="612"/>
                  <a:pt x="4862" y="670"/>
                </a:cubicBezTo>
                <a:cubicBezTo>
                  <a:pt x="4963" y="657"/>
                  <a:pt x="4981" y="650"/>
                  <a:pt x="4986" y="546"/>
                </a:cubicBezTo>
                <a:cubicBezTo>
                  <a:pt x="4990" y="459"/>
                  <a:pt x="4946" y="460"/>
                  <a:pt x="4887" y="496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Ink 5"/>
          <p:cNvSpPr/>
          <p:nvPr/>
        </p:nvSpPr>
        <p:spPr>
          <a:xfrm>
            <a:off x="2133720" y="258840"/>
            <a:ext cx="831600" cy="312840"/>
          </a:xfrm>
          <a:custGeom>
            <a:avLst/>
            <a:gdLst/>
            <a:ahLst/>
            <a:rect l="l" t="t" r="r" b="b"/>
            <a:pathLst>
              <a:path w="2308" h="870">
                <a:moveTo>
                  <a:pt x="6325" y="1315"/>
                </a:moveTo>
                <a:cubicBezTo>
                  <a:pt x="6387" y="1334"/>
                  <a:pt x="6350" y="1261"/>
                  <a:pt x="6325" y="1215"/>
                </a:cubicBezTo>
                <a:cubicBezTo>
                  <a:pt x="6297" y="1163"/>
                  <a:pt x="6279" y="1101"/>
                  <a:pt x="6226" y="1067"/>
                </a:cubicBezTo>
                <a:cubicBezTo>
                  <a:pt x="6144" y="1015"/>
                  <a:pt x="6098" y="1085"/>
                  <a:pt x="6052" y="1141"/>
                </a:cubicBezTo>
                <a:cubicBezTo>
                  <a:pt x="6009" y="1193"/>
                  <a:pt x="5984" y="1254"/>
                  <a:pt x="5953" y="1315"/>
                </a:cubicBezTo>
                <a:cubicBezTo>
                  <a:pt x="5918" y="1384"/>
                  <a:pt x="5905" y="1478"/>
                  <a:pt x="5953" y="1538"/>
                </a:cubicBezTo>
                <a:cubicBezTo>
                  <a:pt x="6013" y="1612"/>
                  <a:pt x="6058" y="1573"/>
                  <a:pt x="6127" y="1538"/>
                </a:cubicBezTo>
                <a:cubicBezTo>
                  <a:pt x="6173" y="1515"/>
                  <a:pt x="6237" y="1440"/>
                  <a:pt x="6251" y="1389"/>
                </a:cubicBezTo>
                <a:cubicBezTo>
                  <a:pt x="6251" y="1337"/>
                  <a:pt x="6252" y="1319"/>
                  <a:pt x="6276" y="1290"/>
                </a:cubicBezTo>
                <a:cubicBezTo>
                  <a:pt x="6237" y="1367"/>
                  <a:pt x="6271" y="1406"/>
                  <a:pt x="6276" y="1488"/>
                </a:cubicBezTo>
                <a:cubicBezTo>
                  <a:pt x="6279" y="1550"/>
                  <a:pt x="6320" y="1613"/>
                  <a:pt x="6400" y="1588"/>
                </a:cubicBezTo>
                <a:cubicBezTo>
                  <a:pt x="6433" y="1578"/>
                  <a:pt x="6461" y="1511"/>
                  <a:pt x="6474" y="1488"/>
                </a:cubicBezTo>
              </a:path>
              <a:path w="2308" h="870">
                <a:moveTo>
                  <a:pt x="6524" y="1215"/>
                </a:moveTo>
                <a:cubicBezTo>
                  <a:pt x="6593" y="1205"/>
                  <a:pt x="6649" y="1186"/>
                  <a:pt x="6722" y="1166"/>
                </a:cubicBezTo>
              </a:path>
              <a:path w="2308" h="870">
                <a:moveTo>
                  <a:pt x="6524" y="1364"/>
                </a:moveTo>
                <a:cubicBezTo>
                  <a:pt x="6598" y="1402"/>
                  <a:pt x="6631" y="1392"/>
                  <a:pt x="6697" y="1339"/>
                </a:cubicBezTo>
              </a:path>
              <a:path w="2308" h="870">
                <a:moveTo>
                  <a:pt x="6970" y="868"/>
                </a:moveTo>
                <a:cubicBezTo>
                  <a:pt x="6970" y="1100"/>
                  <a:pt x="6970" y="1331"/>
                  <a:pt x="6970" y="1563"/>
                </a:cubicBezTo>
              </a:path>
              <a:path w="2308" h="870">
                <a:moveTo>
                  <a:pt x="7144" y="943"/>
                </a:moveTo>
                <a:cubicBezTo>
                  <a:pt x="7208" y="842"/>
                  <a:pt x="7242" y="781"/>
                  <a:pt x="7367" y="744"/>
                </a:cubicBezTo>
                <a:cubicBezTo>
                  <a:pt x="7421" y="728"/>
                  <a:pt x="7482" y="792"/>
                  <a:pt x="7491" y="843"/>
                </a:cubicBezTo>
                <a:cubicBezTo>
                  <a:pt x="7507" y="932"/>
                  <a:pt x="7475" y="1011"/>
                  <a:pt x="7441" y="1091"/>
                </a:cubicBezTo>
                <a:cubicBezTo>
                  <a:pt x="7408" y="1170"/>
                  <a:pt x="7382" y="1277"/>
                  <a:pt x="7317" y="1339"/>
                </a:cubicBezTo>
                <a:cubicBezTo>
                  <a:pt x="7267" y="1386"/>
                  <a:pt x="7240" y="1434"/>
                  <a:pt x="7193" y="1488"/>
                </a:cubicBezTo>
                <a:cubicBezTo>
                  <a:pt x="7185" y="1496"/>
                  <a:pt x="7177" y="1505"/>
                  <a:pt x="7169" y="1513"/>
                </a:cubicBezTo>
                <a:cubicBezTo>
                  <a:pt x="7239" y="1513"/>
                  <a:pt x="7311" y="1530"/>
                  <a:pt x="7367" y="1538"/>
                </a:cubicBezTo>
                <a:cubicBezTo>
                  <a:pt x="7434" y="1548"/>
                  <a:pt x="7532" y="1549"/>
                  <a:pt x="7590" y="1513"/>
                </a:cubicBezTo>
                <a:cubicBezTo>
                  <a:pt x="7598" y="1505"/>
                  <a:pt x="7607" y="1496"/>
                  <a:pt x="7615" y="1488"/>
                </a:cubicBezTo>
              </a:path>
              <a:path w="2308" h="870">
                <a:moveTo>
                  <a:pt x="7913" y="843"/>
                </a:moveTo>
                <a:cubicBezTo>
                  <a:pt x="7981" y="843"/>
                  <a:pt x="8076" y="847"/>
                  <a:pt x="8136" y="819"/>
                </a:cubicBezTo>
                <a:cubicBezTo>
                  <a:pt x="8184" y="797"/>
                  <a:pt x="8206" y="760"/>
                  <a:pt x="8235" y="719"/>
                </a:cubicBezTo>
              </a:path>
              <a:path w="2308" h="870">
                <a:moveTo>
                  <a:pt x="7913" y="819"/>
                </a:moveTo>
                <a:cubicBezTo>
                  <a:pt x="7829" y="910"/>
                  <a:pt x="7813" y="924"/>
                  <a:pt x="7813" y="1042"/>
                </a:cubicBezTo>
                <a:cubicBezTo>
                  <a:pt x="7879" y="1033"/>
                  <a:pt x="7916" y="996"/>
                  <a:pt x="7987" y="992"/>
                </a:cubicBezTo>
                <a:cubicBezTo>
                  <a:pt x="8040" y="989"/>
                  <a:pt x="8125" y="1026"/>
                  <a:pt x="8161" y="1067"/>
                </a:cubicBezTo>
                <a:cubicBezTo>
                  <a:pt x="8199" y="1110"/>
                  <a:pt x="8228" y="1212"/>
                  <a:pt x="8235" y="1265"/>
                </a:cubicBezTo>
                <a:cubicBezTo>
                  <a:pt x="8248" y="1361"/>
                  <a:pt x="8229" y="1372"/>
                  <a:pt x="8186" y="1439"/>
                </a:cubicBezTo>
                <a:cubicBezTo>
                  <a:pt x="8132" y="1524"/>
                  <a:pt x="8064" y="1533"/>
                  <a:pt x="7962" y="1538"/>
                </a:cubicBezTo>
                <a:cubicBezTo>
                  <a:pt x="7921" y="1538"/>
                  <a:pt x="7913" y="1538"/>
                  <a:pt x="7888" y="153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6"/>
          <p:cNvSpPr/>
          <p:nvPr/>
        </p:nvSpPr>
        <p:spPr>
          <a:xfrm>
            <a:off x="3357720" y="231840"/>
            <a:ext cx="938160" cy="295200"/>
          </a:xfrm>
          <a:custGeom>
            <a:avLst/>
            <a:gdLst/>
            <a:ahLst/>
            <a:rect l="l" t="t" r="r" b="b"/>
            <a:pathLst>
              <a:path w="2605" h="819">
                <a:moveTo>
                  <a:pt x="9401" y="645"/>
                </a:moveTo>
                <a:cubicBezTo>
                  <a:pt x="9371" y="695"/>
                  <a:pt x="9354" y="756"/>
                  <a:pt x="9351" y="819"/>
                </a:cubicBezTo>
                <a:cubicBezTo>
                  <a:pt x="9345" y="955"/>
                  <a:pt x="9344" y="1082"/>
                  <a:pt x="9327" y="1215"/>
                </a:cubicBezTo>
                <a:cubicBezTo>
                  <a:pt x="9317" y="1295"/>
                  <a:pt x="9327" y="1382"/>
                  <a:pt x="9327" y="1463"/>
                </a:cubicBezTo>
                <a:cubicBezTo>
                  <a:pt x="9327" y="1386"/>
                  <a:pt x="9347" y="1333"/>
                  <a:pt x="9351" y="1265"/>
                </a:cubicBezTo>
                <a:cubicBezTo>
                  <a:pt x="9354" y="1208"/>
                  <a:pt x="9426" y="1109"/>
                  <a:pt x="9475" y="1067"/>
                </a:cubicBezTo>
                <a:cubicBezTo>
                  <a:pt x="9528" y="1021"/>
                  <a:pt x="9626" y="1029"/>
                  <a:pt x="9674" y="1067"/>
                </a:cubicBezTo>
                <a:cubicBezTo>
                  <a:pt x="9726" y="1107"/>
                  <a:pt x="9745" y="1179"/>
                  <a:pt x="9748" y="1240"/>
                </a:cubicBezTo>
                <a:cubicBezTo>
                  <a:pt x="9751" y="1290"/>
                  <a:pt x="9717" y="1358"/>
                  <a:pt x="9674" y="1389"/>
                </a:cubicBezTo>
                <a:cubicBezTo>
                  <a:pt x="9602" y="1441"/>
                  <a:pt x="9536" y="1439"/>
                  <a:pt x="9451" y="1439"/>
                </a:cubicBezTo>
                <a:cubicBezTo>
                  <a:pt x="9409" y="1439"/>
                  <a:pt x="9393" y="1447"/>
                  <a:pt x="9401" y="1414"/>
                </a:cubicBezTo>
              </a:path>
              <a:path w="2605" h="819">
                <a:moveTo>
                  <a:pt x="10021" y="1116"/>
                </a:moveTo>
                <a:cubicBezTo>
                  <a:pt x="10104" y="1098"/>
                  <a:pt x="10169" y="1078"/>
                  <a:pt x="10244" y="1067"/>
                </a:cubicBezTo>
              </a:path>
              <a:path w="2605" h="819">
                <a:moveTo>
                  <a:pt x="9996" y="1240"/>
                </a:moveTo>
                <a:cubicBezTo>
                  <a:pt x="10081" y="1231"/>
                  <a:pt x="10143" y="1204"/>
                  <a:pt x="10220" y="1166"/>
                </a:cubicBezTo>
              </a:path>
              <a:path w="2605" h="819">
                <a:moveTo>
                  <a:pt x="10592" y="843"/>
                </a:moveTo>
                <a:cubicBezTo>
                  <a:pt x="10592" y="977"/>
                  <a:pt x="10585" y="1087"/>
                  <a:pt x="10567" y="1215"/>
                </a:cubicBezTo>
                <a:cubicBezTo>
                  <a:pt x="10558" y="1277"/>
                  <a:pt x="10527" y="1337"/>
                  <a:pt x="10517" y="1389"/>
                </a:cubicBezTo>
                <a:cubicBezTo>
                  <a:pt x="10517" y="1441"/>
                  <a:pt x="10518" y="1456"/>
                  <a:pt x="10542" y="1389"/>
                </a:cubicBezTo>
              </a:path>
              <a:path w="2605" h="819">
                <a:moveTo>
                  <a:pt x="10914" y="893"/>
                </a:moveTo>
                <a:cubicBezTo>
                  <a:pt x="10886" y="1000"/>
                  <a:pt x="10821" y="1151"/>
                  <a:pt x="10815" y="1265"/>
                </a:cubicBezTo>
                <a:cubicBezTo>
                  <a:pt x="10811" y="1328"/>
                  <a:pt x="10818" y="1357"/>
                  <a:pt x="10840" y="1414"/>
                </a:cubicBezTo>
                <a:cubicBezTo>
                  <a:pt x="10951" y="1405"/>
                  <a:pt x="10986" y="1393"/>
                  <a:pt x="11063" y="1315"/>
                </a:cubicBezTo>
                <a:cubicBezTo>
                  <a:pt x="11129" y="1249"/>
                  <a:pt x="11149" y="1158"/>
                  <a:pt x="11162" y="1067"/>
                </a:cubicBezTo>
                <a:cubicBezTo>
                  <a:pt x="11169" y="1018"/>
                  <a:pt x="11151" y="898"/>
                  <a:pt x="11112" y="868"/>
                </a:cubicBezTo>
                <a:cubicBezTo>
                  <a:pt x="11044" y="815"/>
                  <a:pt x="10999" y="819"/>
                  <a:pt x="10914" y="819"/>
                </a:cubicBezTo>
                <a:cubicBezTo>
                  <a:pt x="10872" y="819"/>
                  <a:pt x="10847" y="819"/>
                  <a:pt x="10889" y="819"/>
                </a:cubicBezTo>
              </a:path>
              <a:path w="2605" h="819">
                <a:moveTo>
                  <a:pt x="11485" y="943"/>
                </a:moveTo>
                <a:cubicBezTo>
                  <a:pt x="11430" y="1117"/>
                  <a:pt x="11394" y="1188"/>
                  <a:pt x="11410" y="1339"/>
                </a:cubicBezTo>
                <a:cubicBezTo>
                  <a:pt x="11420" y="1434"/>
                  <a:pt x="11469" y="1407"/>
                  <a:pt x="11534" y="1439"/>
                </a:cubicBezTo>
                <a:cubicBezTo>
                  <a:pt x="11584" y="1463"/>
                  <a:pt x="11652" y="1466"/>
                  <a:pt x="11708" y="1439"/>
                </a:cubicBezTo>
                <a:cubicBezTo>
                  <a:pt x="11846" y="1373"/>
                  <a:pt x="11877" y="1267"/>
                  <a:pt x="11906" y="1141"/>
                </a:cubicBezTo>
                <a:cubicBezTo>
                  <a:pt x="11924" y="1064"/>
                  <a:pt x="11952" y="985"/>
                  <a:pt x="11881" y="918"/>
                </a:cubicBezTo>
                <a:cubicBezTo>
                  <a:pt x="11840" y="880"/>
                  <a:pt x="11735" y="850"/>
                  <a:pt x="11683" y="843"/>
                </a:cubicBezTo>
                <a:cubicBezTo>
                  <a:pt x="11622" y="843"/>
                  <a:pt x="11606" y="834"/>
                  <a:pt x="11584" y="86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7"/>
          <p:cNvSpPr/>
          <p:nvPr/>
        </p:nvSpPr>
        <p:spPr>
          <a:xfrm>
            <a:off x="1143000" y="768240"/>
            <a:ext cx="731880" cy="393840"/>
          </a:xfrm>
          <a:custGeom>
            <a:avLst/>
            <a:gdLst/>
            <a:ahLst/>
            <a:rect l="l" t="t" r="r" b="b"/>
            <a:pathLst>
              <a:path w="2035" h="1093">
                <a:moveTo>
                  <a:pt x="3175" y="2133"/>
                </a:moveTo>
                <a:cubicBezTo>
                  <a:pt x="3207" y="2219"/>
                  <a:pt x="3180" y="2294"/>
                  <a:pt x="3200" y="2381"/>
                </a:cubicBezTo>
                <a:cubicBezTo>
                  <a:pt x="3221" y="2473"/>
                  <a:pt x="3225" y="2555"/>
                  <a:pt x="3225" y="2654"/>
                </a:cubicBezTo>
                <a:cubicBezTo>
                  <a:pt x="3225" y="2791"/>
                  <a:pt x="3232" y="3203"/>
                  <a:pt x="3225" y="3175"/>
                </a:cubicBezTo>
                <a:cubicBezTo>
                  <a:pt x="3193" y="3054"/>
                  <a:pt x="3209" y="2974"/>
                  <a:pt x="3225" y="2853"/>
                </a:cubicBezTo>
                <a:cubicBezTo>
                  <a:pt x="3235" y="2776"/>
                  <a:pt x="3250" y="2705"/>
                  <a:pt x="3274" y="2629"/>
                </a:cubicBezTo>
                <a:cubicBezTo>
                  <a:pt x="3294" y="2566"/>
                  <a:pt x="3325" y="2497"/>
                  <a:pt x="3398" y="2480"/>
                </a:cubicBezTo>
                <a:cubicBezTo>
                  <a:pt x="3468" y="2464"/>
                  <a:pt x="3509" y="2546"/>
                  <a:pt x="3522" y="2604"/>
                </a:cubicBezTo>
                <a:cubicBezTo>
                  <a:pt x="3545" y="2707"/>
                  <a:pt x="3568" y="2790"/>
                  <a:pt x="3572" y="2902"/>
                </a:cubicBezTo>
                <a:cubicBezTo>
                  <a:pt x="3575" y="2975"/>
                  <a:pt x="3593" y="3031"/>
                  <a:pt x="3597" y="3101"/>
                </a:cubicBezTo>
                <a:cubicBezTo>
                  <a:pt x="3597" y="3117"/>
                  <a:pt x="3597" y="3134"/>
                  <a:pt x="3597" y="3150"/>
                </a:cubicBezTo>
              </a:path>
              <a:path w="2035" h="1093">
                <a:moveTo>
                  <a:pt x="3721" y="2629"/>
                </a:moveTo>
                <a:cubicBezTo>
                  <a:pt x="3804" y="2629"/>
                  <a:pt x="3886" y="2629"/>
                  <a:pt x="3969" y="2629"/>
                </a:cubicBezTo>
              </a:path>
              <a:path w="2035" h="1093">
                <a:moveTo>
                  <a:pt x="3721" y="2778"/>
                </a:moveTo>
                <a:cubicBezTo>
                  <a:pt x="3808" y="2811"/>
                  <a:pt x="3852" y="2786"/>
                  <a:pt x="3944" y="2778"/>
                </a:cubicBezTo>
              </a:path>
              <a:path w="2035" h="1093">
                <a:moveTo>
                  <a:pt x="4266" y="2381"/>
                </a:moveTo>
                <a:cubicBezTo>
                  <a:pt x="4241" y="2476"/>
                  <a:pt x="4242" y="2555"/>
                  <a:pt x="4242" y="2654"/>
                </a:cubicBezTo>
                <a:cubicBezTo>
                  <a:pt x="4242" y="2745"/>
                  <a:pt x="4253" y="2818"/>
                  <a:pt x="4266" y="2902"/>
                </a:cubicBezTo>
                <a:cubicBezTo>
                  <a:pt x="4269" y="2918"/>
                  <a:pt x="4266" y="3095"/>
                  <a:pt x="4266" y="3026"/>
                </a:cubicBezTo>
              </a:path>
              <a:path w="2035" h="1093">
                <a:moveTo>
                  <a:pt x="4465" y="2406"/>
                </a:moveTo>
                <a:cubicBezTo>
                  <a:pt x="4452" y="2506"/>
                  <a:pt x="4419" y="2599"/>
                  <a:pt x="4415" y="2704"/>
                </a:cubicBezTo>
                <a:cubicBezTo>
                  <a:pt x="4413" y="2775"/>
                  <a:pt x="4387" y="2952"/>
                  <a:pt x="4440" y="3001"/>
                </a:cubicBezTo>
                <a:cubicBezTo>
                  <a:pt x="4517" y="3071"/>
                  <a:pt x="4582" y="3087"/>
                  <a:pt x="4663" y="3001"/>
                </a:cubicBezTo>
                <a:cubicBezTo>
                  <a:pt x="4715" y="2945"/>
                  <a:pt x="4776" y="2755"/>
                  <a:pt x="4762" y="2679"/>
                </a:cubicBezTo>
                <a:cubicBezTo>
                  <a:pt x="4747" y="2597"/>
                  <a:pt x="4730" y="2495"/>
                  <a:pt x="4663" y="2431"/>
                </a:cubicBezTo>
                <a:cubicBezTo>
                  <a:pt x="4634" y="2403"/>
                  <a:pt x="4527" y="2350"/>
                  <a:pt x="4490" y="2356"/>
                </a:cubicBezTo>
                <a:cubicBezTo>
                  <a:pt x="4436" y="2364"/>
                  <a:pt x="4429" y="2373"/>
                  <a:pt x="4440" y="2406"/>
                </a:cubicBezTo>
              </a:path>
              <a:path w="2035" h="1093">
                <a:moveTo>
                  <a:pt x="4961" y="2406"/>
                </a:moveTo>
                <a:cubicBezTo>
                  <a:pt x="4929" y="2492"/>
                  <a:pt x="4913" y="2567"/>
                  <a:pt x="4887" y="2654"/>
                </a:cubicBezTo>
                <a:cubicBezTo>
                  <a:pt x="4856" y="2755"/>
                  <a:pt x="4837" y="2822"/>
                  <a:pt x="4837" y="2927"/>
                </a:cubicBezTo>
                <a:cubicBezTo>
                  <a:pt x="4837" y="2992"/>
                  <a:pt x="4867" y="3007"/>
                  <a:pt x="4911" y="3051"/>
                </a:cubicBezTo>
                <a:cubicBezTo>
                  <a:pt x="4937" y="3078"/>
                  <a:pt x="5057" y="3051"/>
                  <a:pt x="5085" y="3026"/>
                </a:cubicBezTo>
                <a:cubicBezTo>
                  <a:pt x="5134" y="2982"/>
                  <a:pt x="5199" y="2816"/>
                  <a:pt x="5209" y="2753"/>
                </a:cubicBezTo>
                <a:cubicBezTo>
                  <a:pt x="5220" y="2684"/>
                  <a:pt x="5205" y="2593"/>
                  <a:pt x="5184" y="2530"/>
                </a:cubicBezTo>
                <a:cubicBezTo>
                  <a:pt x="5154" y="2441"/>
                  <a:pt x="5107" y="2455"/>
                  <a:pt x="5035" y="2431"/>
                </a:cubicBezTo>
                <a:cubicBezTo>
                  <a:pt x="4995" y="2411"/>
                  <a:pt x="4989" y="2402"/>
                  <a:pt x="4961" y="2406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8"/>
          <p:cNvSpPr/>
          <p:nvPr/>
        </p:nvSpPr>
        <p:spPr>
          <a:xfrm>
            <a:off x="1982880" y="847800"/>
            <a:ext cx="446040" cy="241200"/>
          </a:xfrm>
          <a:custGeom>
            <a:avLst/>
            <a:gdLst/>
            <a:ahLst/>
            <a:rect l="l" t="t" r="r" b="b"/>
            <a:pathLst>
              <a:path w="1241" h="671">
                <a:moveTo>
                  <a:pt x="5829" y="2555"/>
                </a:moveTo>
                <a:cubicBezTo>
                  <a:pt x="5782" y="2526"/>
                  <a:pt x="5737" y="2508"/>
                  <a:pt x="5680" y="2505"/>
                </a:cubicBezTo>
                <a:cubicBezTo>
                  <a:pt x="5609" y="2501"/>
                  <a:pt x="5577" y="2534"/>
                  <a:pt x="5531" y="2580"/>
                </a:cubicBezTo>
                <a:cubicBezTo>
                  <a:pt x="5444" y="2667"/>
                  <a:pt x="5598" y="2703"/>
                  <a:pt x="5655" y="2729"/>
                </a:cubicBezTo>
                <a:cubicBezTo>
                  <a:pt x="5711" y="2755"/>
                  <a:pt x="5778" y="2793"/>
                  <a:pt x="5829" y="2828"/>
                </a:cubicBezTo>
                <a:cubicBezTo>
                  <a:pt x="5893" y="2872"/>
                  <a:pt x="5880" y="2941"/>
                  <a:pt x="5804" y="2977"/>
                </a:cubicBezTo>
                <a:cubicBezTo>
                  <a:pt x="5752" y="3002"/>
                  <a:pt x="5666" y="3001"/>
                  <a:pt x="5606" y="3001"/>
                </a:cubicBezTo>
                <a:cubicBezTo>
                  <a:pt x="5554" y="3001"/>
                  <a:pt x="5538" y="3000"/>
                  <a:pt x="5581" y="2952"/>
                </a:cubicBezTo>
              </a:path>
              <a:path w="1241" h="671">
                <a:moveTo>
                  <a:pt x="6077" y="2629"/>
                </a:moveTo>
                <a:cubicBezTo>
                  <a:pt x="6077" y="2761"/>
                  <a:pt x="6077" y="3109"/>
                  <a:pt x="6077" y="2977"/>
                </a:cubicBezTo>
              </a:path>
              <a:path w="1241" h="671">
                <a:moveTo>
                  <a:pt x="6077" y="2356"/>
                </a:moveTo>
                <a:lnTo>
                  <a:pt x="6077" y="2356"/>
                </a:lnTo>
              </a:path>
              <a:path w="1241" h="671">
                <a:moveTo>
                  <a:pt x="6300" y="2729"/>
                </a:moveTo>
                <a:cubicBezTo>
                  <a:pt x="6300" y="2812"/>
                  <a:pt x="6300" y="2894"/>
                  <a:pt x="6300" y="2977"/>
                </a:cubicBezTo>
                <a:cubicBezTo>
                  <a:pt x="6282" y="2858"/>
                  <a:pt x="6298" y="2769"/>
                  <a:pt x="6350" y="2654"/>
                </a:cubicBezTo>
                <a:cubicBezTo>
                  <a:pt x="6372" y="2605"/>
                  <a:pt x="6446" y="2521"/>
                  <a:pt x="6499" y="2505"/>
                </a:cubicBezTo>
                <a:cubicBezTo>
                  <a:pt x="6581" y="2481"/>
                  <a:pt x="6614" y="2515"/>
                  <a:pt x="6648" y="2580"/>
                </a:cubicBezTo>
                <a:cubicBezTo>
                  <a:pt x="6682" y="2644"/>
                  <a:pt x="6693" y="2731"/>
                  <a:pt x="6697" y="2803"/>
                </a:cubicBezTo>
                <a:cubicBezTo>
                  <a:pt x="6699" y="2845"/>
                  <a:pt x="6700" y="2992"/>
                  <a:pt x="6722" y="3026"/>
                </a:cubicBezTo>
                <a:cubicBezTo>
                  <a:pt x="6730" y="3026"/>
                  <a:pt x="6739" y="3026"/>
                  <a:pt x="6747" y="3026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9"/>
          <p:cNvSpPr/>
          <p:nvPr/>
        </p:nvSpPr>
        <p:spPr>
          <a:xfrm>
            <a:off x="2536920" y="785880"/>
            <a:ext cx="527040" cy="339480"/>
          </a:xfrm>
          <a:custGeom>
            <a:avLst/>
            <a:gdLst/>
            <a:ahLst/>
            <a:rect l="l" t="t" r="r" b="b"/>
            <a:pathLst>
              <a:path w="1464" h="943">
                <a:moveTo>
                  <a:pt x="7045" y="2332"/>
                </a:moveTo>
                <a:cubicBezTo>
                  <a:pt x="7066" y="2434"/>
                  <a:pt x="7086" y="2548"/>
                  <a:pt x="7069" y="2654"/>
                </a:cubicBezTo>
                <a:cubicBezTo>
                  <a:pt x="7053" y="2756"/>
                  <a:pt x="7045" y="2846"/>
                  <a:pt x="7045" y="2952"/>
                </a:cubicBezTo>
                <a:cubicBezTo>
                  <a:pt x="7045" y="3018"/>
                  <a:pt x="7045" y="3035"/>
                  <a:pt x="7045" y="3101"/>
                </a:cubicBezTo>
              </a:path>
              <a:path w="1464" h="943">
                <a:moveTo>
                  <a:pt x="7268" y="2381"/>
                </a:moveTo>
                <a:cubicBezTo>
                  <a:pt x="7286" y="2527"/>
                  <a:pt x="7293" y="2657"/>
                  <a:pt x="7293" y="2803"/>
                </a:cubicBezTo>
                <a:cubicBezTo>
                  <a:pt x="7293" y="2872"/>
                  <a:pt x="7241" y="2957"/>
                  <a:pt x="7268" y="3026"/>
                </a:cubicBezTo>
                <a:cubicBezTo>
                  <a:pt x="7293" y="3090"/>
                  <a:pt x="7270" y="3116"/>
                  <a:pt x="7317" y="3051"/>
                </a:cubicBezTo>
              </a:path>
              <a:path w="1464" h="943">
                <a:moveTo>
                  <a:pt x="7541" y="2555"/>
                </a:moveTo>
                <a:cubicBezTo>
                  <a:pt x="7518" y="2683"/>
                  <a:pt x="7491" y="2798"/>
                  <a:pt x="7491" y="2927"/>
                </a:cubicBezTo>
                <a:cubicBezTo>
                  <a:pt x="7491" y="2990"/>
                  <a:pt x="7505" y="3088"/>
                  <a:pt x="7590" y="3076"/>
                </a:cubicBezTo>
                <a:cubicBezTo>
                  <a:pt x="7701" y="3061"/>
                  <a:pt x="7742" y="2952"/>
                  <a:pt x="7764" y="2853"/>
                </a:cubicBezTo>
                <a:cubicBezTo>
                  <a:pt x="7780" y="2781"/>
                  <a:pt x="7778" y="2643"/>
                  <a:pt x="7739" y="2580"/>
                </a:cubicBezTo>
                <a:cubicBezTo>
                  <a:pt x="7702" y="2520"/>
                  <a:pt x="7663" y="2529"/>
                  <a:pt x="7615" y="2505"/>
                </a:cubicBezTo>
                <a:cubicBezTo>
                  <a:pt x="7607" y="2497"/>
                  <a:pt x="7598" y="2488"/>
                  <a:pt x="7590" y="2480"/>
                </a:cubicBezTo>
              </a:path>
              <a:path w="1464" h="943">
                <a:moveTo>
                  <a:pt x="7938" y="2282"/>
                </a:moveTo>
                <a:cubicBezTo>
                  <a:pt x="7938" y="2360"/>
                  <a:pt x="7923" y="2377"/>
                  <a:pt x="7962" y="2406"/>
                </a:cubicBezTo>
                <a:cubicBezTo>
                  <a:pt x="8017" y="2338"/>
                  <a:pt x="8014" y="2307"/>
                  <a:pt x="7962" y="2232"/>
                </a:cubicBezTo>
                <a:cubicBezTo>
                  <a:pt x="7913" y="2161"/>
                  <a:pt x="7875" y="2192"/>
                  <a:pt x="7813" y="2232"/>
                </a:cubicBezTo>
              </a:path>
              <a:path w="1464" h="943">
                <a:moveTo>
                  <a:pt x="8285" y="2629"/>
                </a:moveTo>
                <a:cubicBezTo>
                  <a:pt x="8352" y="2663"/>
                  <a:pt x="8427" y="2654"/>
                  <a:pt x="8508" y="2654"/>
                </a:cubicBezTo>
              </a:path>
              <a:path w="1464" h="943">
                <a:moveTo>
                  <a:pt x="8260" y="2828"/>
                </a:moveTo>
                <a:cubicBezTo>
                  <a:pt x="8343" y="2828"/>
                  <a:pt x="8425" y="2828"/>
                  <a:pt x="8508" y="282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10"/>
          <p:cNvSpPr/>
          <p:nvPr/>
        </p:nvSpPr>
        <p:spPr>
          <a:xfrm>
            <a:off x="3251160" y="820800"/>
            <a:ext cx="374760" cy="314280"/>
          </a:xfrm>
          <a:custGeom>
            <a:avLst/>
            <a:gdLst/>
            <a:ahLst/>
            <a:rect l="l" t="t" r="r" b="b"/>
            <a:pathLst>
              <a:path w="1043" h="869">
                <a:moveTo>
                  <a:pt x="9252" y="2580"/>
                </a:moveTo>
                <a:cubicBezTo>
                  <a:pt x="9305" y="2527"/>
                  <a:pt x="9302" y="2507"/>
                  <a:pt x="9302" y="2431"/>
                </a:cubicBezTo>
                <a:cubicBezTo>
                  <a:pt x="9302" y="2370"/>
                  <a:pt x="9282" y="2268"/>
                  <a:pt x="9203" y="2282"/>
                </a:cubicBezTo>
                <a:cubicBezTo>
                  <a:pt x="9127" y="2296"/>
                  <a:pt x="9080" y="2394"/>
                  <a:pt x="9054" y="2456"/>
                </a:cubicBezTo>
                <a:cubicBezTo>
                  <a:pt x="9032" y="2509"/>
                  <a:pt x="9031" y="2648"/>
                  <a:pt x="9103" y="2679"/>
                </a:cubicBezTo>
                <a:cubicBezTo>
                  <a:pt x="9184" y="2714"/>
                  <a:pt x="9257" y="2661"/>
                  <a:pt x="9302" y="2629"/>
                </a:cubicBezTo>
                <a:cubicBezTo>
                  <a:pt x="9345" y="2599"/>
                  <a:pt x="9442" y="2493"/>
                  <a:pt x="9426" y="2431"/>
                </a:cubicBezTo>
                <a:cubicBezTo>
                  <a:pt x="9418" y="2439"/>
                  <a:pt x="9409" y="2448"/>
                  <a:pt x="9401" y="2456"/>
                </a:cubicBezTo>
                <a:cubicBezTo>
                  <a:pt x="9368" y="2510"/>
                  <a:pt x="9376" y="2561"/>
                  <a:pt x="9376" y="2629"/>
                </a:cubicBezTo>
                <a:cubicBezTo>
                  <a:pt x="9376" y="2751"/>
                  <a:pt x="9370" y="2862"/>
                  <a:pt x="9351" y="2977"/>
                </a:cubicBezTo>
                <a:cubicBezTo>
                  <a:pt x="9349" y="2988"/>
                  <a:pt x="9322" y="3152"/>
                  <a:pt x="9327" y="3150"/>
                </a:cubicBezTo>
                <a:cubicBezTo>
                  <a:pt x="9335" y="3134"/>
                  <a:pt x="9343" y="3117"/>
                  <a:pt x="9351" y="3101"/>
                </a:cubicBezTo>
              </a:path>
              <a:path w="1043" h="869">
                <a:moveTo>
                  <a:pt x="9624" y="2456"/>
                </a:moveTo>
                <a:cubicBezTo>
                  <a:pt x="9671" y="2409"/>
                  <a:pt x="9727" y="2344"/>
                  <a:pt x="9798" y="2332"/>
                </a:cubicBezTo>
                <a:cubicBezTo>
                  <a:pt x="9891" y="2316"/>
                  <a:pt x="9946" y="2386"/>
                  <a:pt x="9922" y="2480"/>
                </a:cubicBezTo>
                <a:cubicBezTo>
                  <a:pt x="9909" y="2532"/>
                  <a:pt x="9834" y="2614"/>
                  <a:pt x="9798" y="2654"/>
                </a:cubicBezTo>
                <a:cubicBezTo>
                  <a:pt x="9790" y="2662"/>
                  <a:pt x="9781" y="2671"/>
                  <a:pt x="9773" y="2679"/>
                </a:cubicBezTo>
                <a:cubicBezTo>
                  <a:pt x="9840" y="2687"/>
                  <a:pt x="9903" y="2698"/>
                  <a:pt x="9922" y="2778"/>
                </a:cubicBezTo>
                <a:cubicBezTo>
                  <a:pt x="9942" y="2863"/>
                  <a:pt x="9910" y="2933"/>
                  <a:pt x="9872" y="3001"/>
                </a:cubicBezTo>
                <a:cubicBezTo>
                  <a:pt x="9829" y="3077"/>
                  <a:pt x="9737" y="3099"/>
                  <a:pt x="9649" y="3076"/>
                </a:cubicBezTo>
                <a:cubicBezTo>
                  <a:pt x="9605" y="3054"/>
                  <a:pt x="9594" y="3051"/>
                  <a:pt x="9575" y="3026"/>
                </a:cubicBezTo>
              </a:path>
              <a:path w="1043" h="869">
                <a:moveTo>
                  <a:pt x="10046" y="3026"/>
                </a:moveTo>
                <a:cubicBezTo>
                  <a:pt x="10054" y="3026"/>
                  <a:pt x="10063" y="3026"/>
                  <a:pt x="10071" y="3026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11"/>
          <p:cNvSpPr/>
          <p:nvPr/>
        </p:nvSpPr>
        <p:spPr>
          <a:xfrm>
            <a:off x="3732120" y="795240"/>
            <a:ext cx="339840" cy="312840"/>
          </a:xfrm>
          <a:custGeom>
            <a:avLst/>
            <a:gdLst/>
            <a:ahLst/>
            <a:rect l="l" t="t" r="r" b="b"/>
            <a:pathLst>
              <a:path w="944" h="869">
                <a:moveTo>
                  <a:pt x="10666" y="2406"/>
                </a:moveTo>
                <a:cubicBezTo>
                  <a:pt x="10648" y="2279"/>
                  <a:pt x="10673" y="2253"/>
                  <a:pt x="10616" y="2208"/>
                </a:cubicBezTo>
                <a:cubicBezTo>
                  <a:pt x="10560" y="2215"/>
                  <a:pt x="10483" y="2235"/>
                  <a:pt x="10443" y="2282"/>
                </a:cubicBezTo>
                <a:cubicBezTo>
                  <a:pt x="10408" y="2323"/>
                  <a:pt x="10355" y="2399"/>
                  <a:pt x="10368" y="2456"/>
                </a:cubicBezTo>
                <a:cubicBezTo>
                  <a:pt x="10387" y="2542"/>
                  <a:pt x="10409" y="2601"/>
                  <a:pt x="10517" y="2580"/>
                </a:cubicBezTo>
                <a:cubicBezTo>
                  <a:pt x="10558" y="2572"/>
                  <a:pt x="10618" y="2515"/>
                  <a:pt x="10641" y="2480"/>
                </a:cubicBezTo>
                <a:cubicBezTo>
                  <a:pt x="10665" y="2432"/>
                  <a:pt x="10674" y="2418"/>
                  <a:pt x="10666" y="2381"/>
                </a:cubicBezTo>
                <a:cubicBezTo>
                  <a:pt x="10635" y="2463"/>
                  <a:pt x="10625" y="2566"/>
                  <a:pt x="10616" y="2654"/>
                </a:cubicBezTo>
                <a:cubicBezTo>
                  <a:pt x="10609" y="2725"/>
                  <a:pt x="10616" y="3108"/>
                  <a:pt x="10616" y="3026"/>
                </a:cubicBezTo>
              </a:path>
              <a:path w="944" h="869">
                <a:moveTo>
                  <a:pt x="10914" y="2257"/>
                </a:moveTo>
                <a:cubicBezTo>
                  <a:pt x="10991" y="2245"/>
                  <a:pt x="11133" y="2253"/>
                  <a:pt x="11212" y="2232"/>
                </a:cubicBezTo>
                <a:cubicBezTo>
                  <a:pt x="11261" y="2208"/>
                  <a:pt x="11278" y="2200"/>
                  <a:pt x="11311" y="2232"/>
                </a:cubicBezTo>
                <a:cubicBezTo>
                  <a:pt x="11280" y="2346"/>
                  <a:pt x="11235" y="2419"/>
                  <a:pt x="11187" y="2530"/>
                </a:cubicBezTo>
                <a:cubicBezTo>
                  <a:pt x="11143" y="2630"/>
                  <a:pt x="11112" y="2720"/>
                  <a:pt x="11112" y="2828"/>
                </a:cubicBezTo>
                <a:cubicBezTo>
                  <a:pt x="11112" y="2866"/>
                  <a:pt x="11140" y="2986"/>
                  <a:pt x="11137" y="3001"/>
                </a:cubicBezTo>
                <a:cubicBezTo>
                  <a:pt x="11129" y="3009"/>
                  <a:pt x="11120" y="3018"/>
                  <a:pt x="11112" y="3026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12"/>
          <p:cNvSpPr/>
          <p:nvPr/>
        </p:nvSpPr>
        <p:spPr>
          <a:xfrm>
            <a:off x="1652760" y="1303200"/>
            <a:ext cx="500040" cy="304920"/>
          </a:xfrm>
          <a:custGeom>
            <a:avLst/>
            <a:gdLst/>
            <a:ahLst/>
            <a:rect l="l" t="t" r="r" b="b"/>
            <a:pathLst>
              <a:path w="1390" h="845">
                <a:moveTo>
                  <a:pt x="4589" y="3621"/>
                </a:moveTo>
                <a:cubicBezTo>
                  <a:pt x="4619" y="3701"/>
                  <a:pt x="4595" y="3763"/>
                  <a:pt x="4614" y="3845"/>
                </a:cubicBezTo>
                <a:cubicBezTo>
                  <a:pt x="4638" y="3949"/>
                  <a:pt x="4637" y="4062"/>
                  <a:pt x="4663" y="4167"/>
                </a:cubicBezTo>
                <a:cubicBezTo>
                  <a:pt x="4682" y="4243"/>
                  <a:pt x="4709" y="4313"/>
                  <a:pt x="4713" y="4390"/>
                </a:cubicBezTo>
                <a:cubicBezTo>
                  <a:pt x="4713" y="4435"/>
                  <a:pt x="4710" y="4448"/>
                  <a:pt x="4738" y="4465"/>
                </a:cubicBezTo>
                <a:cubicBezTo>
                  <a:pt x="4738" y="4346"/>
                  <a:pt x="4717" y="4205"/>
                  <a:pt x="4762" y="4093"/>
                </a:cubicBezTo>
                <a:cubicBezTo>
                  <a:pt x="4772" y="4067"/>
                  <a:pt x="4829" y="3979"/>
                  <a:pt x="4862" y="3969"/>
                </a:cubicBezTo>
                <a:cubicBezTo>
                  <a:pt x="4929" y="3950"/>
                  <a:pt x="5061" y="3972"/>
                  <a:pt x="5110" y="4018"/>
                </a:cubicBezTo>
                <a:cubicBezTo>
                  <a:pt x="5156" y="4061"/>
                  <a:pt x="5167" y="4143"/>
                  <a:pt x="5184" y="4192"/>
                </a:cubicBezTo>
                <a:cubicBezTo>
                  <a:pt x="5209" y="4262"/>
                  <a:pt x="5209" y="4314"/>
                  <a:pt x="5209" y="4390"/>
                </a:cubicBezTo>
                <a:cubicBezTo>
                  <a:pt x="5209" y="4432"/>
                  <a:pt x="5209" y="4457"/>
                  <a:pt x="5209" y="4415"/>
                </a:cubicBezTo>
              </a:path>
              <a:path w="1390" h="845">
                <a:moveTo>
                  <a:pt x="5879" y="3671"/>
                </a:moveTo>
                <a:cubicBezTo>
                  <a:pt x="5830" y="3741"/>
                  <a:pt x="5770" y="3777"/>
                  <a:pt x="5730" y="3845"/>
                </a:cubicBezTo>
                <a:cubicBezTo>
                  <a:pt x="5696" y="3903"/>
                  <a:pt x="5664" y="3934"/>
                  <a:pt x="5606" y="3969"/>
                </a:cubicBezTo>
                <a:cubicBezTo>
                  <a:pt x="5529" y="4015"/>
                  <a:pt x="5519" y="4031"/>
                  <a:pt x="5581" y="4093"/>
                </a:cubicBezTo>
                <a:cubicBezTo>
                  <a:pt x="5627" y="4139"/>
                  <a:pt x="5665" y="4169"/>
                  <a:pt x="5705" y="4217"/>
                </a:cubicBezTo>
                <a:cubicBezTo>
                  <a:pt x="5748" y="4268"/>
                  <a:pt x="5804" y="4277"/>
                  <a:pt x="5854" y="4316"/>
                </a:cubicBezTo>
                <a:cubicBezTo>
                  <a:pt x="5913" y="4362"/>
                  <a:pt x="5918" y="4420"/>
                  <a:pt x="5978" y="4390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13"/>
          <p:cNvSpPr/>
          <p:nvPr/>
        </p:nvSpPr>
        <p:spPr>
          <a:xfrm>
            <a:off x="2394000" y="1357200"/>
            <a:ext cx="249120" cy="169920"/>
          </a:xfrm>
          <a:custGeom>
            <a:avLst/>
            <a:gdLst/>
            <a:ahLst/>
            <a:rect l="l" t="t" r="r" b="b"/>
            <a:pathLst>
              <a:path w="695" h="473">
                <a:moveTo>
                  <a:pt x="7045" y="3969"/>
                </a:moveTo>
                <a:cubicBezTo>
                  <a:pt x="7114" y="4005"/>
                  <a:pt x="7037" y="3923"/>
                  <a:pt x="7020" y="3894"/>
                </a:cubicBezTo>
                <a:cubicBezTo>
                  <a:pt x="6991" y="3844"/>
                  <a:pt x="6959" y="3785"/>
                  <a:pt x="6896" y="3770"/>
                </a:cubicBezTo>
                <a:cubicBezTo>
                  <a:pt x="6804" y="3748"/>
                  <a:pt x="6773" y="3829"/>
                  <a:pt x="6722" y="3870"/>
                </a:cubicBezTo>
                <a:cubicBezTo>
                  <a:pt x="6661" y="3918"/>
                  <a:pt x="6624" y="3980"/>
                  <a:pt x="6648" y="4068"/>
                </a:cubicBezTo>
                <a:cubicBezTo>
                  <a:pt x="6666" y="4137"/>
                  <a:pt x="6725" y="4177"/>
                  <a:pt x="6772" y="4217"/>
                </a:cubicBezTo>
                <a:cubicBezTo>
                  <a:pt x="6829" y="4266"/>
                  <a:pt x="6890" y="4238"/>
                  <a:pt x="6945" y="4192"/>
                </a:cubicBezTo>
                <a:cubicBezTo>
                  <a:pt x="6988" y="4157"/>
                  <a:pt x="7033" y="4098"/>
                  <a:pt x="7045" y="4043"/>
                </a:cubicBezTo>
                <a:cubicBezTo>
                  <a:pt x="7045" y="4027"/>
                  <a:pt x="7045" y="4010"/>
                  <a:pt x="7045" y="3994"/>
                </a:cubicBezTo>
                <a:cubicBezTo>
                  <a:pt x="7078" y="4061"/>
                  <a:pt x="7103" y="4100"/>
                  <a:pt x="7169" y="4142"/>
                </a:cubicBezTo>
                <a:cubicBezTo>
                  <a:pt x="7217" y="4173"/>
                  <a:pt x="7288" y="4181"/>
                  <a:pt x="7342" y="419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14"/>
          <p:cNvSpPr/>
          <p:nvPr/>
        </p:nvSpPr>
        <p:spPr>
          <a:xfrm>
            <a:off x="2894040" y="1224000"/>
            <a:ext cx="463680" cy="339840"/>
          </a:xfrm>
          <a:custGeom>
            <a:avLst/>
            <a:gdLst/>
            <a:ahLst/>
            <a:rect l="l" t="t" r="r" b="b"/>
            <a:pathLst>
              <a:path w="1291" h="944">
                <a:moveTo>
                  <a:pt x="8558" y="3522"/>
                </a:moveTo>
                <a:cubicBezTo>
                  <a:pt x="8476" y="3574"/>
                  <a:pt x="8386" y="3633"/>
                  <a:pt x="8310" y="3696"/>
                </a:cubicBezTo>
                <a:cubicBezTo>
                  <a:pt x="8242" y="3752"/>
                  <a:pt x="8175" y="3808"/>
                  <a:pt x="8111" y="3870"/>
                </a:cubicBezTo>
                <a:cubicBezTo>
                  <a:pt x="8058" y="3922"/>
                  <a:pt x="8058" y="3954"/>
                  <a:pt x="8111" y="4018"/>
                </a:cubicBezTo>
                <a:cubicBezTo>
                  <a:pt x="8169" y="4089"/>
                  <a:pt x="8282" y="4169"/>
                  <a:pt x="8359" y="4217"/>
                </a:cubicBezTo>
                <a:cubicBezTo>
                  <a:pt x="8406" y="4246"/>
                  <a:pt x="8569" y="4345"/>
                  <a:pt x="8632" y="4341"/>
                </a:cubicBezTo>
                <a:cubicBezTo>
                  <a:pt x="8640" y="4333"/>
                  <a:pt x="8649" y="4324"/>
                  <a:pt x="8657" y="4316"/>
                </a:cubicBezTo>
              </a:path>
              <a:path w="1291" h="944">
                <a:moveTo>
                  <a:pt x="8458" y="3398"/>
                </a:moveTo>
                <a:cubicBezTo>
                  <a:pt x="8371" y="3518"/>
                  <a:pt x="8261" y="3682"/>
                  <a:pt x="8210" y="3820"/>
                </a:cubicBezTo>
                <a:cubicBezTo>
                  <a:pt x="8161" y="3952"/>
                  <a:pt x="8147" y="4067"/>
                  <a:pt x="8086" y="4192"/>
                </a:cubicBezTo>
                <a:cubicBezTo>
                  <a:pt x="8058" y="4249"/>
                  <a:pt x="8010" y="4281"/>
                  <a:pt x="8062" y="4316"/>
                </a:cubicBezTo>
              </a:path>
              <a:path w="1291" h="944">
                <a:moveTo>
                  <a:pt x="8930" y="3423"/>
                </a:moveTo>
                <a:cubicBezTo>
                  <a:pt x="8891" y="3665"/>
                  <a:pt x="8857" y="3817"/>
                  <a:pt x="8880" y="4043"/>
                </a:cubicBezTo>
                <a:cubicBezTo>
                  <a:pt x="8888" y="4125"/>
                  <a:pt x="8863" y="4198"/>
                  <a:pt x="8905" y="4266"/>
                </a:cubicBezTo>
                <a:cubicBezTo>
                  <a:pt x="8905" y="4153"/>
                  <a:pt x="8914" y="4076"/>
                  <a:pt x="8954" y="3969"/>
                </a:cubicBezTo>
                <a:cubicBezTo>
                  <a:pt x="8976" y="3910"/>
                  <a:pt x="9077" y="3768"/>
                  <a:pt x="9128" y="3746"/>
                </a:cubicBezTo>
                <a:cubicBezTo>
                  <a:pt x="9188" y="3720"/>
                  <a:pt x="9286" y="3792"/>
                  <a:pt x="9302" y="3845"/>
                </a:cubicBezTo>
                <a:cubicBezTo>
                  <a:pt x="9322" y="3911"/>
                  <a:pt x="9324" y="3977"/>
                  <a:pt x="9302" y="4043"/>
                </a:cubicBezTo>
                <a:cubicBezTo>
                  <a:pt x="9281" y="4107"/>
                  <a:pt x="9234" y="4137"/>
                  <a:pt x="9178" y="4167"/>
                </a:cubicBezTo>
                <a:cubicBezTo>
                  <a:pt x="9122" y="4197"/>
                  <a:pt x="8989" y="4259"/>
                  <a:pt x="8930" y="4242"/>
                </a:cubicBezTo>
                <a:cubicBezTo>
                  <a:pt x="8954" y="4217"/>
                  <a:pt x="8962" y="4208"/>
                  <a:pt x="8979" y="419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15"/>
          <p:cNvSpPr/>
          <p:nvPr/>
        </p:nvSpPr>
        <p:spPr>
          <a:xfrm>
            <a:off x="2911320" y="1608120"/>
            <a:ext cx="723960" cy="285840"/>
          </a:xfrm>
          <a:custGeom>
            <a:avLst/>
            <a:gdLst/>
            <a:ahLst/>
            <a:rect l="l" t="t" r="r" b="b"/>
            <a:pathLst>
              <a:path w="2011" h="795">
                <a:moveTo>
                  <a:pt x="8359" y="4862"/>
                </a:moveTo>
                <a:cubicBezTo>
                  <a:pt x="8354" y="4827"/>
                  <a:pt x="8337" y="4749"/>
                  <a:pt x="8285" y="4738"/>
                </a:cubicBezTo>
                <a:cubicBezTo>
                  <a:pt x="8219" y="4725"/>
                  <a:pt x="8171" y="4758"/>
                  <a:pt x="8136" y="4812"/>
                </a:cubicBezTo>
                <a:cubicBezTo>
                  <a:pt x="8089" y="4885"/>
                  <a:pt x="8089" y="5001"/>
                  <a:pt x="8086" y="5085"/>
                </a:cubicBezTo>
                <a:cubicBezTo>
                  <a:pt x="8084" y="5154"/>
                  <a:pt x="8093" y="5251"/>
                  <a:pt x="8186" y="5234"/>
                </a:cubicBezTo>
                <a:cubicBezTo>
                  <a:pt x="8299" y="5213"/>
                  <a:pt x="8282" y="5170"/>
                  <a:pt x="8310" y="5085"/>
                </a:cubicBezTo>
                <a:cubicBezTo>
                  <a:pt x="8335" y="5008"/>
                  <a:pt x="8346" y="4960"/>
                  <a:pt x="8310" y="4887"/>
                </a:cubicBezTo>
                <a:cubicBezTo>
                  <a:pt x="8318" y="4980"/>
                  <a:pt x="8308" y="5103"/>
                  <a:pt x="8359" y="5184"/>
                </a:cubicBezTo>
                <a:cubicBezTo>
                  <a:pt x="8394" y="5240"/>
                  <a:pt x="8448" y="5256"/>
                  <a:pt x="8508" y="5259"/>
                </a:cubicBezTo>
                <a:cubicBezTo>
                  <a:pt x="8560" y="5259"/>
                  <a:pt x="8578" y="5258"/>
                  <a:pt x="8607" y="5234"/>
                </a:cubicBezTo>
              </a:path>
              <a:path w="2011" h="795">
                <a:moveTo>
                  <a:pt x="8756" y="4614"/>
                </a:moveTo>
                <a:cubicBezTo>
                  <a:pt x="8832" y="4655"/>
                  <a:pt x="8905" y="4694"/>
                  <a:pt x="8979" y="4738"/>
                </a:cubicBezTo>
                <a:cubicBezTo>
                  <a:pt x="9084" y="4801"/>
                  <a:pt x="9151" y="4825"/>
                  <a:pt x="9277" y="4837"/>
                </a:cubicBezTo>
                <a:cubicBezTo>
                  <a:pt x="9205" y="4847"/>
                  <a:pt x="9168" y="4869"/>
                  <a:pt x="9128" y="4936"/>
                </a:cubicBezTo>
                <a:cubicBezTo>
                  <a:pt x="9084" y="5011"/>
                  <a:pt x="9049" y="5088"/>
                  <a:pt x="9004" y="5159"/>
                </a:cubicBezTo>
                <a:cubicBezTo>
                  <a:pt x="8971" y="5192"/>
                  <a:pt x="8954" y="5209"/>
                  <a:pt x="8930" y="5234"/>
                </a:cubicBezTo>
              </a:path>
              <a:path w="2011" h="795">
                <a:moveTo>
                  <a:pt x="9624" y="4465"/>
                </a:moveTo>
                <a:cubicBezTo>
                  <a:pt x="9596" y="4570"/>
                  <a:pt x="9561" y="4679"/>
                  <a:pt x="9550" y="4787"/>
                </a:cubicBezTo>
                <a:cubicBezTo>
                  <a:pt x="9539" y="4890"/>
                  <a:pt x="9587" y="4989"/>
                  <a:pt x="9599" y="5085"/>
                </a:cubicBezTo>
                <a:cubicBezTo>
                  <a:pt x="9608" y="5157"/>
                  <a:pt x="9590" y="5177"/>
                  <a:pt x="9624" y="5234"/>
                </a:cubicBezTo>
                <a:cubicBezTo>
                  <a:pt x="9655" y="5214"/>
                  <a:pt x="9619" y="5093"/>
                  <a:pt x="9674" y="5011"/>
                </a:cubicBezTo>
                <a:cubicBezTo>
                  <a:pt x="9725" y="4936"/>
                  <a:pt x="9814" y="4843"/>
                  <a:pt x="9897" y="4812"/>
                </a:cubicBezTo>
                <a:cubicBezTo>
                  <a:pt x="9974" y="4784"/>
                  <a:pt x="10045" y="4847"/>
                  <a:pt x="10071" y="4911"/>
                </a:cubicBezTo>
                <a:cubicBezTo>
                  <a:pt x="10103" y="4988"/>
                  <a:pt x="10107" y="5043"/>
                  <a:pt x="10071" y="5110"/>
                </a:cubicBezTo>
                <a:cubicBezTo>
                  <a:pt x="10002" y="5238"/>
                  <a:pt x="9861" y="5224"/>
                  <a:pt x="9723" y="5234"/>
                </a:cubicBezTo>
                <a:cubicBezTo>
                  <a:pt x="9607" y="5242"/>
                  <a:pt x="9491" y="5215"/>
                  <a:pt x="9376" y="5209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16"/>
          <p:cNvSpPr/>
          <p:nvPr/>
        </p:nvSpPr>
        <p:spPr>
          <a:xfrm>
            <a:off x="4017960" y="1473120"/>
            <a:ext cx="1233360" cy="401760"/>
          </a:xfrm>
          <a:custGeom>
            <a:avLst/>
            <a:gdLst/>
            <a:ahLst/>
            <a:rect l="l" t="t" r="r" b="b"/>
            <a:pathLst>
              <a:path w="3424" h="1117">
                <a:moveTo>
                  <a:pt x="11261" y="4093"/>
                </a:moveTo>
                <a:cubicBezTo>
                  <a:pt x="11205" y="4189"/>
                  <a:pt x="11248" y="4361"/>
                  <a:pt x="11237" y="4465"/>
                </a:cubicBezTo>
                <a:cubicBezTo>
                  <a:pt x="11223" y="4599"/>
                  <a:pt x="11237" y="4724"/>
                  <a:pt x="11237" y="4862"/>
                </a:cubicBezTo>
                <a:cubicBezTo>
                  <a:pt x="11237" y="4969"/>
                  <a:pt x="11229" y="5060"/>
                  <a:pt x="11212" y="5159"/>
                </a:cubicBezTo>
                <a:cubicBezTo>
                  <a:pt x="11195" y="5263"/>
                  <a:pt x="11168" y="5153"/>
                  <a:pt x="11162" y="5110"/>
                </a:cubicBezTo>
              </a:path>
              <a:path w="3424" h="1117">
                <a:moveTo>
                  <a:pt x="12080" y="4638"/>
                </a:moveTo>
                <a:cubicBezTo>
                  <a:pt x="12064" y="4718"/>
                  <a:pt x="12040" y="4652"/>
                  <a:pt x="11956" y="4638"/>
                </a:cubicBezTo>
                <a:cubicBezTo>
                  <a:pt x="11909" y="4630"/>
                  <a:pt x="11817" y="4663"/>
                  <a:pt x="11782" y="4688"/>
                </a:cubicBezTo>
                <a:cubicBezTo>
                  <a:pt x="11730" y="4726"/>
                  <a:pt x="11717" y="4761"/>
                  <a:pt x="11757" y="4812"/>
                </a:cubicBezTo>
                <a:cubicBezTo>
                  <a:pt x="11808" y="4876"/>
                  <a:pt x="11933" y="4868"/>
                  <a:pt x="12005" y="4936"/>
                </a:cubicBezTo>
                <a:cubicBezTo>
                  <a:pt x="12045" y="4973"/>
                  <a:pt x="12094" y="5059"/>
                  <a:pt x="12005" y="5085"/>
                </a:cubicBezTo>
                <a:cubicBezTo>
                  <a:pt x="11932" y="5106"/>
                  <a:pt x="11861" y="5110"/>
                  <a:pt x="11782" y="5110"/>
                </a:cubicBezTo>
                <a:cubicBezTo>
                  <a:pt x="11730" y="5110"/>
                  <a:pt x="11677" y="5088"/>
                  <a:pt x="11658" y="5060"/>
                </a:cubicBezTo>
              </a:path>
              <a:path w="3424" h="1117">
                <a:moveTo>
                  <a:pt x="12254" y="4887"/>
                </a:moveTo>
                <a:cubicBezTo>
                  <a:pt x="12248" y="4921"/>
                  <a:pt x="12167" y="5128"/>
                  <a:pt x="12254" y="5159"/>
                </a:cubicBezTo>
                <a:cubicBezTo>
                  <a:pt x="12290" y="5172"/>
                  <a:pt x="12410" y="5119"/>
                  <a:pt x="12427" y="5085"/>
                </a:cubicBezTo>
                <a:cubicBezTo>
                  <a:pt x="12464" y="5010"/>
                  <a:pt x="12439" y="4935"/>
                  <a:pt x="12427" y="4862"/>
                </a:cubicBezTo>
                <a:cubicBezTo>
                  <a:pt x="12419" y="4809"/>
                  <a:pt x="12349" y="4736"/>
                  <a:pt x="12278" y="4738"/>
                </a:cubicBezTo>
                <a:cubicBezTo>
                  <a:pt x="12237" y="4746"/>
                  <a:pt x="12195" y="4754"/>
                  <a:pt x="12154" y="4762"/>
                </a:cubicBezTo>
              </a:path>
              <a:path w="3424" h="1117">
                <a:moveTo>
                  <a:pt x="12601" y="4366"/>
                </a:moveTo>
                <a:cubicBezTo>
                  <a:pt x="12601" y="4482"/>
                  <a:pt x="12576" y="4575"/>
                  <a:pt x="12551" y="4688"/>
                </a:cubicBezTo>
                <a:cubicBezTo>
                  <a:pt x="12522" y="4820"/>
                  <a:pt x="12502" y="4925"/>
                  <a:pt x="12502" y="5060"/>
                </a:cubicBezTo>
                <a:cubicBezTo>
                  <a:pt x="12502" y="5138"/>
                  <a:pt x="12506" y="5153"/>
                  <a:pt x="12551" y="5209"/>
                </a:cubicBezTo>
                <a:cubicBezTo>
                  <a:pt x="12578" y="5155"/>
                  <a:pt x="12590" y="5135"/>
                  <a:pt x="12626" y="5110"/>
                </a:cubicBezTo>
              </a:path>
              <a:path w="3424" h="1117">
                <a:moveTo>
                  <a:pt x="12799" y="4837"/>
                </a:moveTo>
                <a:cubicBezTo>
                  <a:pt x="12778" y="4956"/>
                  <a:pt x="12751" y="4994"/>
                  <a:pt x="12824" y="5085"/>
                </a:cubicBezTo>
                <a:cubicBezTo>
                  <a:pt x="12865" y="5044"/>
                  <a:pt x="12895" y="5013"/>
                  <a:pt x="12923" y="4961"/>
                </a:cubicBezTo>
                <a:cubicBezTo>
                  <a:pt x="12955" y="4900"/>
                  <a:pt x="12977" y="4864"/>
                  <a:pt x="13022" y="4812"/>
                </a:cubicBezTo>
                <a:cubicBezTo>
                  <a:pt x="13042" y="4886"/>
                  <a:pt x="13027" y="4965"/>
                  <a:pt x="13047" y="5035"/>
                </a:cubicBezTo>
                <a:cubicBezTo>
                  <a:pt x="13070" y="5117"/>
                  <a:pt x="13145" y="5091"/>
                  <a:pt x="13196" y="5060"/>
                </a:cubicBezTo>
              </a:path>
              <a:path w="3424" h="1117">
                <a:moveTo>
                  <a:pt x="13345" y="4490"/>
                </a:moveTo>
                <a:cubicBezTo>
                  <a:pt x="13318" y="4570"/>
                  <a:pt x="13281" y="4676"/>
                  <a:pt x="13271" y="4762"/>
                </a:cubicBezTo>
                <a:cubicBezTo>
                  <a:pt x="13258" y="4865"/>
                  <a:pt x="13277" y="4944"/>
                  <a:pt x="13320" y="5035"/>
                </a:cubicBezTo>
                <a:cubicBezTo>
                  <a:pt x="13342" y="5079"/>
                  <a:pt x="13345" y="5100"/>
                  <a:pt x="13370" y="5060"/>
                </a:cubicBezTo>
              </a:path>
              <a:path w="3424" h="1117">
                <a:moveTo>
                  <a:pt x="13072" y="4713"/>
                </a:moveTo>
                <a:cubicBezTo>
                  <a:pt x="13218" y="4713"/>
                  <a:pt x="13464" y="4666"/>
                  <a:pt x="13593" y="4738"/>
                </a:cubicBezTo>
                <a:cubicBezTo>
                  <a:pt x="13623" y="4755"/>
                  <a:pt x="13640" y="4904"/>
                  <a:pt x="13643" y="4936"/>
                </a:cubicBezTo>
                <a:cubicBezTo>
                  <a:pt x="13643" y="5018"/>
                  <a:pt x="13643" y="5068"/>
                  <a:pt x="13643" y="4986"/>
                </a:cubicBezTo>
              </a:path>
              <a:path w="3424" h="1117">
                <a:moveTo>
                  <a:pt x="13593" y="4490"/>
                </a:moveTo>
                <a:cubicBezTo>
                  <a:pt x="13601" y="4498"/>
                  <a:pt x="13610" y="4506"/>
                  <a:pt x="13618" y="4514"/>
                </a:cubicBezTo>
              </a:path>
              <a:path w="3424" h="1117">
                <a:moveTo>
                  <a:pt x="13841" y="4738"/>
                </a:moveTo>
                <a:cubicBezTo>
                  <a:pt x="13831" y="4796"/>
                  <a:pt x="13790" y="4943"/>
                  <a:pt x="13816" y="5011"/>
                </a:cubicBezTo>
                <a:cubicBezTo>
                  <a:pt x="13842" y="5078"/>
                  <a:pt x="13921" y="5070"/>
                  <a:pt x="13965" y="5035"/>
                </a:cubicBezTo>
                <a:cubicBezTo>
                  <a:pt x="14014" y="4995"/>
                  <a:pt x="14092" y="4880"/>
                  <a:pt x="14089" y="4812"/>
                </a:cubicBezTo>
                <a:cubicBezTo>
                  <a:pt x="14086" y="4752"/>
                  <a:pt x="13988" y="4699"/>
                  <a:pt x="13940" y="4688"/>
                </a:cubicBezTo>
                <a:cubicBezTo>
                  <a:pt x="13899" y="4688"/>
                  <a:pt x="13891" y="4688"/>
                  <a:pt x="13866" y="4688"/>
                </a:cubicBezTo>
              </a:path>
              <a:path w="3424" h="1117">
                <a:moveTo>
                  <a:pt x="14163" y="4812"/>
                </a:moveTo>
                <a:cubicBezTo>
                  <a:pt x="14184" y="4894"/>
                  <a:pt x="14192" y="4910"/>
                  <a:pt x="14188" y="4961"/>
                </a:cubicBezTo>
                <a:cubicBezTo>
                  <a:pt x="14196" y="4859"/>
                  <a:pt x="14199" y="4824"/>
                  <a:pt x="14288" y="4762"/>
                </a:cubicBezTo>
                <a:cubicBezTo>
                  <a:pt x="14382" y="4696"/>
                  <a:pt x="14477" y="4705"/>
                  <a:pt x="14536" y="4812"/>
                </a:cubicBezTo>
                <a:cubicBezTo>
                  <a:pt x="14555" y="4847"/>
                  <a:pt x="14597" y="4995"/>
                  <a:pt x="14585" y="5035"/>
                </a:cubicBezTo>
                <a:cubicBezTo>
                  <a:pt x="14577" y="5043"/>
                  <a:pt x="14568" y="5052"/>
                  <a:pt x="14560" y="5060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Ink 17"/>
          <p:cNvSpPr/>
          <p:nvPr/>
        </p:nvSpPr>
        <p:spPr>
          <a:xfrm>
            <a:off x="231840" y="3510000"/>
            <a:ext cx="384120" cy="1098360"/>
          </a:xfrm>
          <a:custGeom>
            <a:avLst/>
            <a:gdLst/>
            <a:ahLst/>
            <a:rect l="l" t="t" r="r" b="b"/>
            <a:pathLst>
              <a:path w="1068" h="3052">
                <a:moveTo>
                  <a:pt x="744" y="10939"/>
                </a:moveTo>
                <a:cubicBezTo>
                  <a:pt x="730" y="11006"/>
                  <a:pt x="725" y="11060"/>
                  <a:pt x="695" y="11112"/>
                </a:cubicBezTo>
                <a:cubicBezTo>
                  <a:pt x="695" y="11029"/>
                  <a:pt x="716" y="10967"/>
                  <a:pt x="719" y="10889"/>
                </a:cubicBezTo>
                <a:cubicBezTo>
                  <a:pt x="724" y="10782"/>
                  <a:pt x="739" y="10670"/>
                  <a:pt x="769" y="10567"/>
                </a:cubicBezTo>
                <a:cubicBezTo>
                  <a:pt x="795" y="10476"/>
                  <a:pt x="797" y="10384"/>
                  <a:pt x="819" y="10294"/>
                </a:cubicBezTo>
                <a:cubicBezTo>
                  <a:pt x="839" y="10211"/>
                  <a:pt x="874" y="10118"/>
                  <a:pt x="893" y="10046"/>
                </a:cubicBezTo>
                <a:cubicBezTo>
                  <a:pt x="915" y="9961"/>
                  <a:pt x="916" y="9852"/>
                  <a:pt x="943" y="9773"/>
                </a:cubicBezTo>
                <a:cubicBezTo>
                  <a:pt x="951" y="9765"/>
                  <a:pt x="959" y="9756"/>
                  <a:pt x="967" y="9748"/>
                </a:cubicBezTo>
                <a:cubicBezTo>
                  <a:pt x="967" y="9854"/>
                  <a:pt x="983" y="9942"/>
                  <a:pt x="992" y="10046"/>
                </a:cubicBezTo>
                <a:cubicBezTo>
                  <a:pt x="1001" y="10146"/>
                  <a:pt x="995" y="10246"/>
                  <a:pt x="1017" y="10344"/>
                </a:cubicBezTo>
                <a:cubicBezTo>
                  <a:pt x="1043" y="10459"/>
                  <a:pt x="1062" y="10574"/>
                  <a:pt x="1091" y="10691"/>
                </a:cubicBezTo>
                <a:cubicBezTo>
                  <a:pt x="1117" y="10796"/>
                  <a:pt x="1136" y="10906"/>
                  <a:pt x="1141" y="11013"/>
                </a:cubicBezTo>
                <a:cubicBezTo>
                  <a:pt x="1144" y="11070"/>
                  <a:pt x="1248" y="11163"/>
                  <a:pt x="1191" y="11162"/>
                </a:cubicBezTo>
                <a:cubicBezTo>
                  <a:pt x="1168" y="11139"/>
                  <a:pt x="1160" y="11135"/>
                  <a:pt x="1166" y="11112"/>
                </a:cubicBezTo>
              </a:path>
              <a:path w="1068" h="3052">
                <a:moveTo>
                  <a:pt x="645" y="10567"/>
                </a:moveTo>
                <a:cubicBezTo>
                  <a:pt x="706" y="10493"/>
                  <a:pt x="761" y="10517"/>
                  <a:pt x="868" y="10517"/>
                </a:cubicBezTo>
                <a:cubicBezTo>
                  <a:pt x="951" y="10517"/>
                  <a:pt x="1033" y="10517"/>
                  <a:pt x="1116" y="10517"/>
                </a:cubicBezTo>
              </a:path>
              <a:path w="1068" h="3052">
                <a:moveTo>
                  <a:pt x="1339" y="10492"/>
                </a:moveTo>
                <a:cubicBezTo>
                  <a:pt x="1405" y="10492"/>
                  <a:pt x="1472" y="10492"/>
                  <a:pt x="1538" y="10492"/>
                </a:cubicBezTo>
              </a:path>
              <a:path w="1068" h="3052">
                <a:moveTo>
                  <a:pt x="1290" y="10691"/>
                </a:moveTo>
                <a:cubicBezTo>
                  <a:pt x="1358" y="10691"/>
                  <a:pt x="1401" y="10695"/>
                  <a:pt x="1463" y="10716"/>
                </a:cubicBezTo>
              </a:path>
              <a:path w="1068" h="3052">
                <a:moveTo>
                  <a:pt x="868" y="11782"/>
                </a:moveTo>
                <a:cubicBezTo>
                  <a:pt x="863" y="11965"/>
                  <a:pt x="843" y="12124"/>
                  <a:pt x="843" y="12303"/>
                </a:cubicBezTo>
                <a:cubicBezTo>
                  <a:pt x="843" y="12397"/>
                  <a:pt x="868" y="12480"/>
                  <a:pt x="868" y="12576"/>
                </a:cubicBezTo>
                <a:cubicBezTo>
                  <a:pt x="868" y="12626"/>
                  <a:pt x="868" y="12675"/>
                  <a:pt x="868" y="12725"/>
                </a:cubicBezTo>
              </a:path>
              <a:path w="1068" h="3052">
                <a:moveTo>
                  <a:pt x="794" y="12378"/>
                </a:moveTo>
                <a:cubicBezTo>
                  <a:pt x="794" y="12215"/>
                  <a:pt x="796" y="12063"/>
                  <a:pt x="819" y="11906"/>
                </a:cubicBezTo>
                <a:cubicBezTo>
                  <a:pt x="830" y="11831"/>
                  <a:pt x="858" y="11778"/>
                  <a:pt x="893" y="11708"/>
                </a:cubicBezTo>
                <a:cubicBezTo>
                  <a:pt x="916" y="11662"/>
                  <a:pt x="951" y="11588"/>
                  <a:pt x="1017" y="11609"/>
                </a:cubicBezTo>
                <a:cubicBezTo>
                  <a:pt x="1083" y="11630"/>
                  <a:pt x="1130" y="11717"/>
                  <a:pt x="1141" y="11782"/>
                </a:cubicBezTo>
                <a:cubicBezTo>
                  <a:pt x="1149" y="11829"/>
                  <a:pt x="1130" y="11951"/>
                  <a:pt x="1091" y="11981"/>
                </a:cubicBezTo>
                <a:cubicBezTo>
                  <a:pt x="1053" y="12010"/>
                  <a:pt x="982" y="12047"/>
                  <a:pt x="943" y="12055"/>
                </a:cubicBezTo>
                <a:cubicBezTo>
                  <a:pt x="926" y="12055"/>
                  <a:pt x="910" y="12055"/>
                  <a:pt x="893" y="12055"/>
                </a:cubicBezTo>
                <a:cubicBezTo>
                  <a:pt x="968" y="12066"/>
                  <a:pt x="1007" y="12099"/>
                  <a:pt x="1067" y="12154"/>
                </a:cubicBezTo>
                <a:cubicBezTo>
                  <a:pt x="1125" y="12208"/>
                  <a:pt x="1118" y="12283"/>
                  <a:pt x="1141" y="12353"/>
                </a:cubicBezTo>
                <a:cubicBezTo>
                  <a:pt x="1165" y="12424"/>
                  <a:pt x="1186" y="12526"/>
                  <a:pt x="1166" y="12601"/>
                </a:cubicBezTo>
                <a:cubicBezTo>
                  <a:pt x="1144" y="12684"/>
                  <a:pt x="1116" y="12735"/>
                  <a:pt x="1042" y="12774"/>
                </a:cubicBezTo>
                <a:cubicBezTo>
                  <a:pt x="959" y="12818"/>
                  <a:pt x="924" y="12788"/>
                  <a:pt x="843" y="12774"/>
                </a:cubicBezTo>
                <a:cubicBezTo>
                  <a:pt x="756" y="12759"/>
                  <a:pt x="779" y="12774"/>
                  <a:pt x="769" y="12675"/>
                </a:cubicBezTo>
              </a:path>
              <a:path w="1068" h="3052">
                <a:moveTo>
                  <a:pt x="1364" y="12278"/>
                </a:moveTo>
                <a:cubicBezTo>
                  <a:pt x="1445" y="12257"/>
                  <a:pt x="1505" y="12254"/>
                  <a:pt x="1588" y="12254"/>
                </a:cubicBezTo>
                <a:cubicBezTo>
                  <a:pt x="1632" y="12254"/>
                  <a:pt x="1646" y="12257"/>
                  <a:pt x="1662" y="12229"/>
                </a:cubicBezTo>
              </a:path>
              <a:path w="1068" h="3052">
                <a:moveTo>
                  <a:pt x="1389" y="12378"/>
                </a:moveTo>
                <a:cubicBezTo>
                  <a:pt x="1502" y="12411"/>
                  <a:pt x="1598" y="12439"/>
                  <a:pt x="1712" y="1245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Ink 18"/>
          <p:cNvSpPr/>
          <p:nvPr/>
        </p:nvSpPr>
        <p:spPr>
          <a:xfrm>
            <a:off x="250920" y="4919760"/>
            <a:ext cx="330120" cy="411120"/>
          </a:xfrm>
          <a:custGeom>
            <a:avLst/>
            <a:gdLst/>
            <a:ahLst/>
            <a:rect l="l" t="t" r="r" b="b"/>
            <a:pathLst>
              <a:path w="918" h="1142">
                <a:moveTo>
                  <a:pt x="1067" y="14089"/>
                </a:moveTo>
                <a:cubicBezTo>
                  <a:pt x="1067" y="13995"/>
                  <a:pt x="1097" y="13817"/>
                  <a:pt x="1042" y="13742"/>
                </a:cubicBezTo>
                <a:cubicBezTo>
                  <a:pt x="1003" y="13689"/>
                  <a:pt x="969" y="13668"/>
                  <a:pt x="918" y="13692"/>
                </a:cubicBezTo>
                <a:cubicBezTo>
                  <a:pt x="877" y="13711"/>
                  <a:pt x="787" y="13772"/>
                  <a:pt x="769" y="13816"/>
                </a:cubicBezTo>
                <a:cubicBezTo>
                  <a:pt x="743" y="13878"/>
                  <a:pt x="738" y="13948"/>
                  <a:pt x="719" y="14015"/>
                </a:cubicBezTo>
                <a:cubicBezTo>
                  <a:pt x="697" y="14092"/>
                  <a:pt x="695" y="14154"/>
                  <a:pt x="695" y="14238"/>
                </a:cubicBezTo>
                <a:cubicBezTo>
                  <a:pt x="695" y="14346"/>
                  <a:pt x="732" y="14417"/>
                  <a:pt x="769" y="14511"/>
                </a:cubicBezTo>
                <a:cubicBezTo>
                  <a:pt x="801" y="14592"/>
                  <a:pt x="849" y="14617"/>
                  <a:pt x="893" y="14684"/>
                </a:cubicBezTo>
                <a:cubicBezTo>
                  <a:pt x="914" y="14717"/>
                  <a:pt x="973" y="14796"/>
                  <a:pt x="1017" y="14808"/>
                </a:cubicBezTo>
                <a:cubicBezTo>
                  <a:pt x="1067" y="14808"/>
                  <a:pt x="1083" y="14808"/>
                  <a:pt x="1067" y="14759"/>
                </a:cubicBezTo>
              </a:path>
              <a:path w="918" h="1142">
                <a:moveTo>
                  <a:pt x="1265" y="14263"/>
                </a:moveTo>
                <a:cubicBezTo>
                  <a:pt x="1321" y="14291"/>
                  <a:pt x="1395" y="14308"/>
                  <a:pt x="1463" y="14312"/>
                </a:cubicBezTo>
                <a:cubicBezTo>
                  <a:pt x="1505" y="14312"/>
                  <a:pt x="1513" y="14312"/>
                  <a:pt x="1538" y="14312"/>
                </a:cubicBezTo>
              </a:path>
              <a:path w="918" h="1142">
                <a:moveTo>
                  <a:pt x="1414" y="14560"/>
                </a:moveTo>
                <a:cubicBezTo>
                  <a:pt x="1509" y="14612"/>
                  <a:pt x="1505" y="14610"/>
                  <a:pt x="1612" y="14610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Ink 19"/>
          <p:cNvSpPr/>
          <p:nvPr/>
        </p:nvSpPr>
        <p:spPr>
          <a:xfrm>
            <a:off x="696960" y="3589200"/>
            <a:ext cx="438120" cy="474840"/>
          </a:xfrm>
          <a:custGeom>
            <a:avLst/>
            <a:gdLst/>
            <a:ahLst/>
            <a:rect l="l" t="t" r="r" b="b"/>
            <a:pathLst>
              <a:path w="1216" h="1316">
                <a:moveTo>
                  <a:pt x="1960" y="10120"/>
                </a:moveTo>
                <a:cubicBezTo>
                  <a:pt x="1960" y="10227"/>
                  <a:pt x="1947" y="10316"/>
                  <a:pt x="1935" y="10418"/>
                </a:cubicBezTo>
                <a:cubicBezTo>
                  <a:pt x="1924" y="10520"/>
                  <a:pt x="1960" y="10634"/>
                  <a:pt x="1960" y="10740"/>
                </a:cubicBezTo>
                <a:cubicBezTo>
                  <a:pt x="1960" y="10867"/>
                  <a:pt x="1956" y="11001"/>
                  <a:pt x="1935" y="11112"/>
                </a:cubicBezTo>
                <a:cubicBezTo>
                  <a:pt x="1935" y="11157"/>
                  <a:pt x="1932" y="11177"/>
                  <a:pt x="1960" y="11137"/>
                </a:cubicBezTo>
              </a:path>
              <a:path w="1216" h="1316">
                <a:moveTo>
                  <a:pt x="2282" y="10145"/>
                </a:moveTo>
                <a:cubicBezTo>
                  <a:pt x="2282" y="10467"/>
                  <a:pt x="2296" y="10800"/>
                  <a:pt x="2257" y="11112"/>
                </a:cubicBezTo>
                <a:cubicBezTo>
                  <a:pt x="2257" y="11179"/>
                  <a:pt x="2257" y="11195"/>
                  <a:pt x="2257" y="11237"/>
                </a:cubicBezTo>
              </a:path>
              <a:path w="1216" h="1316">
                <a:moveTo>
                  <a:pt x="2580" y="10220"/>
                </a:moveTo>
                <a:cubicBezTo>
                  <a:pt x="2580" y="10317"/>
                  <a:pt x="2583" y="10399"/>
                  <a:pt x="2555" y="10492"/>
                </a:cubicBezTo>
                <a:cubicBezTo>
                  <a:pt x="2526" y="10588"/>
                  <a:pt x="2508" y="10690"/>
                  <a:pt x="2505" y="10790"/>
                </a:cubicBezTo>
                <a:cubicBezTo>
                  <a:pt x="2501" y="10902"/>
                  <a:pt x="2487" y="11035"/>
                  <a:pt x="2530" y="11137"/>
                </a:cubicBezTo>
                <a:cubicBezTo>
                  <a:pt x="2556" y="11199"/>
                  <a:pt x="2625" y="11305"/>
                  <a:pt x="2704" y="11286"/>
                </a:cubicBezTo>
                <a:cubicBezTo>
                  <a:pt x="2806" y="11262"/>
                  <a:pt x="2808" y="11213"/>
                  <a:pt x="2853" y="11137"/>
                </a:cubicBezTo>
                <a:cubicBezTo>
                  <a:pt x="2891" y="11073"/>
                  <a:pt x="2919" y="10988"/>
                  <a:pt x="2927" y="10914"/>
                </a:cubicBezTo>
                <a:cubicBezTo>
                  <a:pt x="2938" y="10808"/>
                  <a:pt x="2928" y="10668"/>
                  <a:pt x="2902" y="10567"/>
                </a:cubicBezTo>
                <a:cubicBezTo>
                  <a:pt x="2882" y="10491"/>
                  <a:pt x="2853" y="10408"/>
                  <a:pt x="2803" y="10344"/>
                </a:cubicBezTo>
                <a:cubicBezTo>
                  <a:pt x="2750" y="10276"/>
                  <a:pt x="2707" y="10269"/>
                  <a:pt x="2629" y="10269"/>
                </a:cubicBezTo>
                <a:cubicBezTo>
                  <a:pt x="2613" y="10269"/>
                  <a:pt x="2596" y="10269"/>
                  <a:pt x="2580" y="10269"/>
                </a:cubicBezTo>
              </a:path>
              <a:path w="1216" h="1316">
                <a:moveTo>
                  <a:pt x="2952" y="10046"/>
                </a:moveTo>
                <a:cubicBezTo>
                  <a:pt x="2908" y="10111"/>
                  <a:pt x="2882" y="10130"/>
                  <a:pt x="2952" y="10145"/>
                </a:cubicBezTo>
              </a:path>
              <a:path w="1216" h="1316">
                <a:moveTo>
                  <a:pt x="3051" y="10145"/>
                </a:moveTo>
                <a:cubicBezTo>
                  <a:pt x="3099" y="10121"/>
                  <a:pt x="3113" y="10113"/>
                  <a:pt x="3150" y="10120"/>
                </a:cubicBezTo>
                <a:cubicBezTo>
                  <a:pt x="3141" y="10023"/>
                  <a:pt x="3151" y="10026"/>
                  <a:pt x="3076" y="9971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nk 20"/>
          <p:cNvSpPr/>
          <p:nvPr/>
        </p:nvSpPr>
        <p:spPr>
          <a:xfrm>
            <a:off x="1419120" y="3732120"/>
            <a:ext cx="760680" cy="331920"/>
          </a:xfrm>
          <a:custGeom>
            <a:avLst/>
            <a:gdLst/>
            <a:ahLst/>
            <a:rect l="l" t="t" r="r" b="b"/>
            <a:pathLst>
              <a:path w="2109" h="919">
                <a:moveTo>
                  <a:pt x="4291" y="10889"/>
                </a:moveTo>
                <a:cubicBezTo>
                  <a:pt x="4263" y="10917"/>
                  <a:pt x="4254" y="10931"/>
                  <a:pt x="4266" y="10964"/>
                </a:cubicBezTo>
                <a:cubicBezTo>
                  <a:pt x="4259" y="10906"/>
                  <a:pt x="4241" y="10816"/>
                  <a:pt x="4217" y="10765"/>
                </a:cubicBezTo>
                <a:cubicBezTo>
                  <a:pt x="4187" y="10700"/>
                  <a:pt x="4119" y="10709"/>
                  <a:pt x="4068" y="10740"/>
                </a:cubicBezTo>
                <a:cubicBezTo>
                  <a:pt x="4029" y="10764"/>
                  <a:pt x="3979" y="10870"/>
                  <a:pt x="3969" y="10914"/>
                </a:cubicBezTo>
                <a:cubicBezTo>
                  <a:pt x="3951" y="10995"/>
                  <a:pt x="3932" y="11069"/>
                  <a:pt x="3969" y="11137"/>
                </a:cubicBezTo>
                <a:cubicBezTo>
                  <a:pt x="4004" y="11203"/>
                  <a:pt x="4023" y="11274"/>
                  <a:pt x="4118" y="11237"/>
                </a:cubicBezTo>
                <a:cubicBezTo>
                  <a:pt x="4123" y="11235"/>
                  <a:pt x="4188" y="11125"/>
                  <a:pt x="4192" y="11112"/>
                </a:cubicBezTo>
                <a:cubicBezTo>
                  <a:pt x="4209" y="11054"/>
                  <a:pt x="4220" y="10999"/>
                  <a:pt x="4242" y="10939"/>
                </a:cubicBezTo>
                <a:cubicBezTo>
                  <a:pt x="4242" y="11017"/>
                  <a:pt x="4240" y="11074"/>
                  <a:pt x="4291" y="11137"/>
                </a:cubicBezTo>
                <a:cubicBezTo>
                  <a:pt x="4340" y="11197"/>
                  <a:pt x="4347" y="11207"/>
                  <a:pt x="4415" y="11187"/>
                </a:cubicBezTo>
              </a:path>
              <a:path w="2109" h="919">
                <a:moveTo>
                  <a:pt x="4514" y="10790"/>
                </a:moveTo>
                <a:cubicBezTo>
                  <a:pt x="4574" y="10730"/>
                  <a:pt x="4600" y="10740"/>
                  <a:pt x="4688" y="10740"/>
                </a:cubicBezTo>
                <a:cubicBezTo>
                  <a:pt x="4696" y="10740"/>
                  <a:pt x="4705" y="10740"/>
                  <a:pt x="4713" y="10740"/>
                </a:cubicBezTo>
              </a:path>
              <a:path w="2109" h="919">
                <a:moveTo>
                  <a:pt x="4539" y="10964"/>
                </a:moveTo>
                <a:cubicBezTo>
                  <a:pt x="4645" y="10986"/>
                  <a:pt x="4679" y="11006"/>
                  <a:pt x="4762" y="10939"/>
                </a:cubicBezTo>
              </a:path>
              <a:path w="2109" h="919">
                <a:moveTo>
                  <a:pt x="4961" y="10418"/>
                </a:moveTo>
                <a:cubicBezTo>
                  <a:pt x="4961" y="10480"/>
                  <a:pt x="4938" y="10532"/>
                  <a:pt x="4936" y="10592"/>
                </a:cubicBezTo>
                <a:cubicBezTo>
                  <a:pt x="4932" y="10706"/>
                  <a:pt x="4961" y="10799"/>
                  <a:pt x="4961" y="10914"/>
                </a:cubicBezTo>
                <a:cubicBezTo>
                  <a:pt x="4961" y="11016"/>
                  <a:pt x="4978" y="11111"/>
                  <a:pt x="4986" y="11212"/>
                </a:cubicBezTo>
              </a:path>
              <a:path w="2109" h="919">
                <a:moveTo>
                  <a:pt x="5135" y="10641"/>
                </a:moveTo>
                <a:cubicBezTo>
                  <a:pt x="5184" y="10574"/>
                  <a:pt x="5232" y="10474"/>
                  <a:pt x="5333" y="10492"/>
                </a:cubicBezTo>
                <a:cubicBezTo>
                  <a:pt x="5430" y="10509"/>
                  <a:pt x="5454" y="10565"/>
                  <a:pt x="5457" y="10641"/>
                </a:cubicBezTo>
                <a:cubicBezTo>
                  <a:pt x="5461" y="10756"/>
                  <a:pt x="5422" y="10834"/>
                  <a:pt x="5383" y="10939"/>
                </a:cubicBezTo>
                <a:cubicBezTo>
                  <a:pt x="5360" y="11002"/>
                  <a:pt x="5346" y="11090"/>
                  <a:pt x="5308" y="11137"/>
                </a:cubicBezTo>
                <a:cubicBezTo>
                  <a:pt x="5287" y="11164"/>
                  <a:pt x="5258" y="11188"/>
                  <a:pt x="5234" y="11212"/>
                </a:cubicBezTo>
                <a:cubicBezTo>
                  <a:pt x="5212" y="11136"/>
                  <a:pt x="5244" y="11118"/>
                  <a:pt x="5283" y="11038"/>
                </a:cubicBezTo>
                <a:cubicBezTo>
                  <a:pt x="5357" y="11090"/>
                  <a:pt x="5400" y="11169"/>
                  <a:pt x="5457" y="11237"/>
                </a:cubicBezTo>
                <a:cubicBezTo>
                  <a:pt x="5480" y="11264"/>
                  <a:pt x="5571" y="11329"/>
                  <a:pt x="5606" y="11286"/>
                </a:cubicBezTo>
                <a:cubicBezTo>
                  <a:pt x="5606" y="11242"/>
                  <a:pt x="5603" y="11228"/>
                  <a:pt x="5631" y="11212"/>
                </a:cubicBezTo>
              </a:path>
              <a:path w="2109" h="919">
                <a:moveTo>
                  <a:pt x="5730" y="10443"/>
                </a:moveTo>
                <a:cubicBezTo>
                  <a:pt x="5855" y="10425"/>
                  <a:pt x="5959" y="10439"/>
                  <a:pt x="6052" y="10368"/>
                </a:cubicBezTo>
              </a:path>
              <a:path w="2109" h="919">
                <a:moveTo>
                  <a:pt x="5680" y="10418"/>
                </a:moveTo>
                <a:cubicBezTo>
                  <a:pt x="5634" y="10526"/>
                  <a:pt x="5620" y="10562"/>
                  <a:pt x="5655" y="10641"/>
                </a:cubicBezTo>
                <a:cubicBezTo>
                  <a:pt x="5663" y="10666"/>
                  <a:pt x="5672" y="10691"/>
                  <a:pt x="5680" y="10716"/>
                </a:cubicBezTo>
                <a:cubicBezTo>
                  <a:pt x="5701" y="10689"/>
                  <a:pt x="5795" y="10582"/>
                  <a:pt x="5829" y="10592"/>
                </a:cubicBezTo>
                <a:cubicBezTo>
                  <a:pt x="5878" y="10607"/>
                  <a:pt x="5925" y="10684"/>
                  <a:pt x="5953" y="10740"/>
                </a:cubicBezTo>
                <a:cubicBezTo>
                  <a:pt x="6001" y="10836"/>
                  <a:pt x="6024" y="10908"/>
                  <a:pt x="6028" y="11013"/>
                </a:cubicBezTo>
                <a:cubicBezTo>
                  <a:pt x="6032" y="11118"/>
                  <a:pt x="5955" y="11155"/>
                  <a:pt x="5854" y="11137"/>
                </a:cubicBezTo>
                <a:cubicBezTo>
                  <a:pt x="5789" y="11125"/>
                  <a:pt x="5722" y="11104"/>
                  <a:pt x="5655" y="1108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21"/>
          <p:cNvSpPr/>
          <p:nvPr/>
        </p:nvSpPr>
        <p:spPr>
          <a:xfrm>
            <a:off x="1544760" y="4394160"/>
            <a:ext cx="795240" cy="374760"/>
          </a:xfrm>
          <a:custGeom>
            <a:avLst/>
            <a:gdLst/>
            <a:ahLst/>
            <a:rect l="l" t="t" r="r" b="b"/>
            <a:pathLst>
              <a:path w="2209" h="1043">
                <a:moveTo>
                  <a:pt x="4366" y="12626"/>
                </a:moveTo>
                <a:cubicBezTo>
                  <a:pt x="4390" y="12751"/>
                  <a:pt x="4386" y="12873"/>
                  <a:pt x="4415" y="12998"/>
                </a:cubicBezTo>
                <a:cubicBezTo>
                  <a:pt x="4435" y="13058"/>
                  <a:pt x="4454" y="13073"/>
                  <a:pt x="4415" y="13097"/>
                </a:cubicBezTo>
                <a:cubicBezTo>
                  <a:pt x="4391" y="13008"/>
                  <a:pt x="4390" y="12942"/>
                  <a:pt x="4390" y="12849"/>
                </a:cubicBezTo>
                <a:cubicBezTo>
                  <a:pt x="4390" y="12755"/>
                  <a:pt x="4422" y="12708"/>
                  <a:pt x="4490" y="12650"/>
                </a:cubicBezTo>
                <a:cubicBezTo>
                  <a:pt x="4562" y="12692"/>
                  <a:pt x="4589" y="12735"/>
                  <a:pt x="4638" y="12799"/>
                </a:cubicBezTo>
                <a:cubicBezTo>
                  <a:pt x="4693" y="12871"/>
                  <a:pt x="4705" y="12938"/>
                  <a:pt x="4663" y="13022"/>
                </a:cubicBezTo>
                <a:cubicBezTo>
                  <a:pt x="4628" y="13094"/>
                  <a:pt x="4583" y="13133"/>
                  <a:pt x="4514" y="13146"/>
                </a:cubicBezTo>
                <a:cubicBezTo>
                  <a:pt x="4471" y="13154"/>
                  <a:pt x="4352" y="13163"/>
                  <a:pt x="4341" y="13097"/>
                </a:cubicBezTo>
                <a:cubicBezTo>
                  <a:pt x="4341" y="13064"/>
                  <a:pt x="4341" y="13031"/>
                  <a:pt x="4341" y="12998"/>
                </a:cubicBezTo>
              </a:path>
              <a:path w="2209" h="1043">
                <a:moveTo>
                  <a:pt x="4291" y="12204"/>
                </a:moveTo>
                <a:cubicBezTo>
                  <a:pt x="4310" y="12320"/>
                  <a:pt x="4326" y="12436"/>
                  <a:pt x="4341" y="12551"/>
                </a:cubicBezTo>
                <a:cubicBezTo>
                  <a:pt x="4351" y="12633"/>
                  <a:pt x="4366" y="12715"/>
                  <a:pt x="4366" y="12799"/>
                </a:cubicBezTo>
              </a:path>
              <a:path w="2209" h="1043">
                <a:moveTo>
                  <a:pt x="4911" y="12774"/>
                </a:moveTo>
                <a:cubicBezTo>
                  <a:pt x="4961" y="12774"/>
                  <a:pt x="5010" y="12774"/>
                  <a:pt x="5060" y="12774"/>
                </a:cubicBezTo>
              </a:path>
              <a:path w="2209" h="1043">
                <a:moveTo>
                  <a:pt x="4911" y="12849"/>
                </a:moveTo>
                <a:cubicBezTo>
                  <a:pt x="5004" y="12869"/>
                  <a:pt x="5016" y="12891"/>
                  <a:pt x="5085" y="12849"/>
                </a:cubicBezTo>
              </a:path>
              <a:path w="2209" h="1043">
                <a:moveTo>
                  <a:pt x="5333" y="12502"/>
                </a:moveTo>
                <a:cubicBezTo>
                  <a:pt x="5305" y="12621"/>
                  <a:pt x="5283" y="12727"/>
                  <a:pt x="5283" y="12849"/>
                </a:cubicBezTo>
                <a:cubicBezTo>
                  <a:pt x="5283" y="12949"/>
                  <a:pt x="5294" y="13027"/>
                  <a:pt x="5308" y="13122"/>
                </a:cubicBezTo>
                <a:cubicBezTo>
                  <a:pt x="5317" y="13188"/>
                  <a:pt x="5274" y="13216"/>
                  <a:pt x="5333" y="13196"/>
                </a:cubicBezTo>
              </a:path>
              <a:path w="2209" h="1043">
                <a:moveTo>
                  <a:pt x="5507" y="12551"/>
                </a:moveTo>
                <a:cubicBezTo>
                  <a:pt x="5465" y="12677"/>
                  <a:pt x="5457" y="12745"/>
                  <a:pt x="5457" y="12874"/>
                </a:cubicBezTo>
                <a:cubicBezTo>
                  <a:pt x="5457" y="12935"/>
                  <a:pt x="5487" y="13074"/>
                  <a:pt x="5531" y="13122"/>
                </a:cubicBezTo>
                <a:cubicBezTo>
                  <a:pt x="5570" y="13164"/>
                  <a:pt x="5685" y="13242"/>
                  <a:pt x="5730" y="13246"/>
                </a:cubicBezTo>
                <a:cubicBezTo>
                  <a:pt x="5871" y="13259"/>
                  <a:pt x="5882" y="13180"/>
                  <a:pt x="5928" y="13072"/>
                </a:cubicBezTo>
                <a:cubicBezTo>
                  <a:pt x="5964" y="12988"/>
                  <a:pt x="5970" y="12866"/>
                  <a:pt x="5953" y="12774"/>
                </a:cubicBezTo>
                <a:cubicBezTo>
                  <a:pt x="5940" y="12700"/>
                  <a:pt x="5902" y="12587"/>
                  <a:pt x="5854" y="12526"/>
                </a:cubicBezTo>
                <a:cubicBezTo>
                  <a:pt x="5811" y="12472"/>
                  <a:pt x="5727" y="12424"/>
                  <a:pt x="5655" y="12452"/>
                </a:cubicBezTo>
                <a:cubicBezTo>
                  <a:pt x="5604" y="12472"/>
                  <a:pt x="5538" y="12542"/>
                  <a:pt x="5531" y="12601"/>
                </a:cubicBezTo>
                <a:cubicBezTo>
                  <a:pt x="5517" y="12720"/>
                  <a:pt x="5556" y="12776"/>
                  <a:pt x="5606" y="12874"/>
                </a:cubicBezTo>
                <a:cubicBezTo>
                  <a:pt x="5614" y="12890"/>
                  <a:pt x="5623" y="12907"/>
                  <a:pt x="5631" y="12923"/>
                </a:cubicBezTo>
              </a:path>
              <a:path w="2209" h="1043">
                <a:moveTo>
                  <a:pt x="6077" y="12675"/>
                </a:moveTo>
                <a:cubicBezTo>
                  <a:pt x="6029" y="12777"/>
                  <a:pt x="5945" y="12899"/>
                  <a:pt x="5978" y="13022"/>
                </a:cubicBezTo>
                <a:cubicBezTo>
                  <a:pt x="5996" y="13091"/>
                  <a:pt x="6066" y="13186"/>
                  <a:pt x="6127" y="13221"/>
                </a:cubicBezTo>
                <a:cubicBezTo>
                  <a:pt x="6177" y="13250"/>
                  <a:pt x="6292" y="13262"/>
                  <a:pt x="6350" y="13246"/>
                </a:cubicBezTo>
                <a:cubicBezTo>
                  <a:pt x="6407" y="13230"/>
                  <a:pt x="6452" y="13175"/>
                  <a:pt x="6474" y="13122"/>
                </a:cubicBezTo>
                <a:cubicBezTo>
                  <a:pt x="6526" y="12996"/>
                  <a:pt x="6481" y="12877"/>
                  <a:pt x="6449" y="12750"/>
                </a:cubicBezTo>
                <a:cubicBezTo>
                  <a:pt x="6418" y="12627"/>
                  <a:pt x="6360" y="12569"/>
                  <a:pt x="6251" y="12502"/>
                </a:cubicBezTo>
                <a:cubicBezTo>
                  <a:pt x="6193" y="12466"/>
                  <a:pt x="6143" y="12477"/>
                  <a:pt x="6077" y="12477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22"/>
          <p:cNvSpPr/>
          <p:nvPr/>
        </p:nvSpPr>
        <p:spPr>
          <a:xfrm>
            <a:off x="714240" y="4330800"/>
            <a:ext cx="428760" cy="1036440"/>
          </a:xfrm>
          <a:custGeom>
            <a:avLst/>
            <a:gdLst/>
            <a:ahLst/>
            <a:rect l="l" t="t" r="r" b="b"/>
            <a:pathLst>
              <a:path w="1192" h="2879">
                <a:moveTo>
                  <a:pt x="2084" y="12427"/>
                </a:moveTo>
                <a:cubicBezTo>
                  <a:pt x="2152" y="12510"/>
                  <a:pt x="2166" y="12442"/>
                  <a:pt x="2257" y="12477"/>
                </a:cubicBezTo>
                <a:cubicBezTo>
                  <a:pt x="2292" y="12512"/>
                  <a:pt x="2314" y="12516"/>
                  <a:pt x="2356" y="12477"/>
                </a:cubicBezTo>
              </a:path>
              <a:path w="1192" h="2879">
                <a:moveTo>
                  <a:pt x="2282" y="12179"/>
                </a:moveTo>
                <a:cubicBezTo>
                  <a:pt x="2282" y="12452"/>
                  <a:pt x="2282" y="13221"/>
                  <a:pt x="2282" y="12948"/>
                </a:cubicBezTo>
              </a:path>
              <a:path w="1192" h="2879">
                <a:moveTo>
                  <a:pt x="2084" y="12030"/>
                </a:moveTo>
                <a:cubicBezTo>
                  <a:pt x="2084" y="12132"/>
                  <a:pt x="2064" y="12206"/>
                  <a:pt x="2059" y="12303"/>
                </a:cubicBezTo>
                <a:cubicBezTo>
                  <a:pt x="2057" y="12344"/>
                  <a:pt x="2059" y="12386"/>
                  <a:pt x="2059" y="12427"/>
                </a:cubicBezTo>
              </a:path>
              <a:path w="1192" h="2879">
                <a:moveTo>
                  <a:pt x="2704" y="12179"/>
                </a:moveTo>
                <a:cubicBezTo>
                  <a:pt x="2695" y="12092"/>
                  <a:pt x="2691" y="12049"/>
                  <a:pt x="2604" y="12080"/>
                </a:cubicBezTo>
                <a:cubicBezTo>
                  <a:pt x="2530" y="12106"/>
                  <a:pt x="2489" y="12131"/>
                  <a:pt x="2456" y="12204"/>
                </a:cubicBezTo>
                <a:cubicBezTo>
                  <a:pt x="2423" y="12277"/>
                  <a:pt x="2451" y="12412"/>
                  <a:pt x="2555" y="12427"/>
                </a:cubicBezTo>
                <a:cubicBezTo>
                  <a:pt x="2641" y="12440"/>
                  <a:pt x="2659" y="12343"/>
                  <a:pt x="2679" y="12303"/>
                </a:cubicBezTo>
                <a:cubicBezTo>
                  <a:pt x="2723" y="12238"/>
                  <a:pt x="2734" y="12224"/>
                  <a:pt x="2753" y="12179"/>
                </a:cubicBezTo>
                <a:cubicBezTo>
                  <a:pt x="2753" y="12316"/>
                  <a:pt x="2747" y="12443"/>
                  <a:pt x="2729" y="12576"/>
                </a:cubicBezTo>
                <a:cubicBezTo>
                  <a:pt x="2719" y="12649"/>
                  <a:pt x="2717" y="13010"/>
                  <a:pt x="2753" y="12998"/>
                </a:cubicBezTo>
              </a:path>
              <a:path w="1192" h="2879">
                <a:moveTo>
                  <a:pt x="2977" y="12129"/>
                </a:moveTo>
                <a:cubicBezTo>
                  <a:pt x="2992" y="12172"/>
                  <a:pt x="3016" y="12286"/>
                  <a:pt x="3076" y="12303"/>
                </a:cubicBezTo>
                <a:cubicBezTo>
                  <a:pt x="3135" y="12320"/>
                  <a:pt x="3188" y="12260"/>
                  <a:pt x="3175" y="12204"/>
                </a:cubicBezTo>
                <a:cubicBezTo>
                  <a:pt x="3165" y="12163"/>
                  <a:pt x="3119" y="12074"/>
                  <a:pt x="3076" y="12055"/>
                </a:cubicBezTo>
                <a:cubicBezTo>
                  <a:pt x="3028" y="12034"/>
                  <a:pt x="3016" y="12036"/>
                  <a:pt x="2952" y="12030"/>
                </a:cubicBezTo>
              </a:path>
              <a:path w="1192" h="2879">
                <a:moveTo>
                  <a:pt x="1984" y="13990"/>
                </a:moveTo>
                <a:cubicBezTo>
                  <a:pt x="1990" y="13947"/>
                  <a:pt x="2014" y="13862"/>
                  <a:pt x="2084" y="13866"/>
                </a:cubicBezTo>
                <a:cubicBezTo>
                  <a:pt x="2129" y="13869"/>
                  <a:pt x="2207" y="13926"/>
                  <a:pt x="2232" y="13965"/>
                </a:cubicBezTo>
                <a:cubicBezTo>
                  <a:pt x="2265" y="14017"/>
                  <a:pt x="2279" y="14103"/>
                  <a:pt x="2282" y="14163"/>
                </a:cubicBezTo>
                <a:cubicBezTo>
                  <a:pt x="2286" y="14256"/>
                  <a:pt x="2270" y="14323"/>
                  <a:pt x="2257" y="14412"/>
                </a:cubicBezTo>
                <a:cubicBezTo>
                  <a:pt x="2246" y="14487"/>
                  <a:pt x="2211" y="14602"/>
                  <a:pt x="2158" y="14660"/>
                </a:cubicBezTo>
                <a:cubicBezTo>
                  <a:pt x="2122" y="14700"/>
                  <a:pt x="2056" y="14727"/>
                  <a:pt x="2009" y="14734"/>
                </a:cubicBezTo>
                <a:cubicBezTo>
                  <a:pt x="1966" y="14663"/>
                  <a:pt x="1996" y="14636"/>
                  <a:pt x="2009" y="14560"/>
                </a:cubicBezTo>
                <a:cubicBezTo>
                  <a:pt x="2019" y="14498"/>
                  <a:pt x="2031" y="14442"/>
                  <a:pt x="2059" y="14387"/>
                </a:cubicBezTo>
                <a:cubicBezTo>
                  <a:pt x="2088" y="14435"/>
                  <a:pt x="2110" y="14501"/>
                  <a:pt x="2133" y="14560"/>
                </a:cubicBezTo>
                <a:cubicBezTo>
                  <a:pt x="2168" y="14650"/>
                  <a:pt x="2196" y="14743"/>
                  <a:pt x="2232" y="14833"/>
                </a:cubicBezTo>
                <a:cubicBezTo>
                  <a:pt x="2253" y="14885"/>
                  <a:pt x="2261" y="14896"/>
                  <a:pt x="2307" y="14908"/>
                </a:cubicBezTo>
              </a:path>
              <a:path w="1192" h="2879">
                <a:moveTo>
                  <a:pt x="2629" y="13841"/>
                </a:moveTo>
                <a:cubicBezTo>
                  <a:pt x="2645" y="13996"/>
                  <a:pt x="2654" y="14134"/>
                  <a:pt x="2654" y="14288"/>
                </a:cubicBezTo>
                <a:cubicBezTo>
                  <a:pt x="2654" y="14403"/>
                  <a:pt x="2674" y="14499"/>
                  <a:pt x="2679" y="14610"/>
                </a:cubicBezTo>
                <a:cubicBezTo>
                  <a:pt x="2682" y="14686"/>
                  <a:pt x="2654" y="14755"/>
                  <a:pt x="2654" y="14833"/>
                </a:cubicBezTo>
                <a:cubicBezTo>
                  <a:pt x="2654" y="14850"/>
                  <a:pt x="2654" y="14866"/>
                  <a:pt x="2654" y="14883"/>
                </a:cubicBezTo>
              </a:path>
              <a:path w="1192" h="2879">
                <a:moveTo>
                  <a:pt x="2977" y="13767"/>
                </a:moveTo>
                <a:cubicBezTo>
                  <a:pt x="2977" y="13813"/>
                  <a:pt x="2963" y="13897"/>
                  <a:pt x="3026" y="13915"/>
                </a:cubicBezTo>
                <a:cubicBezTo>
                  <a:pt x="3150" y="13949"/>
                  <a:pt x="3111" y="13847"/>
                  <a:pt x="3101" y="13791"/>
                </a:cubicBezTo>
                <a:cubicBezTo>
                  <a:pt x="3087" y="13714"/>
                  <a:pt x="3068" y="13730"/>
                  <a:pt x="3026" y="13667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23"/>
          <p:cNvSpPr/>
          <p:nvPr/>
        </p:nvSpPr>
        <p:spPr>
          <a:xfrm>
            <a:off x="1670040" y="5062680"/>
            <a:ext cx="830160" cy="546120"/>
          </a:xfrm>
          <a:custGeom>
            <a:avLst/>
            <a:gdLst/>
            <a:ahLst/>
            <a:rect l="l" t="t" r="r" b="b"/>
            <a:pathLst>
              <a:path w="2308" h="1514">
                <a:moveTo>
                  <a:pt x="4887" y="14536"/>
                </a:moveTo>
                <a:cubicBezTo>
                  <a:pt x="4887" y="14618"/>
                  <a:pt x="4901" y="14662"/>
                  <a:pt x="4911" y="14734"/>
                </a:cubicBezTo>
                <a:cubicBezTo>
                  <a:pt x="4930" y="14696"/>
                  <a:pt x="4923" y="14655"/>
                  <a:pt x="4887" y="14610"/>
                </a:cubicBezTo>
                <a:cubicBezTo>
                  <a:pt x="4849" y="14562"/>
                  <a:pt x="4777" y="14578"/>
                  <a:pt x="4738" y="14610"/>
                </a:cubicBezTo>
                <a:cubicBezTo>
                  <a:pt x="4682" y="14656"/>
                  <a:pt x="4650" y="14765"/>
                  <a:pt x="4638" y="14833"/>
                </a:cubicBezTo>
                <a:cubicBezTo>
                  <a:pt x="4626" y="14897"/>
                  <a:pt x="4666" y="15020"/>
                  <a:pt x="4688" y="15081"/>
                </a:cubicBezTo>
                <a:cubicBezTo>
                  <a:pt x="4708" y="15136"/>
                  <a:pt x="4794" y="15233"/>
                  <a:pt x="4862" y="15230"/>
                </a:cubicBezTo>
                <a:cubicBezTo>
                  <a:pt x="4948" y="15226"/>
                  <a:pt x="5003" y="15157"/>
                  <a:pt x="5060" y="15106"/>
                </a:cubicBezTo>
              </a:path>
              <a:path w="2308" h="1514">
                <a:moveTo>
                  <a:pt x="5259" y="14759"/>
                </a:moveTo>
                <a:cubicBezTo>
                  <a:pt x="5328" y="14740"/>
                  <a:pt x="5362" y="14734"/>
                  <a:pt x="5432" y="14734"/>
                </a:cubicBezTo>
              </a:path>
              <a:path w="2308" h="1514">
                <a:moveTo>
                  <a:pt x="5209" y="14957"/>
                </a:moveTo>
                <a:cubicBezTo>
                  <a:pt x="5305" y="15037"/>
                  <a:pt x="5292" y="15025"/>
                  <a:pt x="5407" y="15056"/>
                </a:cubicBezTo>
              </a:path>
              <a:path w="2308" h="1514">
                <a:moveTo>
                  <a:pt x="5829" y="14188"/>
                </a:moveTo>
                <a:cubicBezTo>
                  <a:pt x="5829" y="14293"/>
                  <a:pt x="5816" y="14388"/>
                  <a:pt x="5804" y="14486"/>
                </a:cubicBezTo>
                <a:cubicBezTo>
                  <a:pt x="5798" y="14532"/>
                  <a:pt x="5751" y="14655"/>
                  <a:pt x="5804" y="14684"/>
                </a:cubicBezTo>
                <a:cubicBezTo>
                  <a:pt x="5871" y="14721"/>
                  <a:pt x="6065" y="14782"/>
                  <a:pt x="6127" y="14784"/>
                </a:cubicBezTo>
                <a:cubicBezTo>
                  <a:pt x="6152" y="14776"/>
                  <a:pt x="6176" y="14767"/>
                  <a:pt x="6201" y="14759"/>
                </a:cubicBezTo>
              </a:path>
              <a:path w="2308" h="1514">
                <a:moveTo>
                  <a:pt x="6226" y="14064"/>
                </a:moveTo>
                <a:cubicBezTo>
                  <a:pt x="6226" y="14186"/>
                  <a:pt x="6212" y="14295"/>
                  <a:pt x="6201" y="14412"/>
                </a:cubicBezTo>
                <a:cubicBezTo>
                  <a:pt x="6170" y="14745"/>
                  <a:pt x="6201" y="15095"/>
                  <a:pt x="6201" y="15429"/>
                </a:cubicBezTo>
              </a:path>
              <a:path w="2308" h="1514">
                <a:moveTo>
                  <a:pt x="6499" y="14486"/>
                </a:moveTo>
                <a:cubicBezTo>
                  <a:pt x="6585" y="14572"/>
                  <a:pt x="6503" y="14407"/>
                  <a:pt x="6499" y="14337"/>
                </a:cubicBezTo>
                <a:cubicBezTo>
                  <a:pt x="6496" y="14286"/>
                  <a:pt x="6479" y="14183"/>
                  <a:pt x="6548" y="14163"/>
                </a:cubicBezTo>
                <a:cubicBezTo>
                  <a:pt x="6609" y="14145"/>
                  <a:pt x="6703" y="14188"/>
                  <a:pt x="6772" y="14188"/>
                </a:cubicBezTo>
                <a:cubicBezTo>
                  <a:pt x="6823" y="14188"/>
                  <a:pt x="6842" y="14187"/>
                  <a:pt x="6871" y="14163"/>
                </a:cubicBezTo>
                <a:cubicBezTo>
                  <a:pt x="6900" y="14270"/>
                  <a:pt x="6874" y="14306"/>
                  <a:pt x="6871" y="14412"/>
                </a:cubicBezTo>
                <a:cubicBezTo>
                  <a:pt x="6866" y="14563"/>
                  <a:pt x="6877" y="14735"/>
                  <a:pt x="6896" y="14883"/>
                </a:cubicBezTo>
                <a:cubicBezTo>
                  <a:pt x="6913" y="15015"/>
                  <a:pt x="6940" y="15145"/>
                  <a:pt x="6945" y="15280"/>
                </a:cubicBezTo>
                <a:cubicBezTo>
                  <a:pt x="6947" y="15328"/>
                  <a:pt x="6945" y="15636"/>
                  <a:pt x="6945" y="15528"/>
                </a:cubicBezTo>
                <a:cubicBezTo>
                  <a:pt x="6945" y="15520"/>
                  <a:pt x="6945" y="15511"/>
                  <a:pt x="6945" y="1550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Ink 24"/>
          <p:cNvSpPr/>
          <p:nvPr/>
        </p:nvSpPr>
        <p:spPr>
          <a:xfrm>
            <a:off x="6939000" y="1982880"/>
            <a:ext cx="1955880" cy="1000080"/>
          </a:xfrm>
          <a:custGeom>
            <a:avLst/>
            <a:gdLst/>
            <a:ahLst/>
            <a:rect l="l" t="t" r="r" b="b"/>
            <a:pathLst>
              <a:path w="5433" h="2779">
                <a:moveTo>
                  <a:pt x="20092" y="6052"/>
                </a:moveTo>
                <a:cubicBezTo>
                  <a:pt x="20056" y="6017"/>
                  <a:pt x="20019" y="5965"/>
                  <a:pt x="19968" y="5953"/>
                </a:cubicBezTo>
                <a:cubicBezTo>
                  <a:pt x="19917" y="5941"/>
                  <a:pt x="19812" y="5958"/>
                  <a:pt x="19769" y="5978"/>
                </a:cubicBezTo>
                <a:cubicBezTo>
                  <a:pt x="19721" y="6000"/>
                  <a:pt x="19687" y="6010"/>
                  <a:pt x="19645" y="6052"/>
                </a:cubicBezTo>
                <a:cubicBezTo>
                  <a:pt x="19583" y="6115"/>
                  <a:pt x="19639" y="6146"/>
                  <a:pt x="19695" y="6176"/>
                </a:cubicBezTo>
                <a:cubicBezTo>
                  <a:pt x="19757" y="6208"/>
                  <a:pt x="19810" y="6205"/>
                  <a:pt x="19869" y="6226"/>
                </a:cubicBezTo>
                <a:cubicBezTo>
                  <a:pt x="19951" y="6255"/>
                  <a:pt x="19970" y="6287"/>
                  <a:pt x="20017" y="6350"/>
                </a:cubicBezTo>
                <a:cubicBezTo>
                  <a:pt x="20067" y="6417"/>
                  <a:pt x="20070" y="6427"/>
                  <a:pt x="20017" y="6499"/>
                </a:cubicBezTo>
                <a:cubicBezTo>
                  <a:pt x="19966" y="6569"/>
                  <a:pt x="19898" y="6548"/>
                  <a:pt x="19819" y="6548"/>
                </a:cubicBezTo>
                <a:cubicBezTo>
                  <a:pt x="19770" y="6548"/>
                  <a:pt x="19629" y="6565"/>
                  <a:pt x="19596" y="6499"/>
                </a:cubicBezTo>
                <a:cubicBezTo>
                  <a:pt x="19565" y="6436"/>
                  <a:pt x="19615" y="6391"/>
                  <a:pt x="19645" y="6350"/>
                </a:cubicBezTo>
              </a:path>
              <a:path w="5433" h="2779">
                <a:moveTo>
                  <a:pt x="20340" y="6052"/>
                </a:moveTo>
                <a:cubicBezTo>
                  <a:pt x="20332" y="6131"/>
                  <a:pt x="20303" y="6174"/>
                  <a:pt x="20290" y="6251"/>
                </a:cubicBezTo>
                <a:cubicBezTo>
                  <a:pt x="20283" y="6293"/>
                  <a:pt x="20290" y="6568"/>
                  <a:pt x="20290" y="6449"/>
                </a:cubicBezTo>
              </a:path>
              <a:path w="5433" h="2779">
                <a:moveTo>
                  <a:pt x="20290" y="5829"/>
                </a:moveTo>
                <a:lnTo>
                  <a:pt x="20290" y="5829"/>
                </a:lnTo>
              </a:path>
              <a:path w="5433" h="2779">
                <a:moveTo>
                  <a:pt x="20513" y="6226"/>
                </a:moveTo>
                <a:cubicBezTo>
                  <a:pt x="20497" y="6322"/>
                  <a:pt x="20489" y="6380"/>
                  <a:pt x="20489" y="6474"/>
                </a:cubicBezTo>
                <a:cubicBezTo>
                  <a:pt x="20489" y="6411"/>
                  <a:pt x="20493" y="6355"/>
                  <a:pt x="20513" y="6300"/>
                </a:cubicBezTo>
                <a:cubicBezTo>
                  <a:pt x="20537" y="6233"/>
                  <a:pt x="20561" y="6192"/>
                  <a:pt x="20588" y="6127"/>
                </a:cubicBezTo>
                <a:cubicBezTo>
                  <a:pt x="20628" y="6030"/>
                  <a:pt x="20680" y="5992"/>
                  <a:pt x="20786" y="6052"/>
                </a:cubicBezTo>
                <a:cubicBezTo>
                  <a:pt x="20858" y="6093"/>
                  <a:pt x="20883" y="6211"/>
                  <a:pt x="20910" y="6276"/>
                </a:cubicBezTo>
                <a:cubicBezTo>
                  <a:pt x="20936" y="6340"/>
                  <a:pt x="20956" y="6405"/>
                  <a:pt x="20960" y="6474"/>
                </a:cubicBezTo>
                <a:cubicBezTo>
                  <a:pt x="20964" y="6549"/>
                  <a:pt x="20960" y="6611"/>
                  <a:pt x="20960" y="6499"/>
                </a:cubicBezTo>
              </a:path>
              <a:path w="5433" h="2779">
                <a:moveTo>
                  <a:pt x="21208" y="5829"/>
                </a:moveTo>
                <a:cubicBezTo>
                  <a:pt x="21208" y="5990"/>
                  <a:pt x="21208" y="6556"/>
                  <a:pt x="21233" y="6524"/>
                </a:cubicBezTo>
              </a:path>
              <a:path w="5433" h="2779">
                <a:moveTo>
                  <a:pt x="21481" y="5829"/>
                </a:moveTo>
                <a:cubicBezTo>
                  <a:pt x="21481" y="5963"/>
                  <a:pt x="21461" y="6072"/>
                  <a:pt x="21456" y="6201"/>
                </a:cubicBezTo>
                <a:cubicBezTo>
                  <a:pt x="21453" y="6274"/>
                  <a:pt x="21469" y="6604"/>
                  <a:pt x="21481" y="6573"/>
                </a:cubicBezTo>
                <a:cubicBezTo>
                  <a:pt x="21489" y="6540"/>
                  <a:pt x="21498" y="6507"/>
                  <a:pt x="21506" y="6474"/>
                </a:cubicBezTo>
              </a:path>
              <a:path w="5433" h="2779">
                <a:moveTo>
                  <a:pt x="21754" y="5804"/>
                </a:moveTo>
                <a:cubicBezTo>
                  <a:pt x="21712" y="5913"/>
                  <a:pt x="21651" y="6036"/>
                  <a:pt x="21630" y="6152"/>
                </a:cubicBezTo>
                <a:cubicBezTo>
                  <a:pt x="21617" y="6226"/>
                  <a:pt x="21586" y="6323"/>
                  <a:pt x="21605" y="6400"/>
                </a:cubicBezTo>
                <a:cubicBezTo>
                  <a:pt x="21625" y="6483"/>
                  <a:pt x="21670" y="6540"/>
                  <a:pt x="21729" y="6598"/>
                </a:cubicBezTo>
                <a:cubicBezTo>
                  <a:pt x="21791" y="6548"/>
                  <a:pt x="21816" y="6523"/>
                  <a:pt x="21853" y="6449"/>
                </a:cubicBezTo>
                <a:cubicBezTo>
                  <a:pt x="21897" y="6363"/>
                  <a:pt x="21903" y="6296"/>
                  <a:pt x="21903" y="6201"/>
                </a:cubicBezTo>
                <a:cubicBezTo>
                  <a:pt x="21903" y="6105"/>
                  <a:pt x="21884" y="6008"/>
                  <a:pt x="21828" y="5928"/>
                </a:cubicBezTo>
                <a:cubicBezTo>
                  <a:pt x="21803" y="5892"/>
                  <a:pt x="21803" y="5899"/>
                  <a:pt x="21803" y="5854"/>
                </a:cubicBezTo>
              </a:path>
              <a:path w="5433" h="2779">
                <a:moveTo>
                  <a:pt x="22002" y="5655"/>
                </a:moveTo>
                <a:cubicBezTo>
                  <a:pt x="21994" y="5688"/>
                  <a:pt x="21985" y="5722"/>
                  <a:pt x="21977" y="5755"/>
                </a:cubicBezTo>
                <a:cubicBezTo>
                  <a:pt x="22040" y="5785"/>
                  <a:pt x="22103" y="5791"/>
                  <a:pt x="22126" y="5705"/>
                </a:cubicBezTo>
                <a:cubicBezTo>
                  <a:pt x="22140" y="5653"/>
                  <a:pt x="22151" y="5607"/>
                  <a:pt x="22126" y="5556"/>
                </a:cubicBezTo>
                <a:cubicBezTo>
                  <a:pt x="22107" y="5518"/>
                  <a:pt x="22061" y="5514"/>
                  <a:pt x="22027" y="5507"/>
                </a:cubicBezTo>
              </a:path>
              <a:path w="5433" h="2779">
                <a:moveTo>
                  <a:pt x="19273" y="6747"/>
                </a:moveTo>
                <a:cubicBezTo>
                  <a:pt x="19396" y="6769"/>
                  <a:pt x="19497" y="6772"/>
                  <a:pt x="19621" y="6772"/>
                </a:cubicBezTo>
                <a:cubicBezTo>
                  <a:pt x="20189" y="6772"/>
                  <a:pt x="20862" y="6857"/>
                  <a:pt x="21406" y="6747"/>
                </a:cubicBezTo>
                <a:cubicBezTo>
                  <a:pt x="21421" y="6744"/>
                  <a:pt x="21591" y="6747"/>
                  <a:pt x="21456" y="6747"/>
                </a:cubicBezTo>
              </a:path>
              <a:path w="5433" h="2779">
                <a:moveTo>
                  <a:pt x="19819" y="7367"/>
                </a:moveTo>
                <a:cubicBezTo>
                  <a:pt x="19828" y="7437"/>
                  <a:pt x="19844" y="7492"/>
                  <a:pt x="19844" y="7565"/>
                </a:cubicBezTo>
                <a:cubicBezTo>
                  <a:pt x="19844" y="7813"/>
                  <a:pt x="19844" y="8508"/>
                  <a:pt x="19844" y="8260"/>
                </a:cubicBezTo>
              </a:path>
              <a:path w="5433" h="2779">
                <a:moveTo>
                  <a:pt x="20092" y="7590"/>
                </a:moveTo>
                <a:cubicBezTo>
                  <a:pt x="20124" y="7544"/>
                  <a:pt x="20191" y="7435"/>
                  <a:pt x="20265" y="7441"/>
                </a:cubicBezTo>
                <a:cubicBezTo>
                  <a:pt x="20323" y="7446"/>
                  <a:pt x="20361" y="7487"/>
                  <a:pt x="20389" y="7541"/>
                </a:cubicBezTo>
                <a:cubicBezTo>
                  <a:pt x="20433" y="7625"/>
                  <a:pt x="20439" y="7669"/>
                  <a:pt x="20439" y="7764"/>
                </a:cubicBezTo>
                <a:cubicBezTo>
                  <a:pt x="20439" y="7862"/>
                  <a:pt x="20427" y="7978"/>
                  <a:pt x="20365" y="8062"/>
                </a:cubicBezTo>
                <a:cubicBezTo>
                  <a:pt x="20326" y="8115"/>
                  <a:pt x="20263" y="8140"/>
                  <a:pt x="20216" y="8186"/>
                </a:cubicBezTo>
                <a:cubicBezTo>
                  <a:pt x="20191" y="8210"/>
                  <a:pt x="20183" y="8218"/>
                  <a:pt x="20166" y="8186"/>
                </a:cubicBezTo>
                <a:cubicBezTo>
                  <a:pt x="20141" y="8123"/>
                  <a:pt x="20179" y="8078"/>
                  <a:pt x="20216" y="8012"/>
                </a:cubicBezTo>
                <a:cubicBezTo>
                  <a:pt x="20251" y="7950"/>
                  <a:pt x="20271" y="7908"/>
                  <a:pt x="20340" y="7962"/>
                </a:cubicBezTo>
                <a:cubicBezTo>
                  <a:pt x="20387" y="7999"/>
                  <a:pt x="20418" y="8061"/>
                  <a:pt x="20439" y="8111"/>
                </a:cubicBezTo>
                <a:cubicBezTo>
                  <a:pt x="20465" y="8171"/>
                  <a:pt x="20474" y="8210"/>
                  <a:pt x="20513" y="8260"/>
                </a:cubicBezTo>
              </a:path>
              <a:path w="5433" h="2779">
                <a:moveTo>
                  <a:pt x="20687" y="7417"/>
                </a:moveTo>
                <a:cubicBezTo>
                  <a:pt x="20795" y="7417"/>
                  <a:pt x="20863" y="7408"/>
                  <a:pt x="20960" y="7392"/>
                </a:cubicBezTo>
                <a:cubicBezTo>
                  <a:pt x="21005" y="7392"/>
                  <a:pt x="21018" y="7396"/>
                  <a:pt x="21034" y="7367"/>
                </a:cubicBezTo>
              </a:path>
              <a:path w="5433" h="2779">
                <a:moveTo>
                  <a:pt x="20712" y="7441"/>
                </a:moveTo>
                <a:cubicBezTo>
                  <a:pt x="20653" y="7541"/>
                  <a:pt x="20628" y="7586"/>
                  <a:pt x="20613" y="7689"/>
                </a:cubicBezTo>
                <a:cubicBezTo>
                  <a:pt x="20658" y="7704"/>
                  <a:pt x="20735" y="7691"/>
                  <a:pt x="20786" y="7665"/>
                </a:cubicBezTo>
                <a:cubicBezTo>
                  <a:pt x="20849" y="7633"/>
                  <a:pt x="20890" y="7647"/>
                  <a:pt x="20960" y="7689"/>
                </a:cubicBezTo>
                <a:cubicBezTo>
                  <a:pt x="21013" y="7721"/>
                  <a:pt x="21047" y="7807"/>
                  <a:pt x="21059" y="7863"/>
                </a:cubicBezTo>
                <a:cubicBezTo>
                  <a:pt x="21085" y="7990"/>
                  <a:pt x="21024" y="8079"/>
                  <a:pt x="20935" y="8161"/>
                </a:cubicBezTo>
                <a:cubicBezTo>
                  <a:pt x="20879" y="8212"/>
                  <a:pt x="20806" y="8210"/>
                  <a:pt x="20737" y="8210"/>
                </a:cubicBezTo>
                <a:cubicBezTo>
                  <a:pt x="20632" y="8210"/>
                  <a:pt x="20616" y="8174"/>
                  <a:pt x="20638" y="8086"/>
                </a:cubicBezTo>
              </a:path>
              <a:path w="5433" h="2779">
                <a:moveTo>
                  <a:pt x="21927" y="6896"/>
                </a:moveTo>
                <a:cubicBezTo>
                  <a:pt x="22016" y="6883"/>
                  <a:pt x="22069" y="6871"/>
                  <a:pt x="22151" y="6871"/>
                </a:cubicBezTo>
              </a:path>
              <a:path w="5433" h="2779">
                <a:moveTo>
                  <a:pt x="21878" y="7069"/>
                </a:moveTo>
                <a:cubicBezTo>
                  <a:pt x="21994" y="7047"/>
                  <a:pt x="22028" y="7041"/>
                  <a:pt x="22101" y="7020"/>
                </a:cubicBezTo>
              </a:path>
              <a:path w="5433" h="2779">
                <a:moveTo>
                  <a:pt x="23044" y="6077"/>
                </a:moveTo>
                <a:cubicBezTo>
                  <a:pt x="23072" y="6020"/>
                  <a:pt x="23016" y="5993"/>
                  <a:pt x="22944" y="5978"/>
                </a:cubicBezTo>
                <a:cubicBezTo>
                  <a:pt x="22885" y="5966"/>
                  <a:pt x="22793" y="6020"/>
                  <a:pt x="22746" y="6052"/>
                </a:cubicBezTo>
                <a:cubicBezTo>
                  <a:pt x="22699" y="6084"/>
                  <a:pt x="22717" y="6182"/>
                  <a:pt x="22771" y="6201"/>
                </a:cubicBezTo>
                <a:cubicBezTo>
                  <a:pt x="22851" y="6230"/>
                  <a:pt x="22917" y="6243"/>
                  <a:pt x="22994" y="6300"/>
                </a:cubicBezTo>
                <a:cubicBezTo>
                  <a:pt x="23028" y="6325"/>
                  <a:pt x="23107" y="6407"/>
                  <a:pt x="23118" y="6449"/>
                </a:cubicBezTo>
                <a:cubicBezTo>
                  <a:pt x="23132" y="6500"/>
                  <a:pt x="23122" y="6574"/>
                  <a:pt x="23068" y="6598"/>
                </a:cubicBezTo>
                <a:cubicBezTo>
                  <a:pt x="23007" y="6626"/>
                  <a:pt x="22928" y="6604"/>
                  <a:pt x="22870" y="6598"/>
                </a:cubicBezTo>
                <a:cubicBezTo>
                  <a:pt x="22760" y="6587"/>
                  <a:pt x="22810" y="6551"/>
                  <a:pt x="22845" y="6474"/>
                </a:cubicBezTo>
              </a:path>
              <a:path w="5433" h="2779">
                <a:moveTo>
                  <a:pt x="23416" y="6176"/>
                </a:moveTo>
                <a:cubicBezTo>
                  <a:pt x="23416" y="6300"/>
                  <a:pt x="23416" y="6424"/>
                  <a:pt x="23416" y="6548"/>
                </a:cubicBezTo>
              </a:path>
              <a:path w="5433" h="2779">
                <a:moveTo>
                  <a:pt x="23440" y="5879"/>
                </a:moveTo>
                <a:cubicBezTo>
                  <a:pt x="23448" y="5862"/>
                  <a:pt x="23457" y="5846"/>
                  <a:pt x="23465" y="5829"/>
                </a:cubicBezTo>
              </a:path>
              <a:path w="5433" h="2779">
                <a:moveTo>
                  <a:pt x="23639" y="6350"/>
                </a:moveTo>
                <a:cubicBezTo>
                  <a:pt x="23652" y="6440"/>
                  <a:pt x="23664" y="6615"/>
                  <a:pt x="23664" y="6524"/>
                </a:cubicBezTo>
                <a:cubicBezTo>
                  <a:pt x="23664" y="6429"/>
                  <a:pt x="23654" y="6340"/>
                  <a:pt x="23688" y="6251"/>
                </a:cubicBezTo>
                <a:cubicBezTo>
                  <a:pt x="23705" y="6205"/>
                  <a:pt x="23751" y="6109"/>
                  <a:pt x="23788" y="6077"/>
                </a:cubicBezTo>
                <a:cubicBezTo>
                  <a:pt x="23841" y="6031"/>
                  <a:pt x="23938" y="6039"/>
                  <a:pt x="23986" y="6077"/>
                </a:cubicBezTo>
                <a:cubicBezTo>
                  <a:pt x="24076" y="6149"/>
                  <a:pt x="24061" y="6294"/>
                  <a:pt x="24061" y="6400"/>
                </a:cubicBezTo>
                <a:cubicBezTo>
                  <a:pt x="24061" y="6423"/>
                  <a:pt x="24061" y="6630"/>
                  <a:pt x="24061" y="6499"/>
                </a:cubicBezTo>
              </a:path>
              <a:path w="5433" h="2779">
                <a:moveTo>
                  <a:pt x="24284" y="5680"/>
                </a:moveTo>
                <a:cubicBezTo>
                  <a:pt x="24278" y="5782"/>
                  <a:pt x="24242" y="5900"/>
                  <a:pt x="24259" y="6003"/>
                </a:cubicBezTo>
                <a:cubicBezTo>
                  <a:pt x="24274" y="6095"/>
                  <a:pt x="24287" y="6189"/>
                  <a:pt x="24309" y="6276"/>
                </a:cubicBezTo>
                <a:cubicBezTo>
                  <a:pt x="24328" y="6351"/>
                  <a:pt x="24348" y="6405"/>
                  <a:pt x="24358" y="6474"/>
                </a:cubicBezTo>
                <a:cubicBezTo>
                  <a:pt x="24349" y="6404"/>
                  <a:pt x="24333" y="6349"/>
                  <a:pt x="24333" y="6276"/>
                </a:cubicBezTo>
                <a:cubicBezTo>
                  <a:pt x="24333" y="6122"/>
                  <a:pt x="24308" y="5948"/>
                  <a:pt x="24358" y="5804"/>
                </a:cubicBezTo>
                <a:cubicBezTo>
                  <a:pt x="24381" y="5739"/>
                  <a:pt x="24381" y="5660"/>
                  <a:pt x="24408" y="5606"/>
                </a:cubicBezTo>
                <a:cubicBezTo>
                  <a:pt x="24430" y="5563"/>
                  <a:pt x="24485" y="5522"/>
                  <a:pt x="24532" y="5531"/>
                </a:cubicBezTo>
                <a:cubicBezTo>
                  <a:pt x="24592" y="5542"/>
                  <a:pt x="24664" y="5593"/>
                  <a:pt x="24681" y="5655"/>
                </a:cubicBezTo>
                <a:cubicBezTo>
                  <a:pt x="24708" y="5754"/>
                  <a:pt x="24673" y="5878"/>
                  <a:pt x="24606" y="5953"/>
                </a:cubicBezTo>
                <a:cubicBezTo>
                  <a:pt x="24555" y="6010"/>
                  <a:pt x="24530" y="6024"/>
                  <a:pt x="24457" y="6052"/>
                </a:cubicBezTo>
                <a:cubicBezTo>
                  <a:pt x="24562" y="6030"/>
                  <a:pt x="24610" y="6057"/>
                  <a:pt x="24681" y="6152"/>
                </a:cubicBezTo>
                <a:cubicBezTo>
                  <a:pt x="24719" y="6203"/>
                  <a:pt x="24717" y="6279"/>
                  <a:pt x="24681" y="6325"/>
                </a:cubicBezTo>
                <a:cubicBezTo>
                  <a:pt x="24644" y="6371"/>
                  <a:pt x="24585" y="6397"/>
                  <a:pt x="24532" y="6400"/>
                </a:cubicBezTo>
                <a:cubicBezTo>
                  <a:pt x="24452" y="6405"/>
                  <a:pt x="24388" y="6417"/>
                  <a:pt x="24309" y="6424"/>
                </a:cubicBezTo>
              </a:path>
              <a:path w="5433" h="2779">
                <a:moveTo>
                  <a:pt x="22920" y="6747"/>
                </a:moveTo>
                <a:cubicBezTo>
                  <a:pt x="23042" y="6747"/>
                  <a:pt x="23148" y="6769"/>
                  <a:pt x="23267" y="6772"/>
                </a:cubicBezTo>
                <a:cubicBezTo>
                  <a:pt x="23484" y="6778"/>
                  <a:pt x="23698" y="6781"/>
                  <a:pt x="23912" y="6796"/>
                </a:cubicBezTo>
                <a:cubicBezTo>
                  <a:pt x="24021" y="6804"/>
                  <a:pt x="24323" y="6838"/>
                  <a:pt x="24309" y="6747"/>
                </a:cubicBezTo>
              </a:path>
              <a:path w="5433" h="2779">
                <a:moveTo>
                  <a:pt x="23118" y="7218"/>
                </a:moveTo>
                <a:cubicBezTo>
                  <a:pt x="23118" y="7404"/>
                  <a:pt x="23119" y="7584"/>
                  <a:pt x="23093" y="7764"/>
                </a:cubicBezTo>
                <a:cubicBezTo>
                  <a:pt x="23084" y="7824"/>
                  <a:pt x="23078" y="7888"/>
                  <a:pt x="23068" y="7938"/>
                </a:cubicBezTo>
                <a:cubicBezTo>
                  <a:pt x="23062" y="7967"/>
                  <a:pt x="23070" y="8040"/>
                  <a:pt x="23044" y="7987"/>
                </a:cubicBezTo>
              </a:path>
              <a:path w="5433" h="2779">
                <a:moveTo>
                  <a:pt x="23391" y="7342"/>
                </a:moveTo>
                <a:cubicBezTo>
                  <a:pt x="23350" y="7459"/>
                  <a:pt x="23290" y="7593"/>
                  <a:pt x="23267" y="7714"/>
                </a:cubicBezTo>
                <a:cubicBezTo>
                  <a:pt x="23257" y="7769"/>
                  <a:pt x="23271" y="7866"/>
                  <a:pt x="23292" y="7913"/>
                </a:cubicBezTo>
                <a:cubicBezTo>
                  <a:pt x="23313" y="7960"/>
                  <a:pt x="23412" y="8044"/>
                  <a:pt x="23465" y="8012"/>
                </a:cubicBezTo>
                <a:cubicBezTo>
                  <a:pt x="23524" y="7976"/>
                  <a:pt x="23555" y="7828"/>
                  <a:pt x="23564" y="7764"/>
                </a:cubicBezTo>
                <a:cubicBezTo>
                  <a:pt x="23575" y="7682"/>
                  <a:pt x="23550" y="7614"/>
                  <a:pt x="23515" y="7541"/>
                </a:cubicBezTo>
                <a:cubicBezTo>
                  <a:pt x="23484" y="7476"/>
                  <a:pt x="23460" y="7396"/>
                  <a:pt x="23416" y="7342"/>
                </a:cubicBezTo>
                <a:cubicBezTo>
                  <a:pt x="23375" y="7292"/>
                  <a:pt x="23376" y="7311"/>
                  <a:pt x="23366" y="7243"/>
                </a:cubicBezTo>
              </a:path>
              <a:path w="5433" h="2779">
                <a:moveTo>
                  <a:pt x="23738" y="7565"/>
                </a:moveTo>
                <a:cubicBezTo>
                  <a:pt x="23725" y="7750"/>
                  <a:pt x="23703" y="7794"/>
                  <a:pt x="23788" y="7938"/>
                </a:cubicBezTo>
                <a:cubicBezTo>
                  <a:pt x="23835" y="8018"/>
                  <a:pt x="23843" y="8012"/>
                  <a:pt x="23937" y="8012"/>
                </a:cubicBezTo>
                <a:cubicBezTo>
                  <a:pt x="24030" y="8012"/>
                  <a:pt x="24037" y="7977"/>
                  <a:pt x="24085" y="7913"/>
                </a:cubicBezTo>
                <a:cubicBezTo>
                  <a:pt x="24124" y="7861"/>
                  <a:pt x="24155" y="7809"/>
                  <a:pt x="24135" y="7739"/>
                </a:cubicBezTo>
                <a:cubicBezTo>
                  <a:pt x="24114" y="7665"/>
                  <a:pt x="24008" y="7587"/>
                  <a:pt x="23961" y="7541"/>
                </a:cubicBezTo>
              </a:path>
              <a:path w="5433" h="2779">
                <a:moveTo>
                  <a:pt x="21828" y="6672"/>
                </a:moveTo>
                <a:cubicBezTo>
                  <a:pt x="21869" y="6713"/>
                  <a:pt x="21899" y="6744"/>
                  <a:pt x="21927" y="6796"/>
                </a:cubicBezTo>
                <a:cubicBezTo>
                  <a:pt x="21978" y="6894"/>
                  <a:pt x="22037" y="6974"/>
                  <a:pt x="22126" y="7045"/>
                </a:cubicBezTo>
                <a:cubicBezTo>
                  <a:pt x="22229" y="7127"/>
                  <a:pt x="22337" y="7200"/>
                  <a:pt x="22448" y="7268"/>
                </a:cubicBezTo>
                <a:cubicBezTo>
                  <a:pt x="22546" y="7328"/>
                  <a:pt x="22648" y="7413"/>
                  <a:pt x="22746" y="7466"/>
                </a:cubicBezTo>
                <a:cubicBezTo>
                  <a:pt x="22773" y="7480"/>
                  <a:pt x="23008" y="7537"/>
                  <a:pt x="22870" y="7491"/>
                </a:cubicBezTo>
                <a:cubicBezTo>
                  <a:pt x="22862" y="7491"/>
                  <a:pt x="22853" y="7491"/>
                  <a:pt x="22845" y="7491"/>
                </a:cubicBezTo>
              </a:path>
              <a:path w="5433" h="2779">
                <a:moveTo>
                  <a:pt x="21258" y="7466"/>
                </a:moveTo>
                <a:cubicBezTo>
                  <a:pt x="21293" y="7430"/>
                  <a:pt x="21338" y="7387"/>
                  <a:pt x="21382" y="7367"/>
                </a:cubicBezTo>
                <a:cubicBezTo>
                  <a:pt x="21497" y="7315"/>
                  <a:pt x="21615" y="7275"/>
                  <a:pt x="21729" y="7218"/>
                </a:cubicBezTo>
                <a:cubicBezTo>
                  <a:pt x="21912" y="7127"/>
                  <a:pt x="22103" y="7034"/>
                  <a:pt x="22299" y="6970"/>
                </a:cubicBezTo>
                <a:cubicBezTo>
                  <a:pt x="22439" y="6925"/>
                  <a:pt x="22585" y="6871"/>
                  <a:pt x="22696" y="6772"/>
                </a:cubicBezTo>
                <a:cubicBezTo>
                  <a:pt x="22764" y="6711"/>
                  <a:pt x="22671" y="6740"/>
                  <a:pt x="22647" y="6747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Ink 25"/>
          <p:cNvSpPr/>
          <p:nvPr/>
        </p:nvSpPr>
        <p:spPr>
          <a:xfrm>
            <a:off x="7081920" y="3054240"/>
            <a:ext cx="1589040" cy="357120"/>
          </a:xfrm>
          <a:custGeom>
            <a:avLst/>
            <a:gdLst/>
            <a:ahLst/>
            <a:rect l="l" t="t" r="r" b="b"/>
            <a:pathLst>
              <a:path w="4416" h="993">
                <a:moveTo>
                  <a:pt x="19993" y="9004"/>
                </a:moveTo>
                <a:cubicBezTo>
                  <a:pt x="19927" y="8912"/>
                  <a:pt x="19918" y="8938"/>
                  <a:pt x="19819" y="8954"/>
                </a:cubicBezTo>
                <a:cubicBezTo>
                  <a:pt x="19762" y="8963"/>
                  <a:pt x="19723" y="8986"/>
                  <a:pt x="19670" y="9004"/>
                </a:cubicBezTo>
                <a:cubicBezTo>
                  <a:pt x="19721" y="9067"/>
                  <a:pt x="19731" y="9061"/>
                  <a:pt x="19794" y="9103"/>
                </a:cubicBezTo>
                <a:cubicBezTo>
                  <a:pt x="19879" y="9160"/>
                  <a:pt x="19981" y="9252"/>
                  <a:pt x="20042" y="9327"/>
                </a:cubicBezTo>
                <a:cubicBezTo>
                  <a:pt x="20123" y="9426"/>
                  <a:pt x="20019" y="9471"/>
                  <a:pt x="19943" y="9475"/>
                </a:cubicBezTo>
                <a:cubicBezTo>
                  <a:pt x="19878" y="9478"/>
                  <a:pt x="19816" y="9462"/>
                  <a:pt x="19794" y="9401"/>
                </a:cubicBezTo>
                <a:cubicBezTo>
                  <a:pt x="19794" y="9366"/>
                  <a:pt x="19799" y="9349"/>
                  <a:pt x="19819" y="9327"/>
                </a:cubicBezTo>
              </a:path>
              <a:path w="4416" h="993">
                <a:moveTo>
                  <a:pt x="20216" y="9103"/>
                </a:moveTo>
                <a:cubicBezTo>
                  <a:pt x="20238" y="9251"/>
                  <a:pt x="20233" y="9262"/>
                  <a:pt x="20216" y="9376"/>
                </a:cubicBezTo>
              </a:path>
              <a:path w="4416" h="993">
                <a:moveTo>
                  <a:pt x="20216" y="8781"/>
                </a:moveTo>
                <a:lnTo>
                  <a:pt x="20216" y="8781"/>
                </a:lnTo>
              </a:path>
              <a:path w="4416" h="993">
                <a:moveTo>
                  <a:pt x="20340" y="9302"/>
                </a:moveTo>
                <a:cubicBezTo>
                  <a:pt x="20350" y="9399"/>
                  <a:pt x="20345" y="9433"/>
                  <a:pt x="20340" y="9327"/>
                </a:cubicBezTo>
                <a:cubicBezTo>
                  <a:pt x="20337" y="9261"/>
                  <a:pt x="20340" y="9162"/>
                  <a:pt x="20365" y="9103"/>
                </a:cubicBezTo>
                <a:cubicBezTo>
                  <a:pt x="20399" y="9023"/>
                  <a:pt x="20432" y="9008"/>
                  <a:pt x="20513" y="9004"/>
                </a:cubicBezTo>
                <a:cubicBezTo>
                  <a:pt x="20583" y="9000"/>
                  <a:pt x="20605" y="9047"/>
                  <a:pt x="20638" y="9103"/>
                </a:cubicBezTo>
                <a:cubicBezTo>
                  <a:pt x="20687" y="9186"/>
                  <a:pt x="20680" y="9231"/>
                  <a:pt x="20712" y="9327"/>
                </a:cubicBezTo>
                <a:cubicBezTo>
                  <a:pt x="20741" y="9412"/>
                  <a:pt x="20699" y="9501"/>
                  <a:pt x="20762" y="9376"/>
                </a:cubicBezTo>
              </a:path>
              <a:path w="4416" h="993">
                <a:moveTo>
                  <a:pt x="20960" y="8930"/>
                </a:moveTo>
                <a:cubicBezTo>
                  <a:pt x="20980" y="9009"/>
                  <a:pt x="20962" y="9105"/>
                  <a:pt x="20985" y="9178"/>
                </a:cubicBezTo>
                <a:cubicBezTo>
                  <a:pt x="21009" y="9252"/>
                  <a:pt x="21010" y="9293"/>
                  <a:pt x="21010" y="9376"/>
                </a:cubicBezTo>
                <a:cubicBezTo>
                  <a:pt x="21010" y="9401"/>
                  <a:pt x="21010" y="9409"/>
                  <a:pt x="21010" y="9376"/>
                </a:cubicBezTo>
                <a:cubicBezTo>
                  <a:pt x="20991" y="9308"/>
                  <a:pt x="20969" y="9223"/>
                  <a:pt x="20960" y="9153"/>
                </a:cubicBezTo>
                <a:cubicBezTo>
                  <a:pt x="20946" y="9036"/>
                  <a:pt x="20962" y="8914"/>
                  <a:pt x="20985" y="8806"/>
                </a:cubicBezTo>
                <a:cubicBezTo>
                  <a:pt x="20997" y="8750"/>
                  <a:pt x="21025" y="8663"/>
                  <a:pt x="21084" y="8632"/>
                </a:cubicBezTo>
                <a:cubicBezTo>
                  <a:pt x="21119" y="8613"/>
                  <a:pt x="21217" y="8632"/>
                  <a:pt x="21258" y="8632"/>
                </a:cubicBezTo>
                <a:cubicBezTo>
                  <a:pt x="21258" y="8714"/>
                  <a:pt x="21250" y="8781"/>
                  <a:pt x="21208" y="8855"/>
                </a:cubicBezTo>
                <a:cubicBezTo>
                  <a:pt x="21161" y="8937"/>
                  <a:pt x="21122" y="8905"/>
                  <a:pt x="21059" y="8930"/>
                </a:cubicBezTo>
                <a:cubicBezTo>
                  <a:pt x="21034" y="8954"/>
                  <a:pt x="21026" y="8962"/>
                  <a:pt x="21059" y="8930"/>
                </a:cubicBezTo>
                <a:cubicBezTo>
                  <a:pt x="21115" y="8930"/>
                  <a:pt x="21214" y="8910"/>
                  <a:pt x="21258" y="8954"/>
                </a:cubicBezTo>
                <a:cubicBezTo>
                  <a:pt x="21307" y="9004"/>
                  <a:pt x="21307" y="9028"/>
                  <a:pt x="21307" y="9103"/>
                </a:cubicBezTo>
                <a:cubicBezTo>
                  <a:pt x="21307" y="9194"/>
                  <a:pt x="21264" y="9251"/>
                  <a:pt x="21208" y="9302"/>
                </a:cubicBezTo>
                <a:cubicBezTo>
                  <a:pt x="21175" y="9332"/>
                  <a:pt x="21106" y="9327"/>
                  <a:pt x="21059" y="9327"/>
                </a:cubicBezTo>
                <a:cubicBezTo>
                  <a:pt x="20989" y="9327"/>
                  <a:pt x="21010" y="9317"/>
                  <a:pt x="21010" y="9252"/>
                </a:cubicBezTo>
              </a:path>
              <a:path w="4416" h="993">
                <a:moveTo>
                  <a:pt x="21382" y="9029"/>
                </a:moveTo>
                <a:cubicBezTo>
                  <a:pt x="21453" y="9029"/>
                  <a:pt x="21491" y="9009"/>
                  <a:pt x="21555" y="9004"/>
                </a:cubicBezTo>
                <a:cubicBezTo>
                  <a:pt x="21563" y="9004"/>
                  <a:pt x="21572" y="9004"/>
                  <a:pt x="21580" y="9004"/>
                </a:cubicBezTo>
              </a:path>
              <a:path w="4416" h="993">
                <a:moveTo>
                  <a:pt x="21382" y="9153"/>
                </a:moveTo>
                <a:cubicBezTo>
                  <a:pt x="21472" y="9153"/>
                  <a:pt x="21510" y="9112"/>
                  <a:pt x="21580" y="9103"/>
                </a:cubicBezTo>
                <a:cubicBezTo>
                  <a:pt x="21597" y="9103"/>
                  <a:pt x="21613" y="9103"/>
                  <a:pt x="21630" y="9103"/>
                </a:cubicBezTo>
              </a:path>
              <a:path w="4416" h="993">
                <a:moveTo>
                  <a:pt x="21927" y="9401"/>
                </a:moveTo>
                <a:cubicBezTo>
                  <a:pt x="21927" y="9393"/>
                  <a:pt x="21927" y="9384"/>
                  <a:pt x="21927" y="9376"/>
                </a:cubicBezTo>
              </a:path>
              <a:path w="4416" h="993">
                <a:moveTo>
                  <a:pt x="22175" y="8657"/>
                </a:moveTo>
                <a:cubicBezTo>
                  <a:pt x="22183" y="8673"/>
                  <a:pt x="22192" y="8690"/>
                  <a:pt x="22200" y="8706"/>
                </a:cubicBezTo>
                <a:cubicBezTo>
                  <a:pt x="22213" y="8595"/>
                  <a:pt x="22235" y="8632"/>
                  <a:pt x="22349" y="8632"/>
                </a:cubicBezTo>
                <a:cubicBezTo>
                  <a:pt x="22453" y="8632"/>
                  <a:pt x="22482" y="8592"/>
                  <a:pt x="22572" y="8582"/>
                </a:cubicBezTo>
                <a:cubicBezTo>
                  <a:pt x="22589" y="8582"/>
                  <a:pt x="22605" y="8582"/>
                  <a:pt x="22622" y="8582"/>
                </a:cubicBezTo>
                <a:cubicBezTo>
                  <a:pt x="22609" y="8641"/>
                  <a:pt x="22595" y="8726"/>
                  <a:pt x="22572" y="8781"/>
                </a:cubicBezTo>
                <a:cubicBezTo>
                  <a:pt x="22548" y="8839"/>
                  <a:pt x="22547" y="8882"/>
                  <a:pt x="22547" y="8954"/>
                </a:cubicBezTo>
                <a:cubicBezTo>
                  <a:pt x="22547" y="9036"/>
                  <a:pt x="22506" y="9382"/>
                  <a:pt x="22572" y="9227"/>
                </a:cubicBezTo>
              </a:path>
              <a:path w="4416" h="993">
                <a:moveTo>
                  <a:pt x="22771" y="8508"/>
                </a:moveTo>
                <a:cubicBezTo>
                  <a:pt x="22910" y="8508"/>
                  <a:pt x="23038" y="8513"/>
                  <a:pt x="23168" y="8483"/>
                </a:cubicBezTo>
                <a:cubicBezTo>
                  <a:pt x="23176" y="8483"/>
                  <a:pt x="23184" y="8483"/>
                  <a:pt x="23192" y="8483"/>
                </a:cubicBezTo>
              </a:path>
              <a:path w="4416" h="993">
                <a:moveTo>
                  <a:pt x="22870" y="8508"/>
                </a:moveTo>
                <a:cubicBezTo>
                  <a:pt x="22839" y="8599"/>
                  <a:pt x="22781" y="8717"/>
                  <a:pt x="22845" y="8781"/>
                </a:cubicBezTo>
                <a:cubicBezTo>
                  <a:pt x="22873" y="8809"/>
                  <a:pt x="22939" y="8781"/>
                  <a:pt x="22994" y="8781"/>
                </a:cubicBezTo>
                <a:cubicBezTo>
                  <a:pt x="23071" y="8781"/>
                  <a:pt x="23134" y="8792"/>
                  <a:pt x="23168" y="8855"/>
                </a:cubicBezTo>
                <a:cubicBezTo>
                  <a:pt x="23200" y="8914"/>
                  <a:pt x="23256" y="9011"/>
                  <a:pt x="23267" y="9079"/>
                </a:cubicBezTo>
                <a:cubicBezTo>
                  <a:pt x="23281" y="9169"/>
                  <a:pt x="23226" y="9193"/>
                  <a:pt x="23168" y="9252"/>
                </a:cubicBezTo>
                <a:cubicBezTo>
                  <a:pt x="23099" y="9321"/>
                  <a:pt x="23071" y="9302"/>
                  <a:pt x="22969" y="9302"/>
                </a:cubicBezTo>
                <a:cubicBezTo>
                  <a:pt x="22908" y="9302"/>
                  <a:pt x="22842" y="9223"/>
                  <a:pt x="22870" y="9153"/>
                </a:cubicBezTo>
                <a:cubicBezTo>
                  <a:pt x="22878" y="9153"/>
                  <a:pt x="22887" y="9153"/>
                  <a:pt x="22895" y="9153"/>
                </a:cubicBezTo>
              </a:path>
              <a:path w="4416" h="993">
                <a:moveTo>
                  <a:pt x="23515" y="8582"/>
                </a:moveTo>
                <a:cubicBezTo>
                  <a:pt x="23515" y="8709"/>
                  <a:pt x="23526" y="8810"/>
                  <a:pt x="23540" y="8930"/>
                </a:cubicBezTo>
                <a:cubicBezTo>
                  <a:pt x="23548" y="9002"/>
                  <a:pt x="23540" y="9080"/>
                  <a:pt x="23540" y="9153"/>
                </a:cubicBezTo>
              </a:path>
              <a:path w="4416" h="993">
                <a:moveTo>
                  <a:pt x="23986" y="8558"/>
                </a:moveTo>
                <a:cubicBezTo>
                  <a:pt x="23934" y="8499"/>
                  <a:pt x="23883" y="8446"/>
                  <a:pt x="23788" y="8483"/>
                </a:cubicBezTo>
                <a:cubicBezTo>
                  <a:pt x="23719" y="8510"/>
                  <a:pt x="23729" y="8615"/>
                  <a:pt x="23763" y="8657"/>
                </a:cubicBezTo>
                <a:cubicBezTo>
                  <a:pt x="23830" y="8740"/>
                  <a:pt x="23876" y="8838"/>
                  <a:pt x="23937" y="8930"/>
                </a:cubicBezTo>
                <a:cubicBezTo>
                  <a:pt x="23994" y="9016"/>
                  <a:pt x="24027" y="9085"/>
                  <a:pt x="24061" y="9178"/>
                </a:cubicBezTo>
                <a:cubicBezTo>
                  <a:pt x="24088" y="9233"/>
                  <a:pt x="24096" y="9256"/>
                  <a:pt x="24085" y="9302"/>
                </a:cubicBezTo>
                <a:cubicBezTo>
                  <a:pt x="23999" y="9302"/>
                  <a:pt x="23985" y="9260"/>
                  <a:pt x="23912" y="9227"/>
                </a:cubicBezTo>
                <a:cubicBezTo>
                  <a:pt x="23858" y="9203"/>
                  <a:pt x="23849" y="9146"/>
                  <a:pt x="23862" y="9079"/>
                </a:cubicBezTo>
                <a:cubicBezTo>
                  <a:pt x="23881" y="8986"/>
                  <a:pt x="23932" y="8944"/>
                  <a:pt x="23986" y="8880"/>
                </a:cubicBezTo>
                <a:cubicBezTo>
                  <a:pt x="24016" y="8844"/>
                  <a:pt x="24076" y="8780"/>
                  <a:pt x="24085" y="8731"/>
                </a:cubicBezTo>
                <a:cubicBezTo>
                  <a:pt x="24085" y="8663"/>
                  <a:pt x="24091" y="8642"/>
                  <a:pt x="24036" y="863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Ink 26"/>
          <p:cNvSpPr/>
          <p:nvPr/>
        </p:nvSpPr>
        <p:spPr>
          <a:xfrm>
            <a:off x="7446960" y="3571920"/>
            <a:ext cx="312840" cy="349200"/>
          </a:xfrm>
          <a:custGeom>
            <a:avLst/>
            <a:gdLst/>
            <a:ahLst/>
            <a:rect l="l" t="t" r="r" b="b"/>
            <a:pathLst>
              <a:path w="869" h="968">
                <a:moveTo>
                  <a:pt x="20712" y="10046"/>
                </a:moveTo>
                <a:cubicBezTo>
                  <a:pt x="20720" y="10149"/>
                  <a:pt x="20750" y="10244"/>
                  <a:pt x="20762" y="10344"/>
                </a:cubicBezTo>
                <a:cubicBezTo>
                  <a:pt x="20778" y="10478"/>
                  <a:pt x="20804" y="10778"/>
                  <a:pt x="20737" y="10889"/>
                </a:cubicBezTo>
                <a:cubicBezTo>
                  <a:pt x="20737" y="10798"/>
                  <a:pt x="20722" y="10728"/>
                  <a:pt x="20712" y="10641"/>
                </a:cubicBezTo>
                <a:cubicBezTo>
                  <a:pt x="20701" y="10550"/>
                  <a:pt x="20697" y="10457"/>
                  <a:pt x="20687" y="10368"/>
                </a:cubicBezTo>
                <a:cubicBezTo>
                  <a:pt x="20677" y="10285"/>
                  <a:pt x="20689" y="10198"/>
                  <a:pt x="20712" y="10120"/>
                </a:cubicBezTo>
                <a:cubicBezTo>
                  <a:pt x="20734" y="10043"/>
                  <a:pt x="20782" y="9889"/>
                  <a:pt x="20886" y="9922"/>
                </a:cubicBezTo>
                <a:cubicBezTo>
                  <a:pt x="20950" y="9942"/>
                  <a:pt x="21007" y="10005"/>
                  <a:pt x="21010" y="10071"/>
                </a:cubicBezTo>
                <a:cubicBezTo>
                  <a:pt x="21015" y="10164"/>
                  <a:pt x="20999" y="10296"/>
                  <a:pt x="20910" y="10344"/>
                </a:cubicBezTo>
                <a:cubicBezTo>
                  <a:pt x="20851" y="10344"/>
                  <a:pt x="20832" y="10353"/>
                  <a:pt x="20836" y="10418"/>
                </a:cubicBezTo>
                <a:cubicBezTo>
                  <a:pt x="20895" y="10346"/>
                  <a:pt x="20914" y="10376"/>
                  <a:pt x="20985" y="10418"/>
                </a:cubicBezTo>
                <a:cubicBezTo>
                  <a:pt x="21011" y="10433"/>
                  <a:pt x="21097" y="10492"/>
                  <a:pt x="21109" y="10517"/>
                </a:cubicBezTo>
                <a:cubicBezTo>
                  <a:pt x="21143" y="10586"/>
                  <a:pt x="21218" y="10738"/>
                  <a:pt x="21158" y="10815"/>
                </a:cubicBezTo>
                <a:cubicBezTo>
                  <a:pt x="21136" y="10843"/>
                  <a:pt x="21035" y="10885"/>
                  <a:pt x="21010" y="10889"/>
                </a:cubicBezTo>
                <a:cubicBezTo>
                  <a:pt x="20964" y="10896"/>
                  <a:pt x="20811" y="10916"/>
                  <a:pt x="20811" y="10840"/>
                </a:cubicBezTo>
                <a:cubicBezTo>
                  <a:pt x="20839" y="10812"/>
                  <a:pt x="20848" y="10798"/>
                  <a:pt x="20836" y="10765"/>
                </a:cubicBezTo>
              </a:path>
              <a:path w="869" h="968">
                <a:moveTo>
                  <a:pt x="21258" y="10418"/>
                </a:moveTo>
                <a:cubicBezTo>
                  <a:pt x="21357" y="10418"/>
                  <a:pt x="21456" y="10418"/>
                  <a:pt x="21555" y="10418"/>
                </a:cubicBezTo>
              </a:path>
              <a:path w="869" h="968">
                <a:moveTo>
                  <a:pt x="21332" y="10492"/>
                </a:moveTo>
                <a:cubicBezTo>
                  <a:pt x="21415" y="10534"/>
                  <a:pt x="21452" y="10509"/>
                  <a:pt x="21555" y="1049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Ink 27"/>
          <p:cNvSpPr/>
          <p:nvPr/>
        </p:nvSpPr>
        <p:spPr>
          <a:xfrm>
            <a:off x="7920000" y="3537000"/>
            <a:ext cx="492120" cy="428400"/>
          </a:xfrm>
          <a:custGeom>
            <a:avLst/>
            <a:gdLst/>
            <a:ahLst/>
            <a:rect l="l" t="t" r="r" b="b"/>
            <a:pathLst>
              <a:path w="1365" h="1191">
                <a:moveTo>
                  <a:pt x="22151" y="9971"/>
                </a:moveTo>
                <a:cubicBezTo>
                  <a:pt x="22114" y="10046"/>
                  <a:pt x="22076" y="10128"/>
                  <a:pt x="22027" y="10195"/>
                </a:cubicBezTo>
                <a:cubicBezTo>
                  <a:pt x="21957" y="10290"/>
                  <a:pt x="22036" y="10257"/>
                  <a:pt x="22076" y="10294"/>
                </a:cubicBezTo>
                <a:cubicBezTo>
                  <a:pt x="22151" y="10364"/>
                  <a:pt x="22178" y="10318"/>
                  <a:pt x="22275" y="10344"/>
                </a:cubicBezTo>
                <a:cubicBezTo>
                  <a:pt x="22364" y="10368"/>
                  <a:pt x="22386" y="10358"/>
                  <a:pt x="22473" y="10344"/>
                </a:cubicBezTo>
                <a:cubicBezTo>
                  <a:pt x="22490" y="10344"/>
                  <a:pt x="22506" y="10344"/>
                  <a:pt x="22523" y="10344"/>
                </a:cubicBezTo>
              </a:path>
              <a:path w="1365" h="1191">
                <a:moveTo>
                  <a:pt x="22448" y="9897"/>
                </a:moveTo>
                <a:cubicBezTo>
                  <a:pt x="22367" y="9965"/>
                  <a:pt x="22419" y="10013"/>
                  <a:pt x="22399" y="10120"/>
                </a:cubicBezTo>
                <a:cubicBezTo>
                  <a:pt x="22378" y="10231"/>
                  <a:pt x="22374" y="10327"/>
                  <a:pt x="22374" y="10443"/>
                </a:cubicBezTo>
                <a:cubicBezTo>
                  <a:pt x="22374" y="10625"/>
                  <a:pt x="22374" y="10806"/>
                  <a:pt x="22374" y="10988"/>
                </a:cubicBezTo>
                <a:cubicBezTo>
                  <a:pt x="22374" y="10909"/>
                  <a:pt x="22377" y="10880"/>
                  <a:pt x="22423" y="10840"/>
                </a:cubicBezTo>
              </a:path>
              <a:path w="1365" h="1191">
                <a:moveTo>
                  <a:pt x="22944" y="10195"/>
                </a:moveTo>
                <a:cubicBezTo>
                  <a:pt x="22957" y="10057"/>
                  <a:pt x="22999" y="9968"/>
                  <a:pt x="22845" y="9922"/>
                </a:cubicBezTo>
                <a:cubicBezTo>
                  <a:pt x="22770" y="9900"/>
                  <a:pt x="22724" y="9949"/>
                  <a:pt x="22671" y="9971"/>
                </a:cubicBezTo>
                <a:cubicBezTo>
                  <a:pt x="22606" y="9998"/>
                  <a:pt x="22544" y="10087"/>
                  <a:pt x="22547" y="10120"/>
                </a:cubicBezTo>
                <a:cubicBezTo>
                  <a:pt x="22553" y="10187"/>
                  <a:pt x="22572" y="10316"/>
                  <a:pt x="22622" y="10344"/>
                </a:cubicBezTo>
                <a:cubicBezTo>
                  <a:pt x="22707" y="10392"/>
                  <a:pt x="22724" y="10472"/>
                  <a:pt x="22820" y="10368"/>
                </a:cubicBezTo>
                <a:cubicBezTo>
                  <a:pt x="22913" y="10267"/>
                  <a:pt x="22920" y="10198"/>
                  <a:pt x="22920" y="10071"/>
                </a:cubicBezTo>
                <a:cubicBezTo>
                  <a:pt x="22920" y="10063"/>
                  <a:pt x="22920" y="10054"/>
                  <a:pt x="22920" y="10046"/>
                </a:cubicBezTo>
                <a:cubicBezTo>
                  <a:pt x="22885" y="10081"/>
                  <a:pt x="22873" y="10195"/>
                  <a:pt x="22870" y="10269"/>
                </a:cubicBezTo>
                <a:cubicBezTo>
                  <a:pt x="22863" y="10463"/>
                  <a:pt x="22871" y="10651"/>
                  <a:pt x="22845" y="10840"/>
                </a:cubicBezTo>
                <a:cubicBezTo>
                  <a:pt x="22835" y="10912"/>
                  <a:pt x="22799" y="11033"/>
                  <a:pt x="22870" y="10964"/>
                </a:cubicBezTo>
              </a:path>
              <a:path w="1365" h="1191">
                <a:moveTo>
                  <a:pt x="23217" y="9897"/>
                </a:moveTo>
                <a:cubicBezTo>
                  <a:pt x="23183" y="9952"/>
                  <a:pt x="23180" y="10009"/>
                  <a:pt x="23217" y="10046"/>
                </a:cubicBezTo>
                <a:cubicBezTo>
                  <a:pt x="23275" y="10104"/>
                  <a:pt x="23339" y="10062"/>
                  <a:pt x="23366" y="9996"/>
                </a:cubicBezTo>
                <a:cubicBezTo>
                  <a:pt x="23392" y="9932"/>
                  <a:pt x="23309" y="9918"/>
                  <a:pt x="23292" y="9897"/>
                </a:cubicBezTo>
                <a:cubicBezTo>
                  <a:pt x="23230" y="9820"/>
                  <a:pt x="23152" y="9830"/>
                  <a:pt x="23044" y="982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9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pplications of the Law of Sin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1.  A TV antenna sits on a roof.  Two 80-foot guide wires are on opposite sides of the antenna.   Each wire makes a 28</a:t>
            </a:r>
            <a:r>
              <a:rPr b="0" lang="en-US" sz="35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 angle with the ground.  How far apart are the wires?</a:t>
            </a:r>
            <a:endParaRPr b="0" lang="en-US" sz="35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Ink 3"/>
          <p:cNvSpPr/>
          <p:nvPr/>
        </p:nvSpPr>
        <p:spPr>
          <a:xfrm>
            <a:off x="660240" y="3160800"/>
            <a:ext cx="2071800" cy="1805040"/>
          </a:xfrm>
          <a:custGeom>
            <a:avLst/>
            <a:gdLst/>
            <a:ahLst/>
            <a:rect l="l" t="t" r="r" b="b"/>
            <a:pathLst>
              <a:path w="5755" h="5011">
                <a:moveTo>
                  <a:pt x="4390" y="8781"/>
                </a:moveTo>
                <a:cubicBezTo>
                  <a:pt x="4343" y="8805"/>
                  <a:pt x="4326" y="8811"/>
                  <a:pt x="4341" y="8855"/>
                </a:cubicBezTo>
                <a:cubicBezTo>
                  <a:pt x="4405" y="8817"/>
                  <a:pt x="4414" y="8711"/>
                  <a:pt x="4390" y="8781"/>
                </a:cubicBezTo>
                <a:cubicBezTo>
                  <a:pt x="4361" y="8811"/>
                  <a:pt x="4356" y="8825"/>
                  <a:pt x="4390" y="8855"/>
                </a:cubicBezTo>
                <a:cubicBezTo>
                  <a:pt x="4432" y="8814"/>
                  <a:pt x="4457" y="8806"/>
                  <a:pt x="4415" y="8781"/>
                </a:cubicBezTo>
                <a:cubicBezTo>
                  <a:pt x="4375" y="8854"/>
                  <a:pt x="4340" y="8936"/>
                  <a:pt x="4291" y="9004"/>
                </a:cubicBezTo>
                <a:cubicBezTo>
                  <a:pt x="4261" y="9045"/>
                  <a:pt x="4213" y="9068"/>
                  <a:pt x="4192" y="9103"/>
                </a:cubicBezTo>
                <a:cubicBezTo>
                  <a:pt x="4167" y="9145"/>
                  <a:pt x="4150" y="9202"/>
                  <a:pt x="4118" y="9252"/>
                </a:cubicBezTo>
                <a:cubicBezTo>
                  <a:pt x="4083" y="9306"/>
                  <a:pt x="4058" y="9343"/>
                  <a:pt x="4018" y="9401"/>
                </a:cubicBezTo>
                <a:cubicBezTo>
                  <a:pt x="3982" y="9454"/>
                  <a:pt x="3959" y="9488"/>
                  <a:pt x="3919" y="9550"/>
                </a:cubicBezTo>
                <a:cubicBezTo>
                  <a:pt x="3861" y="9640"/>
                  <a:pt x="3817" y="9727"/>
                  <a:pt x="3770" y="9823"/>
                </a:cubicBezTo>
                <a:cubicBezTo>
                  <a:pt x="3732" y="9901"/>
                  <a:pt x="3681" y="9964"/>
                  <a:pt x="3646" y="10046"/>
                </a:cubicBezTo>
                <a:cubicBezTo>
                  <a:pt x="3604" y="10143"/>
                  <a:pt x="3576" y="10204"/>
                  <a:pt x="3522" y="10294"/>
                </a:cubicBezTo>
                <a:cubicBezTo>
                  <a:pt x="3471" y="10378"/>
                  <a:pt x="3409" y="10472"/>
                  <a:pt x="3373" y="10567"/>
                </a:cubicBezTo>
                <a:cubicBezTo>
                  <a:pt x="3321" y="10704"/>
                  <a:pt x="3257" y="10830"/>
                  <a:pt x="3200" y="10964"/>
                </a:cubicBezTo>
                <a:cubicBezTo>
                  <a:pt x="3143" y="11098"/>
                  <a:pt x="3091" y="11231"/>
                  <a:pt x="3026" y="11361"/>
                </a:cubicBezTo>
                <a:cubicBezTo>
                  <a:pt x="2967" y="11479"/>
                  <a:pt x="2909" y="11591"/>
                  <a:pt x="2853" y="11708"/>
                </a:cubicBezTo>
                <a:cubicBezTo>
                  <a:pt x="2793" y="11834"/>
                  <a:pt x="2717" y="11930"/>
                  <a:pt x="2654" y="12055"/>
                </a:cubicBezTo>
                <a:cubicBezTo>
                  <a:pt x="2585" y="12190"/>
                  <a:pt x="2506" y="12317"/>
                  <a:pt x="2431" y="12452"/>
                </a:cubicBezTo>
                <a:cubicBezTo>
                  <a:pt x="2370" y="12562"/>
                  <a:pt x="2298" y="12668"/>
                  <a:pt x="2232" y="12774"/>
                </a:cubicBezTo>
                <a:cubicBezTo>
                  <a:pt x="2174" y="12867"/>
                  <a:pt x="2114" y="12957"/>
                  <a:pt x="2059" y="13047"/>
                </a:cubicBezTo>
                <a:cubicBezTo>
                  <a:pt x="2013" y="13123"/>
                  <a:pt x="1977" y="13197"/>
                  <a:pt x="1935" y="13271"/>
                </a:cubicBezTo>
                <a:cubicBezTo>
                  <a:pt x="1903" y="13327"/>
                  <a:pt x="1866" y="13384"/>
                  <a:pt x="1836" y="13444"/>
                </a:cubicBezTo>
                <a:cubicBezTo>
                  <a:pt x="1860" y="13395"/>
                  <a:pt x="1868" y="13378"/>
                  <a:pt x="1885" y="13345"/>
                </a:cubicBezTo>
              </a:path>
              <a:path w="5755" h="5011">
                <a:moveTo>
                  <a:pt x="4465" y="8781"/>
                </a:moveTo>
                <a:cubicBezTo>
                  <a:pt x="4480" y="8806"/>
                  <a:pt x="4539" y="8882"/>
                  <a:pt x="4564" y="8930"/>
                </a:cubicBezTo>
                <a:cubicBezTo>
                  <a:pt x="4599" y="8998"/>
                  <a:pt x="4614" y="9030"/>
                  <a:pt x="4663" y="9103"/>
                </a:cubicBezTo>
                <a:cubicBezTo>
                  <a:pt x="4749" y="9231"/>
                  <a:pt x="4820" y="9351"/>
                  <a:pt x="4911" y="9475"/>
                </a:cubicBezTo>
                <a:cubicBezTo>
                  <a:pt x="5002" y="9599"/>
                  <a:pt x="5081" y="9715"/>
                  <a:pt x="5159" y="9847"/>
                </a:cubicBezTo>
                <a:cubicBezTo>
                  <a:pt x="5237" y="9977"/>
                  <a:pt x="5314" y="10066"/>
                  <a:pt x="5383" y="10195"/>
                </a:cubicBezTo>
                <a:cubicBezTo>
                  <a:pt x="5462" y="10343"/>
                  <a:pt x="5548" y="10432"/>
                  <a:pt x="5631" y="10567"/>
                </a:cubicBezTo>
                <a:cubicBezTo>
                  <a:pt x="5704" y="10685"/>
                  <a:pt x="5791" y="10844"/>
                  <a:pt x="5854" y="10964"/>
                </a:cubicBezTo>
                <a:cubicBezTo>
                  <a:pt x="5929" y="11106"/>
                  <a:pt x="6019" y="11226"/>
                  <a:pt x="6102" y="11361"/>
                </a:cubicBezTo>
                <a:cubicBezTo>
                  <a:pt x="6210" y="11537"/>
                  <a:pt x="6325" y="11705"/>
                  <a:pt x="6424" y="11881"/>
                </a:cubicBezTo>
                <a:cubicBezTo>
                  <a:pt x="6502" y="12020"/>
                  <a:pt x="6589" y="12144"/>
                  <a:pt x="6672" y="12278"/>
                </a:cubicBezTo>
                <a:cubicBezTo>
                  <a:pt x="6754" y="12412"/>
                  <a:pt x="6844" y="12546"/>
                  <a:pt x="6921" y="12675"/>
                </a:cubicBezTo>
                <a:cubicBezTo>
                  <a:pt x="6989" y="12789"/>
                  <a:pt x="7053" y="12907"/>
                  <a:pt x="7119" y="13022"/>
                </a:cubicBezTo>
                <a:cubicBezTo>
                  <a:pt x="7204" y="13170"/>
                  <a:pt x="7283" y="13320"/>
                  <a:pt x="7367" y="13469"/>
                </a:cubicBezTo>
                <a:cubicBezTo>
                  <a:pt x="7414" y="13552"/>
                  <a:pt x="7468" y="13595"/>
                  <a:pt x="7516" y="13667"/>
                </a:cubicBezTo>
                <a:cubicBezTo>
                  <a:pt x="7549" y="13717"/>
                  <a:pt x="7533" y="13716"/>
                  <a:pt x="7565" y="13767"/>
                </a:cubicBezTo>
              </a:path>
              <a:path w="5755" h="5011">
                <a:moveTo>
                  <a:pt x="1885" y="13395"/>
                </a:moveTo>
                <a:cubicBezTo>
                  <a:pt x="1947" y="13386"/>
                  <a:pt x="1989" y="13362"/>
                  <a:pt x="2059" y="13370"/>
                </a:cubicBezTo>
                <a:cubicBezTo>
                  <a:pt x="2144" y="13380"/>
                  <a:pt x="2217" y="13381"/>
                  <a:pt x="2307" y="13395"/>
                </a:cubicBezTo>
                <a:cubicBezTo>
                  <a:pt x="2397" y="13409"/>
                  <a:pt x="2488" y="13437"/>
                  <a:pt x="2580" y="13444"/>
                </a:cubicBezTo>
                <a:cubicBezTo>
                  <a:pt x="2645" y="13449"/>
                  <a:pt x="2720" y="13465"/>
                  <a:pt x="2778" y="13469"/>
                </a:cubicBezTo>
                <a:cubicBezTo>
                  <a:pt x="2909" y="13478"/>
                  <a:pt x="3051" y="13486"/>
                  <a:pt x="3175" y="13494"/>
                </a:cubicBezTo>
                <a:cubicBezTo>
                  <a:pt x="3357" y="13506"/>
                  <a:pt x="3543" y="13506"/>
                  <a:pt x="3721" y="13519"/>
                </a:cubicBezTo>
                <a:cubicBezTo>
                  <a:pt x="3798" y="13525"/>
                  <a:pt x="3868" y="13539"/>
                  <a:pt x="3944" y="13543"/>
                </a:cubicBezTo>
                <a:cubicBezTo>
                  <a:pt x="4033" y="13548"/>
                  <a:pt x="4107" y="13556"/>
                  <a:pt x="4192" y="13568"/>
                </a:cubicBezTo>
                <a:cubicBezTo>
                  <a:pt x="4298" y="13583"/>
                  <a:pt x="4408" y="13580"/>
                  <a:pt x="4514" y="13593"/>
                </a:cubicBezTo>
                <a:cubicBezTo>
                  <a:pt x="4607" y="13604"/>
                  <a:pt x="4690" y="13616"/>
                  <a:pt x="4787" y="13618"/>
                </a:cubicBezTo>
                <a:cubicBezTo>
                  <a:pt x="4890" y="13620"/>
                  <a:pt x="4983" y="13638"/>
                  <a:pt x="5085" y="13643"/>
                </a:cubicBezTo>
                <a:cubicBezTo>
                  <a:pt x="5187" y="13649"/>
                  <a:pt x="5283" y="13652"/>
                  <a:pt x="5383" y="13667"/>
                </a:cubicBezTo>
                <a:cubicBezTo>
                  <a:pt x="5504" y="13685"/>
                  <a:pt x="5632" y="13709"/>
                  <a:pt x="5755" y="13717"/>
                </a:cubicBezTo>
                <a:cubicBezTo>
                  <a:pt x="5888" y="13725"/>
                  <a:pt x="6021" y="13733"/>
                  <a:pt x="6152" y="13742"/>
                </a:cubicBezTo>
                <a:cubicBezTo>
                  <a:pt x="6297" y="13752"/>
                  <a:pt x="6432" y="13725"/>
                  <a:pt x="6573" y="13717"/>
                </a:cubicBezTo>
                <a:cubicBezTo>
                  <a:pt x="6700" y="13710"/>
                  <a:pt x="6819" y="13714"/>
                  <a:pt x="6945" y="13692"/>
                </a:cubicBezTo>
                <a:cubicBezTo>
                  <a:pt x="7013" y="13680"/>
                  <a:pt x="7075" y="13677"/>
                  <a:pt x="7144" y="13667"/>
                </a:cubicBezTo>
                <a:cubicBezTo>
                  <a:pt x="7190" y="13660"/>
                  <a:pt x="7261" y="13651"/>
                  <a:pt x="7317" y="13643"/>
                </a:cubicBezTo>
                <a:cubicBezTo>
                  <a:pt x="7358" y="13637"/>
                  <a:pt x="7442" y="13629"/>
                  <a:pt x="7491" y="13618"/>
                </a:cubicBezTo>
                <a:cubicBezTo>
                  <a:pt x="7533" y="13618"/>
                  <a:pt x="7549" y="13626"/>
                  <a:pt x="7541" y="1359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nk 4"/>
          <p:cNvSpPr/>
          <p:nvPr/>
        </p:nvSpPr>
        <p:spPr>
          <a:xfrm>
            <a:off x="1517760" y="2894040"/>
            <a:ext cx="866520" cy="222120"/>
          </a:xfrm>
          <a:custGeom>
            <a:avLst/>
            <a:gdLst/>
            <a:ahLst/>
            <a:rect l="l" t="t" r="r" b="b"/>
            <a:pathLst>
              <a:path w="2407" h="621">
                <a:moveTo>
                  <a:pt x="4242" y="8483"/>
                </a:moveTo>
                <a:cubicBezTo>
                  <a:pt x="4242" y="8511"/>
                  <a:pt x="4230" y="8632"/>
                  <a:pt x="4242" y="8558"/>
                </a:cubicBezTo>
                <a:cubicBezTo>
                  <a:pt x="4254" y="8486"/>
                  <a:pt x="4257" y="8395"/>
                  <a:pt x="4266" y="8334"/>
                </a:cubicBezTo>
                <a:cubicBezTo>
                  <a:pt x="4277" y="8256"/>
                  <a:pt x="4259" y="8159"/>
                  <a:pt x="4291" y="8086"/>
                </a:cubicBezTo>
                <a:cubicBezTo>
                  <a:pt x="4316" y="8062"/>
                  <a:pt x="4325" y="8054"/>
                  <a:pt x="4341" y="8037"/>
                </a:cubicBezTo>
                <a:cubicBezTo>
                  <a:pt x="4350" y="8106"/>
                  <a:pt x="4379" y="8168"/>
                  <a:pt x="4390" y="8235"/>
                </a:cubicBezTo>
                <a:cubicBezTo>
                  <a:pt x="4402" y="8311"/>
                  <a:pt x="4427" y="8367"/>
                  <a:pt x="4465" y="8434"/>
                </a:cubicBezTo>
                <a:cubicBezTo>
                  <a:pt x="4496" y="8489"/>
                  <a:pt x="4512" y="8532"/>
                  <a:pt x="4539" y="8582"/>
                </a:cubicBezTo>
                <a:cubicBezTo>
                  <a:pt x="4571" y="8642"/>
                  <a:pt x="4567" y="8622"/>
                  <a:pt x="4614" y="8657"/>
                </a:cubicBezTo>
              </a:path>
              <a:path w="2407" h="621">
                <a:moveTo>
                  <a:pt x="4242" y="8434"/>
                </a:moveTo>
                <a:cubicBezTo>
                  <a:pt x="4296" y="8401"/>
                  <a:pt x="4346" y="8409"/>
                  <a:pt x="4415" y="8409"/>
                </a:cubicBezTo>
              </a:path>
              <a:path w="2407" h="621">
                <a:moveTo>
                  <a:pt x="4688" y="8434"/>
                </a:moveTo>
                <a:cubicBezTo>
                  <a:pt x="4688" y="8500"/>
                  <a:pt x="4688" y="8566"/>
                  <a:pt x="4688" y="8632"/>
                </a:cubicBezTo>
                <a:cubicBezTo>
                  <a:pt x="4688" y="8563"/>
                  <a:pt x="4681" y="8456"/>
                  <a:pt x="4713" y="8409"/>
                </a:cubicBezTo>
                <a:cubicBezTo>
                  <a:pt x="4720" y="8399"/>
                  <a:pt x="4768" y="8358"/>
                  <a:pt x="4787" y="8334"/>
                </a:cubicBezTo>
                <a:cubicBezTo>
                  <a:pt x="4866" y="8383"/>
                  <a:pt x="4889" y="8402"/>
                  <a:pt x="4911" y="8483"/>
                </a:cubicBezTo>
                <a:cubicBezTo>
                  <a:pt x="4929" y="8548"/>
                  <a:pt x="4921" y="8569"/>
                  <a:pt x="4961" y="8582"/>
                </a:cubicBezTo>
              </a:path>
              <a:path w="2407" h="621">
                <a:moveTo>
                  <a:pt x="5060" y="8111"/>
                </a:moveTo>
                <a:cubicBezTo>
                  <a:pt x="5060" y="8189"/>
                  <a:pt x="5079" y="8241"/>
                  <a:pt x="5085" y="8310"/>
                </a:cubicBezTo>
                <a:cubicBezTo>
                  <a:pt x="5087" y="8338"/>
                  <a:pt x="5100" y="8461"/>
                  <a:pt x="5110" y="8483"/>
                </a:cubicBezTo>
                <a:cubicBezTo>
                  <a:pt x="5115" y="8494"/>
                  <a:pt x="5135" y="8607"/>
                  <a:pt x="5159" y="8558"/>
                </a:cubicBezTo>
              </a:path>
              <a:path w="2407" h="621">
                <a:moveTo>
                  <a:pt x="4986" y="8334"/>
                </a:moveTo>
                <a:cubicBezTo>
                  <a:pt x="5077" y="8334"/>
                  <a:pt x="5168" y="8334"/>
                  <a:pt x="5259" y="8334"/>
                </a:cubicBezTo>
              </a:path>
              <a:path w="2407" h="621">
                <a:moveTo>
                  <a:pt x="5432" y="8434"/>
                </a:moveTo>
                <a:cubicBezTo>
                  <a:pt x="5519" y="8397"/>
                  <a:pt x="5490" y="8429"/>
                  <a:pt x="5531" y="8334"/>
                </a:cubicBezTo>
                <a:cubicBezTo>
                  <a:pt x="5478" y="8334"/>
                  <a:pt x="5400" y="8317"/>
                  <a:pt x="5358" y="8359"/>
                </a:cubicBezTo>
                <a:cubicBezTo>
                  <a:pt x="5319" y="8398"/>
                  <a:pt x="5314" y="8517"/>
                  <a:pt x="5358" y="8558"/>
                </a:cubicBezTo>
                <a:cubicBezTo>
                  <a:pt x="5435" y="8629"/>
                  <a:pt x="5432" y="8620"/>
                  <a:pt x="5507" y="8582"/>
                </a:cubicBezTo>
              </a:path>
              <a:path w="2407" h="621">
                <a:moveTo>
                  <a:pt x="5631" y="8359"/>
                </a:moveTo>
                <a:cubicBezTo>
                  <a:pt x="5623" y="8418"/>
                  <a:pt x="5599" y="8497"/>
                  <a:pt x="5631" y="8558"/>
                </a:cubicBezTo>
                <a:cubicBezTo>
                  <a:pt x="5639" y="8558"/>
                  <a:pt x="5647" y="8558"/>
                  <a:pt x="5655" y="8558"/>
                </a:cubicBezTo>
                <a:cubicBezTo>
                  <a:pt x="5655" y="8512"/>
                  <a:pt x="5679" y="8414"/>
                  <a:pt x="5680" y="8409"/>
                </a:cubicBezTo>
                <a:cubicBezTo>
                  <a:pt x="5680" y="8384"/>
                  <a:pt x="5680" y="8359"/>
                  <a:pt x="5680" y="8334"/>
                </a:cubicBezTo>
                <a:cubicBezTo>
                  <a:pt x="5718" y="8334"/>
                  <a:pt x="5783" y="8316"/>
                  <a:pt x="5804" y="8359"/>
                </a:cubicBezTo>
                <a:cubicBezTo>
                  <a:pt x="5847" y="8446"/>
                  <a:pt x="5819" y="8556"/>
                  <a:pt x="5854" y="8632"/>
                </a:cubicBezTo>
                <a:cubicBezTo>
                  <a:pt x="5862" y="8632"/>
                  <a:pt x="5871" y="8632"/>
                  <a:pt x="5879" y="8632"/>
                </a:cubicBezTo>
              </a:path>
              <a:path w="2407" h="621">
                <a:moveTo>
                  <a:pt x="5928" y="8434"/>
                </a:moveTo>
                <a:cubicBezTo>
                  <a:pt x="5946" y="8525"/>
                  <a:pt x="5921" y="8566"/>
                  <a:pt x="5978" y="8558"/>
                </a:cubicBezTo>
                <a:cubicBezTo>
                  <a:pt x="5978" y="8468"/>
                  <a:pt x="5959" y="8359"/>
                  <a:pt x="6003" y="8285"/>
                </a:cubicBezTo>
                <a:cubicBezTo>
                  <a:pt x="6076" y="8306"/>
                  <a:pt x="6098" y="8341"/>
                  <a:pt x="6102" y="8434"/>
                </a:cubicBezTo>
                <a:cubicBezTo>
                  <a:pt x="6105" y="8487"/>
                  <a:pt x="6131" y="8603"/>
                  <a:pt x="6176" y="8632"/>
                </a:cubicBezTo>
                <a:cubicBezTo>
                  <a:pt x="6193" y="8632"/>
                  <a:pt x="6209" y="8632"/>
                  <a:pt x="6226" y="8632"/>
                </a:cubicBezTo>
              </a:path>
              <a:path w="2407" h="621">
                <a:moveTo>
                  <a:pt x="6400" y="8334"/>
                </a:moveTo>
                <a:cubicBezTo>
                  <a:pt x="6340" y="8357"/>
                  <a:pt x="6270" y="8361"/>
                  <a:pt x="6251" y="8434"/>
                </a:cubicBezTo>
                <a:cubicBezTo>
                  <a:pt x="6251" y="8450"/>
                  <a:pt x="6251" y="8467"/>
                  <a:pt x="6251" y="8483"/>
                </a:cubicBezTo>
                <a:cubicBezTo>
                  <a:pt x="6351" y="8483"/>
                  <a:pt x="6300" y="8451"/>
                  <a:pt x="6375" y="8409"/>
                </a:cubicBezTo>
                <a:cubicBezTo>
                  <a:pt x="6383" y="8409"/>
                  <a:pt x="6392" y="8409"/>
                  <a:pt x="6400" y="8409"/>
                </a:cubicBezTo>
                <a:cubicBezTo>
                  <a:pt x="6400" y="8460"/>
                  <a:pt x="6405" y="8521"/>
                  <a:pt x="6449" y="8558"/>
                </a:cubicBezTo>
                <a:cubicBezTo>
                  <a:pt x="6505" y="8606"/>
                  <a:pt x="6567" y="8623"/>
                  <a:pt x="6623" y="8657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Ink 5"/>
          <p:cNvSpPr/>
          <p:nvPr/>
        </p:nvSpPr>
        <p:spPr>
          <a:xfrm>
            <a:off x="812880" y="3537000"/>
            <a:ext cx="223920" cy="419040"/>
          </a:xfrm>
          <a:custGeom>
            <a:avLst/>
            <a:gdLst/>
            <a:ahLst/>
            <a:rect l="l" t="t" r="r" b="b"/>
            <a:pathLst>
              <a:path w="621" h="1166">
                <a:moveTo>
                  <a:pt x="2530" y="10418"/>
                </a:moveTo>
                <a:cubicBezTo>
                  <a:pt x="2501" y="10389"/>
                  <a:pt x="2391" y="10322"/>
                  <a:pt x="2332" y="10368"/>
                </a:cubicBezTo>
                <a:cubicBezTo>
                  <a:pt x="2305" y="10389"/>
                  <a:pt x="2243" y="10449"/>
                  <a:pt x="2257" y="10492"/>
                </a:cubicBezTo>
                <a:cubicBezTo>
                  <a:pt x="2274" y="10544"/>
                  <a:pt x="2343" y="10603"/>
                  <a:pt x="2381" y="10641"/>
                </a:cubicBezTo>
                <a:cubicBezTo>
                  <a:pt x="2433" y="10693"/>
                  <a:pt x="2474" y="10723"/>
                  <a:pt x="2530" y="10765"/>
                </a:cubicBezTo>
                <a:cubicBezTo>
                  <a:pt x="2577" y="10800"/>
                  <a:pt x="2601" y="10861"/>
                  <a:pt x="2604" y="10914"/>
                </a:cubicBezTo>
                <a:cubicBezTo>
                  <a:pt x="2609" y="11000"/>
                  <a:pt x="2531" y="11014"/>
                  <a:pt x="2456" y="10988"/>
                </a:cubicBezTo>
                <a:cubicBezTo>
                  <a:pt x="2423" y="10977"/>
                  <a:pt x="2383" y="10919"/>
                  <a:pt x="2381" y="10889"/>
                </a:cubicBezTo>
                <a:cubicBezTo>
                  <a:pt x="2375" y="10804"/>
                  <a:pt x="2433" y="10801"/>
                  <a:pt x="2456" y="10740"/>
                </a:cubicBezTo>
                <a:cubicBezTo>
                  <a:pt x="2499" y="10622"/>
                  <a:pt x="2516" y="10637"/>
                  <a:pt x="2580" y="10567"/>
                </a:cubicBezTo>
                <a:cubicBezTo>
                  <a:pt x="2616" y="10528"/>
                  <a:pt x="2622" y="10490"/>
                  <a:pt x="2629" y="10443"/>
                </a:cubicBezTo>
              </a:path>
              <a:path w="621" h="1166">
                <a:moveTo>
                  <a:pt x="2704" y="10344"/>
                </a:moveTo>
                <a:cubicBezTo>
                  <a:pt x="2704" y="10401"/>
                  <a:pt x="2693" y="10441"/>
                  <a:pt x="2679" y="10492"/>
                </a:cubicBezTo>
                <a:cubicBezTo>
                  <a:pt x="2651" y="10595"/>
                  <a:pt x="2663" y="10594"/>
                  <a:pt x="2679" y="10691"/>
                </a:cubicBezTo>
                <a:cubicBezTo>
                  <a:pt x="2692" y="10765"/>
                  <a:pt x="2738" y="10791"/>
                  <a:pt x="2803" y="10740"/>
                </a:cubicBezTo>
                <a:cubicBezTo>
                  <a:pt x="2855" y="10700"/>
                  <a:pt x="2872" y="10579"/>
                  <a:pt x="2853" y="10517"/>
                </a:cubicBezTo>
                <a:cubicBezTo>
                  <a:pt x="2841" y="10479"/>
                  <a:pt x="2795" y="10368"/>
                  <a:pt x="2753" y="10344"/>
                </a:cubicBezTo>
                <a:cubicBezTo>
                  <a:pt x="2720" y="10344"/>
                  <a:pt x="2712" y="10335"/>
                  <a:pt x="2729" y="10294"/>
                </a:cubicBezTo>
              </a:path>
              <a:path w="621" h="1166">
                <a:moveTo>
                  <a:pt x="2853" y="9823"/>
                </a:moveTo>
                <a:cubicBezTo>
                  <a:pt x="2853" y="9890"/>
                  <a:pt x="2867" y="9943"/>
                  <a:pt x="2877" y="9996"/>
                </a:cubicBezTo>
                <a:cubicBezTo>
                  <a:pt x="2877" y="10013"/>
                  <a:pt x="2877" y="10029"/>
                  <a:pt x="2877" y="10046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6"/>
          <p:cNvSpPr/>
          <p:nvPr/>
        </p:nvSpPr>
        <p:spPr>
          <a:xfrm>
            <a:off x="1465200" y="3419640"/>
            <a:ext cx="330120" cy="250560"/>
          </a:xfrm>
          <a:custGeom>
            <a:avLst/>
            <a:gdLst/>
            <a:ahLst/>
            <a:rect l="l" t="t" r="r" b="b"/>
            <a:pathLst>
              <a:path w="919" h="696">
                <a:moveTo>
                  <a:pt x="4118" y="9599"/>
                </a:moveTo>
                <a:cubicBezTo>
                  <a:pt x="4118" y="9722"/>
                  <a:pt x="4100" y="9749"/>
                  <a:pt x="4093" y="9847"/>
                </a:cubicBezTo>
                <a:cubicBezTo>
                  <a:pt x="4088" y="9926"/>
                  <a:pt x="4081" y="10005"/>
                  <a:pt x="4068" y="10071"/>
                </a:cubicBezTo>
                <a:cubicBezTo>
                  <a:pt x="4068" y="10087"/>
                  <a:pt x="4068" y="10104"/>
                  <a:pt x="4068" y="10120"/>
                </a:cubicBezTo>
              </a:path>
              <a:path w="919" h="696">
                <a:moveTo>
                  <a:pt x="4242" y="9599"/>
                </a:moveTo>
                <a:cubicBezTo>
                  <a:pt x="4365" y="9533"/>
                  <a:pt x="4348" y="9545"/>
                  <a:pt x="4440" y="9599"/>
                </a:cubicBezTo>
                <a:cubicBezTo>
                  <a:pt x="4484" y="9625"/>
                  <a:pt x="4474" y="9698"/>
                  <a:pt x="4440" y="9748"/>
                </a:cubicBezTo>
                <a:cubicBezTo>
                  <a:pt x="4408" y="9796"/>
                  <a:pt x="4376" y="9851"/>
                  <a:pt x="4341" y="9897"/>
                </a:cubicBezTo>
                <a:cubicBezTo>
                  <a:pt x="4301" y="9950"/>
                  <a:pt x="4269" y="9981"/>
                  <a:pt x="4266" y="10046"/>
                </a:cubicBezTo>
                <a:cubicBezTo>
                  <a:pt x="4266" y="10071"/>
                  <a:pt x="4266" y="10095"/>
                  <a:pt x="4266" y="10120"/>
                </a:cubicBezTo>
                <a:cubicBezTo>
                  <a:pt x="4368" y="10120"/>
                  <a:pt x="4425" y="10128"/>
                  <a:pt x="4514" y="10071"/>
                </a:cubicBezTo>
                <a:cubicBezTo>
                  <a:pt x="4522" y="10063"/>
                  <a:pt x="4531" y="10054"/>
                  <a:pt x="4539" y="10046"/>
                </a:cubicBezTo>
              </a:path>
              <a:path w="919" h="696">
                <a:moveTo>
                  <a:pt x="4589" y="9624"/>
                </a:moveTo>
                <a:cubicBezTo>
                  <a:pt x="4589" y="9733"/>
                  <a:pt x="4569" y="9770"/>
                  <a:pt x="4638" y="9823"/>
                </a:cubicBezTo>
                <a:cubicBezTo>
                  <a:pt x="4694" y="9866"/>
                  <a:pt x="4668" y="9877"/>
                  <a:pt x="4738" y="9897"/>
                </a:cubicBezTo>
              </a:path>
              <a:path w="919" h="696">
                <a:moveTo>
                  <a:pt x="4787" y="9500"/>
                </a:moveTo>
                <a:cubicBezTo>
                  <a:pt x="4787" y="9732"/>
                  <a:pt x="4787" y="9963"/>
                  <a:pt x="4787" y="10195"/>
                </a:cubicBezTo>
              </a:path>
              <a:path w="919" h="696">
                <a:moveTo>
                  <a:pt x="4887" y="9748"/>
                </a:moveTo>
                <a:cubicBezTo>
                  <a:pt x="4964" y="9748"/>
                  <a:pt x="5012" y="9716"/>
                  <a:pt x="4986" y="9624"/>
                </a:cubicBezTo>
                <a:cubicBezTo>
                  <a:pt x="4974" y="9582"/>
                  <a:pt x="4918" y="9599"/>
                  <a:pt x="4887" y="9599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7"/>
          <p:cNvSpPr/>
          <p:nvPr/>
        </p:nvSpPr>
        <p:spPr>
          <a:xfrm>
            <a:off x="2187720" y="3724200"/>
            <a:ext cx="285480" cy="223920"/>
          </a:xfrm>
          <a:custGeom>
            <a:avLst/>
            <a:gdLst/>
            <a:ahLst/>
            <a:rect l="l" t="t" r="r" b="b"/>
            <a:pathLst>
              <a:path w="795" h="621">
                <a:moveTo>
                  <a:pt x="6325" y="10517"/>
                </a:moveTo>
                <a:cubicBezTo>
                  <a:pt x="6296" y="10502"/>
                  <a:pt x="6157" y="10425"/>
                  <a:pt x="6127" y="10443"/>
                </a:cubicBezTo>
                <a:cubicBezTo>
                  <a:pt x="6107" y="10483"/>
                  <a:pt x="6108" y="10499"/>
                  <a:pt x="6077" y="10492"/>
                </a:cubicBezTo>
                <a:cubicBezTo>
                  <a:pt x="6108" y="10531"/>
                  <a:pt x="6154" y="10557"/>
                  <a:pt x="6176" y="10592"/>
                </a:cubicBezTo>
                <a:cubicBezTo>
                  <a:pt x="6233" y="10686"/>
                  <a:pt x="6292" y="10770"/>
                  <a:pt x="6350" y="10864"/>
                </a:cubicBezTo>
                <a:cubicBezTo>
                  <a:pt x="6358" y="10881"/>
                  <a:pt x="6367" y="10897"/>
                  <a:pt x="6375" y="10914"/>
                </a:cubicBezTo>
                <a:cubicBezTo>
                  <a:pt x="6326" y="10963"/>
                  <a:pt x="6294" y="10988"/>
                  <a:pt x="6226" y="10939"/>
                </a:cubicBezTo>
                <a:cubicBezTo>
                  <a:pt x="6188" y="10912"/>
                  <a:pt x="6109" y="10844"/>
                  <a:pt x="6127" y="10790"/>
                </a:cubicBezTo>
                <a:cubicBezTo>
                  <a:pt x="6140" y="10752"/>
                  <a:pt x="6204" y="10725"/>
                  <a:pt x="6226" y="10691"/>
                </a:cubicBezTo>
                <a:cubicBezTo>
                  <a:pt x="6266" y="10629"/>
                  <a:pt x="6263" y="10645"/>
                  <a:pt x="6325" y="10592"/>
                </a:cubicBezTo>
              </a:path>
              <a:path w="795" h="621">
                <a:moveTo>
                  <a:pt x="6474" y="10567"/>
                </a:moveTo>
                <a:cubicBezTo>
                  <a:pt x="6428" y="10601"/>
                  <a:pt x="6404" y="10671"/>
                  <a:pt x="6400" y="10740"/>
                </a:cubicBezTo>
                <a:cubicBezTo>
                  <a:pt x="6396" y="10815"/>
                  <a:pt x="6417" y="10879"/>
                  <a:pt x="6474" y="10914"/>
                </a:cubicBezTo>
                <a:cubicBezTo>
                  <a:pt x="6569" y="10973"/>
                  <a:pt x="6627" y="10934"/>
                  <a:pt x="6672" y="10840"/>
                </a:cubicBezTo>
                <a:cubicBezTo>
                  <a:pt x="6705" y="10770"/>
                  <a:pt x="6679" y="10711"/>
                  <a:pt x="6648" y="10641"/>
                </a:cubicBezTo>
                <a:cubicBezTo>
                  <a:pt x="6624" y="10587"/>
                  <a:pt x="6584" y="10537"/>
                  <a:pt x="6548" y="10492"/>
                </a:cubicBezTo>
              </a:path>
              <a:path w="795" h="621">
                <a:moveTo>
                  <a:pt x="6871" y="10344"/>
                </a:moveTo>
                <a:cubicBezTo>
                  <a:pt x="6844" y="10436"/>
                  <a:pt x="6781" y="10577"/>
                  <a:pt x="6846" y="10641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8"/>
          <p:cNvSpPr/>
          <p:nvPr/>
        </p:nvSpPr>
        <p:spPr>
          <a:xfrm>
            <a:off x="812880" y="4537080"/>
            <a:ext cx="268200" cy="231840"/>
          </a:xfrm>
          <a:custGeom>
            <a:avLst/>
            <a:gdLst/>
            <a:ahLst/>
            <a:rect l="l" t="t" r="r" b="b"/>
            <a:pathLst>
              <a:path w="745" h="646">
                <a:moveTo>
                  <a:pt x="2282" y="12874"/>
                </a:moveTo>
                <a:cubicBezTo>
                  <a:pt x="2330" y="12790"/>
                  <a:pt x="2334" y="12809"/>
                  <a:pt x="2406" y="12774"/>
                </a:cubicBezTo>
                <a:cubicBezTo>
                  <a:pt x="2449" y="12753"/>
                  <a:pt x="2496" y="12779"/>
                  <a:pt x="2480" y="12849"/>
                </a:cubicBezTo>
                <a:cubicBezTo>
                  <a:pt x="2466" y="12911"/>
                  <a:pt x="2446" y="12970"/>
                  <a:pt x="2406" y="13022"/>
                </a:cubicBezTo>
                <a:cubicBezTo>
                  <a:pt x="2364" y="13077"/>
                  <a:pt x="2354" y="13104"/>
                  <a:pt x="2307" y="13146"/>
                </a:cubicBezTo>
                <a:cubicBezTo>
                  <a:pt x="2282" y="13171"/>
                  <a:pt x="2274" y="13179"/>
                  <a:pt x="2257" y="13196"/>
                </a:cubicBezTo>
                <a:cubicBezTo>
                  <a:pt x="2301" y="13240"/>
                  <a:pt x="2338" y="13265"/>
                  <a:pt x="2406" y="13246"/>
                </a:cubicBezTo>
                <a:cubicBezTo>
                  <a:pt x="2456" y="13221"/>
                  <a:pt x="2472" y="13213"/>
                  <a:pt x="2505" y="13196"/>
                </a:cubicBezTo>
              </a:path>
              <a:path w="745" h="646">
                <a:moveTo>
                  <a:pt x="2753" y="12799"/>
                </a:moveTo>
                <a:cubicBezTo>
                  <a:pt x="2753" y="12755"/>
                  <a:pt x="2756" y="12742"/>
                  <a:pt x="2729" y="12725"/>
                </a:cubicBezTo>
                <a:cubicBezTo>
                  <a:pt x="2662" y="12763"/>
                  <a:pt x="2611" y="12783"/>
                  <a:pt x="2629" y="12874"/>
                </a:cubicBezTo>
                <a:cubicBezTo>
                  <a:pt x="2642" y="12937"/>
                  <a:pt x="2700" y="12992"/>
                  <a:pt x="2729" y="13047"/>
                </a:cubicBezTo>
                <a:cubicBezTo>
                  <a:pt x="2752" y="13092"/>
                  <a:pt x="2824" y="13202"/>
                  <a:pt x="2753" y="13246"/>
                </a:cubicBezTo>
                <a:cubicBezTo>
                  <a:pt x="2668" y="13299"/>
                  <a:pt x="2632" y="13208"/>
                  <a:pt x="2629" y="13146"/>
                </a:cubicBezTo>
                <a:cubicBezTo>
                  <a:pt x="2625" y="13068"/>
                  <a:pt x="2652" y="13024"/>
                  <a:pt x="2704" y="12973"/>
                </a:cubicBezTo>
                <a:cubicBezTo>
                  <a:pt x="2745" y="12932"/>
                  <a:pt x="2768" y="12899"/>
                  <a:pt x="2803" y="12849"/>
                </a:cubicBezTo>
              </a:path>
              <a:path w="745" h="646">
                <a:moveTo>
                  <a:pt x="2877" y="12626"/>
                </a:moveTo>
                <a:cubicBezTo>
                  <a:pt x="2860" y="12713"/>
                  <a:pt x="2852" y="12744"/>
                  <a:pt x="2952" y="12750"/>
                </a:cubicBezTo>
                <a:cubicBezTo>
                  <a:pt x="2968" y="12750"/>
                  <a:pt x="2985" y="12750"/>
                  <a:pt x="3001" y="12750"/>
                </a:cubicBezTo>
                <a:cubicBezTo>
                  <a:pt x="2992" y="12677"/>
                  <a:pt x="2979" y="12652"/>
                  <a:pt x="2927" y="12601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Ink 9"/>
          <p:cNvSpPr/>
          <p:nvPr/>
        </p:nvSpPr>
        <p:spPr>
          <a:xfrm>
            <a:off x="3017880" y="3224160"/>
            <a:ext cx="2152440" cy="793800"/>
          </a:xfrm>
          <a:custGeom>
            <a:avLst/>
            <a:gdLst/>
            <a:ahLst/>
            <a:rect l="l" t="t" r="r" b="b"/>
            <a:pathLst>
              <a:path w="5979" h="2209">
                <a:moveTo>
                  <a:pt x="8384" y="10195"/>
                </a:moveTo>
                <a:cubicBezTo>
                  <a:pt x="8868" y="10195"/>
                  <a:pt x="9350" y="10203"/>
                  <a:pt x="9823" y="10145"/>
                </a:cubicBezTo>
                <a:cubicBezTo>
                  <a:pt x="10045" y="10118"/>
                  <a:pt x="10262" y="10166"/>
                  <a:pt x="10468" y="10195"/>
                </a:cubicBezTo>
                <a:cubicBezTo>
                  <a:pt x="10603" y="10214"/>
                  <a:pt x="10936" y="10195"/>
                  <a:pt x="10988" y="10195"/>
                </a:cubicBezTo>
              </a:path>
              <a:path w="5979" h="2209">
                <a:moveTo>
                  <a:pt x="9252" y="10492"/>
                </a:moveTo>
                <a:cubicBezTo>
                  <a:pt x="9299" y="10586"/>
                  <a:pt x="9352" y="10673"/>
                  <a:pt x="9401" y="10765"/>
                </a:cubicBezTo>
                <a:cubicBezTo>
                  <a:pt x="9453" y="10864"/>
                  <a:pt x="9503" y="10929"/>
                  <a:pt x="9599" y="10988"/>
                </a:cubicBezTo>
                <a:cubicBezTo>
                  <a:pt x="9670" y="11032"/>
                  <a:pt x="9707" y="11113"/>
                  <a:pt x="9798" y="11137"/>
                </a:cubicBezTo>
                <a:cubicBezTo>
                  <a:pt x="9856" y="11137"/>
                  <a:pt x="9881" y="11137"/>
                  <a:pt x="9922" y="11137"/>
                </a:cubicBezTo>
              </a:path>
              <a:path w="5979" h="2209">
                <a:moveTo>
                  <a:pt x="9599" y="10368"/>
                </a:moveTo>
                <a:cubicBezTo>
                  <a:pt x="9508" y="10495"/>
                  <a:pt x="9490" y="10564"/>
                  <a:pt x="9426" y="10691"/>
                </a:cubicBezTo>
                <a:cubicBezTo>
                  <a:pt x="9370" y="10802"/>
                  <a:pt x="9318" y="10903"/>
                  <a:pt x="9277" y="11013"/>
                </a:cubicBezTo>
                <a:cubicBezTo>
                  <a:pt x="9255" y="11072"/>
                  <a:pt x="9235" y="11100"/>
                  <a:pt x="9227" y="11162"/>
                </a:cubicBezTo>
              </a:path>
              <a:path w="5979" h="2209">
                <a:moveTo>
                  <a:pt x="11460" y="10046"/>
                </a:moveTo>
                <a:cubicBezTo>
                  <a:pt x="11551" y="10046"/>
                  <a:pt x="11642" y="10046"/>
                  <a:pt x="11733" y="10046"/>
                </a:cubicBezTo>
              </a:path>
              <a:path w="5979" h="2209">
                <a:moveTo>
                  <a:pt x="11559" y="10195"/>
                </a:moveTo>
                <a:cubicBezTo>
                  <a:pt x="11633" y="10195"/>
                  <a:pt x="11708" y="10195"/>
                  <a:pt x="11782" y="10195"/>
                </a:cubicBezTo>
              </a:path>
              <a:path w="5979" h="2209">
                <a:moveTo>
                  <a:pt x="12179" y="9302"/>
                </a:moveTo>
                <a:cubicBezTo>
                  <a:pt x="12204" y="9245"/>
                  <a:pt x="12231" y="9174"/>
                  <a:pt x="12303" y="9153"/>
                </a:cubicBezTo>
                <a:cubicBezTo>
                  <a:pt x="12345" y="9153"/>
                  <a:pt x="12353" y="9153"/>
                  <a:pt x="12378" y="9153"/>
                </a:cubicBezTo>
                <a:cubicBezTo>
                  <a:pt x="12329" y="9153"/>
                  <a:pt x="12243" y="9136"/>
                  <a:pt x="12204" y="9178"/>
                </a:cubicBezTo>
                <a:cubicBezTo>
                  <a:pt x="12177" y="9207"/>
                  <a:pt x="12077" y="9242"/>
                  <a:pt x="12080" y="9302"/>
                </a:cubicBezTo>
                <a:cubicBezTo>
                  <a:pt x="12084" y="9394"/>
                  <a:pt x="12207" y="9416"/>
                  <a:pt x="12278" y="9451"/>
                </a:cubicBezTo>
                <a:cubicBezTo>
                  <a:pt x="12383" y="9503"/>
                  <a:pt x="12417" y="9528"/>
                  <a:pt x="12502" y="9599"/>
                </a:cubicBezTo>
                <a:cubicBezTo>
                  <a:pt x="12541" y="9631"/>
                  <a:pt x="12624" y="9681"/>
                  <a:pt x="12601" y="9748"/>
                </a:cubicBezTo>
                <a:cubicBezTo>
                  <a:pt x="12579" y="9814"/>
                  <a:pt x="12539" y="9823"/>
                  <a:pt x="12477" y="9823"/>
                </a:cubicBezTo>
                <a:cubicBezTo>
                  <a:pt x="12384" y="9823"/>
                  <a:pt x="12330" y="9762"/>
                  <a:pt x="12278" y="9699"/>
                </a:cubicBezTo>
                <a:cubicBezTo>
                  <a:pt x="12270" y="9691"/>
                  <a:pt x="12262" y="9682"/>
                  <a:pt x="12254" y="9674"/>
                </a:cubicBezTo>
              </a:path>
              <a:path w="5979" h="2209">
                <a:moveTo>
                  <a:pt x="12774" y="9401"/>
                </a:moveTo>
                <a:cubicBezTo>
                  <a:pt x="12780" y="9567"/>
                  <a:pt x="12783" y="9673"/>
                  <a:pt x="12824" y="9823"/>
                </a:cubicBezTo>
              </a:path>
              <a:path w="5979" h="2209">
                <a:moveTo>
                  <a:pt x="12774" y="9079"/>
                </a:moveTo>
                <a:cubicBezTo>
                  <a:pt x="12797" y="9011"/>
                  <a:pt x="12801" y="8993"/>
                  <a:pt x="12824" y="8954"/>
                </a:cubicBezTo>
              </a:path>
              <a:path w="5979" h="2209">
                <a:moveTo>
                  <a:pt x="13072" y="9674"/>
                </a:moveTo>
                <a:cubicBezTo>
                  <a:pt x="13072" y="9598"/>
                  <a:pt x="13074" y="9521"/>
                  <a:pt x="13097" y="9451"/>
                </a:cubicBezTo>
                <a:cubicBezTo>
                  <a:pt x="13118" y="9390"/>
                  <a:pt x="13183" y="9319"/>
                  <a:pt x="13246" y="9302"/>
                </a:cubicBezTo>
                <a:cubicBezTo>
                  <a:pt x="13292" y="9289"/>
                  <a:pt x="13361" y="9355"/>
                  <a:pt x="13370" y="9376"/>
                </a:cubicBezTo>
                <a:cubicBezTo>
                  <a:pt x="13399" y="9447"/>
                  <a:pt x="13435" y="9546"/>
                  <a:pt x="13444" y="9624"/>
                </a:cubicBezTo>
                <a:cubicBezTo>
                  <a:pt x="13453" y="9700"/>
                  <a:pt x="13390" y="9769"/>
                  <a:pt x="13444" y="9823"/>
                </a:cubicBezTo>
                <a:cubicBezTo>
                  <a:pt x="13452" y="9823"/>
                  <a:pt x="13461" y="9823"/>
                  <a:pt x="13469" y="9823"/>
                </a:cubicBezTo>
              </a:path>
              <a:path w="5979" h="2209">
                <a:moveTo>
                  <a:pt x="13543" y="9103"/>
                </a:moveTo>
                <a:cubicBezTo>
                  <a:pt x="13602" y="9089"/>
                  <a:pt x="13720" y="9041"/>
                  <a:pt x="13767" y="9103"/>
                </a:cubicBezTo>
                <a:cubicBezTo>
                  <a:pt x="13806" y="9154"/>
                  <a:pt x="13849" y="9222"/>
                  <a:pt x="13816" y="9302"/>
                </a:cubicBezTo>
                <a:cubicBezTo>
                  <a:pt x="13813" y="9309"/>
                  <a:pt x="13766" y="9426"/>
                  <a:pt x="13742" y="9451"/>
                </a:cubicBezTo>
                <a:cubicBezTo>
                  <a:pt x="13699" y="9494"/>
                  <a:pt x="13642" y="9499"/>
                  <a:pt x="13667" y="9599"/>
                </a:cubicBezTo>
                <a:cubicBezTo>
                  <a:pt x="13699" y="9727"/>
                  <a:pt x="13812" y="9659"/>
                  <a:pt x="13891" y="9624"/>
                </a:cubicBezTo>
                <a:cubicBezTo>
                  <a:pt x="13907" y="9616"/>
                  <a:pt x="13924" y="9607"/>
                  <a:pt x="13940" y="9599"/>
                </a:cubicBezTo>
              </a:path>
              <a:path w="5979" h="2209">
                <a:moveTo>
                  <a:pt x="14238" y="9153"/>
                </a:moveTo>
                <a:cubicBezTo>
                  <a:pt x="14170" y="9086"/>
                  <a:pt x="14156" y="9062"/>
                  <a:pt x="14089" y="9079"/>
                </a:cubicBezTo>
                <a:cubicBezTo>
                  <a:pt x="14029" y="9152"/>
                  <a:pt x="14013" y="9137"/>
                  <a:pt x="14039" y="9227"/>
                </a:cubicBezTo>
                <a:cubicBezTo>
                  <a:pt x="14068" y="9327"/>
                  <a:pt x="14148" y="9348"/>
                  <a:pt x="14188" y="9451"/>
                </a:cubicBezTo>
                <a:cubicBezTo>
                  <a:pt x="14227" y="9553"/>
                  <a:pt x="14287" y="9639"/>
                  <a:pt x="14312" y="9748"/>
                </a:cubicBezTo>
                <a:cubicBezTo>
                  <a:pt x="14322" y="9792"/>
                  <a:pt x="14308" y="9814"/>
                  <a:pt x="14288" y="9847"/>
                </a:cubicBezTo>
                <a:cubicBezTo>
                  <a:pt x="14183" y="9834"/>
                  <a:pt x="14182" y="9839"/>
                  <a:pt x="14139" y="9748"/>
                </a:cubicBezTo>
                <a:cubicBezTo>
                  <a:pt x="14098" y="9661"/>
                  <a:pt x="14089" y="9630"/>
                  <a:pt x="14089" y="9525"/>
                </a:cubicBezTo>
                <a:cubicBezTo>
                  <a:pt x="14089" y="9383"/>
                  <a:pt x="14179" y="9360"/>
                  <a:pt x="14263" y="9302"/>
                </a:cubicBezTo>
                <a:cubicBezTo>
                  <a:pt x="14315" y="9266"/>
                  <a:pt x="14308" y="9240"/>
                  <a:pt x="14362" y="9227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Ink 10"/>
          <p:cNvSpPr/>
          <p:nvPr/>
        </p:nvSpPr>
        <p:spPr>
          <a:xfrm>
            <a:off x="1616040" y="4929120"/>
            <a:ext cx="223920" cy="23184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4514" y="13742"/>
                </a:moveTo>
                <a:cubicBezTo>
                  <a:pt x="4562" y="13790"/>
                  <a:pt x="4598" y="13839"/>
                  <a:pt x="4638" y="13891"/>
                </a:cubicBezTo>
                <a:cubicBezTo>
                  <a:pt x="4678" y="13942"/>
                  <a:pt x="4724" y="13987"/>
                  <a:pt x="4762" y="14039"/>
                </a:cubicBezTo>
                <a:cubicBezTo>
                  <a:pt x="4816" y="14113"/>
                  <a:pt x="4887" y="14205"/>
                  <a:pt x="4961" y="14263"/>
                </a:cubicBezTo>
                <a:cubicBezTo>
                  <a:pt x="4999" y="14292"/>
                  <a:pt x="5068" y="14326"/>
                  <a:pt x="5110" y="14337"/>
                </a:cubicBezTo>
              </a:path>
              <a:path w="621" h="646">
                <a:moveTo>
                  <a:pt x="4911" y="13692"/>
                </a:moveTo>
                <a:cubicBezTo>
                  <a:pt x="4785" y="13774"/>
                  <a:pt x="4757" y="13795"/>
                  <a:pt x="4688" y="13915"/>
                </a:cubicBezTo>
                <a:cubicBezTo>
                  <a:pt x="4636" y="14006"/>
                  <a:pt x="4565" y="14076"/>
                  <a:pt x="4514" y="14163"/>
                </a:cubicBezTo>
                <a:cubicBezTo>
                  <a:pt x="4491" y="14211"/>
                  <a:pt x="4483" y="14226"/>
                  <a:pt x="4490" y="1426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Ink 11"/>
          <p:cNvSpPr/>
          <p:nvPr/>
        </p:nvSpPr>
        <p:spPr>
          <a:xfrm>
            <a:off x="2232000" y="4581360"/>
            <a:ext cx="277920" cy="222480"/>
          </a:xfrm>
          <a:custGeom>
            <a:avLst/>
            <a:gdLst/>
            <a:ahLst/>
            <a:rect l="l" t="t" r="r" b="b"/>
            <a:pathLst>
              <a:path w="770" h="621">
                <a:moveTo>
                  <a:pt x="6201" y="12874"/>
                </a:moveTo>
                <a:cubicBezTo>
                  <a:pt x="6272" y="12847"/>
                  <a:pt x="6329" y="12831"/>
                  <a:pt x="6400" y="12874"/>
                </a:cubicBezTo>
                <a:cubicBezTo>
                  <a:pt x="6462" y="12912"/>
                  <a:pt x="6451" y="12947"/>
                  <a:pt x="6424" y="12998"/>
                </a:cubicBezTo>
                <a:cubicBezTo>
                  <a:pt x="6392" y="13059"/>
                  <a:pt x="6345" y="13120"/>
                  <a:pt x="6300" y="13171"/>
                </a:cubicBezTo>
                <a:cubicBezTo>
                  <a:pt x="6242" y="13236"/>
                  <a:pt x="6289" y="13284"/>
                  <a:pt x="6350" y="13320"/>
                </a:cubicBezTo>
                <a:cubicBezTo>
                  <a:pt x="6424" y="13364"/>
                  <a:pt x="6471" y="13330"/>
                  <a:pt x="6548" y="13320"/>
                </a:cubicBezTo>
              </a:path>
              <a:path w="770" h="621">
                <a:moveTo>
                  <a:pt x="6796" y="12923"/>
                </a:moveTo>
                <a:cubicBezTo>
                  <a:pt x="6767" y="12872"/>
                  <a:pt x="6736" y="12814"/>
                  <a:pt x="6672" y="12799"/>
                </a:cubicBezTo>
                <a:cubicBezTo>
                  <a:pt x="6656" y="12799"/>
                  <a:pt x="6639" y="12799"/>
                  <a:pt x="6623" y="12799"/>
                </a:cubicBezTo>
                <a:cubicBezTo>
                  <a:pt x="6602" y="12852"/>
                  <a:pt x="6620" y="12909"/>
                  <a:pt x="6648" y="12973"/>
                </a:cubicBezTo>
                <a:cubicBezTo>
                  <a:pt x="6675" y="13035"/>
                  <a:pt x="6696" y="13116"/>
                  <a:pt x="6722" y="13171"/>
                </a:cubicBezTo>
                <a:cubicBezTo>
                  <a:pt x="6747" y="13196"/>
                  <a:pt x="6755" y="13204"/>
                  <a:pt x="6722" y="13221"/>
                </a:cubicBezTo>
                <a:cubicBezTo>
                  <a:pt x="6647" y="13251"/>
                  <a:pt x="6625" y="13220"/>
                  <a:pt x="6648" y="13146"/>
                </a:cubicBezTo>
                <a:cubicBezTo>
                  <a:pt x="6670" y="13075"/>
                  <a:pt x="6676" y="13068"/>
                  <a:pt x="6722" y="13022"/>
                </a:cubicBezTo>
              </a:path>
              <a:path w="770" h="621">
                <a:moveTo>
                  <a:pt x="6846" y="12824"/>
                </a:moveTo>
                <a:cubicBezTo>
                  <a:pt x="6904" y="12766"/>
                  <a:pt x="6798" y="12878"/>
                  <a:pt x="6921" y="12849"/>
                </a:cubicBezTo>
                <a:cubicBezTo>
                  <a:pt x="6999" y="12830"/>
                  <a:pt x="6980" y="12751"/>
                  <a:pt x="6921" y="12725"/>
                </a:cubicBezTo>
                <a:cubicBezTo>
                  <a:pt x="6913" y="12725"/>
                  <a:pt x="6904" y="12725"/>
                  <a:pt x="6896" y="12725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Ink 12"/>
          <p:cNvSpPr/>
          <p:nvPr/>
        </p:nvSpPr>
        <p:spPr>
          <a:xfrm>
            <a:off x="3152880" y="3419640"/>
            <a:ext cx="2106360" cy="1635120"/>
          </a:xfrm>
          <a:custGeom>
            <a:avLst/>
            <a:gdLst/>
            <a:ahLst/>
            <a:rect l="l" t="t" r="r" b="b"/>
            <a:pathLst>
              <a:path w="5855" h="4540">
                <a:moveTo>
                  <a:pt x="14610" y="9971"/>
                </a:moveTo>
                <a:cubicBezTo>
                  <a:pt x="14392" y="9971"/>
                  <a:pt x="14197" y="9954"/>
                  <a:pt x="13990" y="9922"/>
                </a:cubicBezTo>
                <a:cubicBezTo>
                  <a:pt x="13792" y="9891"/>
                  <a:pt x="13601" y="9948"/>
                  <a:pt x="13419" y="9971"/>
                </a:cubicBezTo>
                <a:cubicBezTo>
                  <a:pt x="13256" y="9992"/>
                  <a:pt x="13056" y="9946"/>
                  <a:pt x="12898" y="9996"/>
                </a:cubicBezTo>
                <a:cubicBezTo>
                  <a:pt x="12763" y="10039"/>
                  <a:pt x="12602" y="10083"/>
                  <a:pt x="12477" y="10120"/>
                </a:cubicBezTo>
                <a:cubicBezTo>
                  <a:pt x="12392" y="10145"/>
                  <a:pt x="12358" y="10128"/>
                  <a:pt x="12303" y="10195"/>
                </a:cubicBezTo>
                <a:cubicBezTo>
                  <a:pt x="12278" y="10195"/>
                  <a:pt x="12270" y="10195"/>
                  <a:pt x="12303" y="10195"/>
                </a:cubicBezTo>
              </a:path>
              <a:path w="5855" h="4540">
                <a:moveTo>
                  <a:pt x="13543" y="10344"/>
                </a:moveTo>
                <a:cubicBezTo>
                  <a:pt x="13457" y="10283"/>
                  <a:pt x="13446" y="10269"/>
                  <a:pt x="13345" y="10269"/>
                </a:cubicBezTo>
                <a:cubicBezTo>
                  <a:pt x="13291" y="10269"/>
                  <a:pt x="13159" y="10246"/>
                  <a:pt x="13122" y="10294"/>
                </a:cubicBezTo>
                <a:cubicBezTo>
                  <a:pt x="13114" y="10311"/>
                  <a:pt x="13105" y="10327"/>
                  <a:pt x="13097" y="10344"/>
                </a:cubicBezTo>
                <a:cubicBezTo>
                  <a:pt x="13130" y="10437"/>
                  <a:pt x="13162" y="10483"/>
                  <a:pt x="13221" y="10567"/>
                </a:cubicBezTo>
                <a:cubicBezTo>
                  <a:pt x="13304" y="10686"/>
                  <a:pt x="13382" y="10780"/>
                  <a:pt x="13444" y="10914"/>
                </a:cubicBezTo>
                <a:cubicBezTo>
                  <a:pt x="13470" y="10971"/>
                  <a:pt x="13469" y="11000"/>
                  <a:pt x="13469" y="11063"/>
                </a:cubicBezTo>
                <a:cubicBezTo>
                  <a:pt x="13399" y="11054"/>
                  <a:pt x="13332" y="11030"/>
                  <a:pt x="13271" y="10988"/>
                </a:cubicBezTo>
                <a:cubicBezTo>
                  <a:pt x="13203" y="10941"/>
                  <a:pt x="13165" y="10832"/>
                  <a:pt x="13196" y="10765"/>
                </a:cubicBezTo>
                <a:cubicBezTo>
                  <a:pt x="13221" y="10712"/>
                  <a:pt x="13273" y="10628"/>
                  <a:pt x="13320" y="10592"/>
                </a:cubicBezTo>
                <a:cubicBezTo>
                  <a:pt x="13377" y="10549"/>
                  <a:pt x="13446" y="10523"/>
                  <a:pt x="13494" y="10492"/>
                </a:cubicBezTo>
                <a:cubicBezTo>
                  <a:pt x="13564" y="10447"/>
                  <a:pt x="13559" y="10428"/>
                  <a:pt x="13643" y="10418"/>
                </a:cubicBezTo>
                <a:cubicBezTo>
                  <a:pt x="13658" y="10511"/>
                  <a:pt x="13627" y="10501"/>
                  <a:pt x="13618" y="10592"/>
                </a:cubicBezTo>
                <a:cubicBezTo>
                  <a:pt x="13606" y="10710"/>
                  <a:pt x="13613" y="10750"/>
                  <a:pt x="13667" y="10840"/>
                </a:cubicBezTo>
                <a:cubicBezTo>
                  <a:pt x="13699" y="10893"/>
                  <a:pt x="13752" y="10971"/>
                  <a:pt x="13816" y="10988"/>
                </a:cubicBezTo>
                <a:cubicBezTo>
                  <a:pt x="13891" y="11007"/>
                  <a:pt x="13995" y="10983"/>
                  <a:pt x="14039" y="10914"/>
                </a:cubicBezTo>
                <a:cubicBezTo>
                  <a:pt x="14083" y="10845"/>
                  <a:pt x="14089" y="10795"/>
                  <a:pt x="14089" y="10716"/>
                </a:cubicBezTo>
                <a:cubicBezTo>
                  <a:pt x="14089" y="10644"/>
                  <a:pt x="14065" y="10501"/>
                  <a:pt x="14015" y="10443"/>
                </a:cubicBezTo>
                <a:cubicBezTo>
                  <a:pt x="13973" y="10394"/>
                  <a:pt x="13886" y="10376"/>
                  <a:pt x="13841" y="10344"/>
                </a:cubicBezTo>
                <a:cubicBezTo>
                  <a:pt x="13778" y="10281"/>
                  <a:pt x="13744" y="10265"/>
                  <a:pt x="13667" y="10294"/>
                </a:cubicBezTo>
              </a:path>
              <a:path w="5855" h="4540">
                <a:moveTo>
                  <a:pt x="9699" y="12278"/>
                </a:moveTo>
                <a:cubicBezTo>
                  <a:pt x="9749" y="12329"/>
                  <a:pt x="9751" y="12341"/>
                  <a:pt x="9773" y="12402"/>
                </a:cubicBezTo>
                <a:cubicBezTo>
                  <a:pt x="9798" y="12473"/>
                  <a:pt x="9830" y="12587"/>
                  <a:pt x="9872" y="12650"/>
                </a:cubicBezTo>
                <a:cubicBezTo>
                  <a:pt x="9918" y="12719"/>
                  <a:pt x="9967" y="12841"/>
                  <a:pt x="10021" y="12898"/>
                </a:cubicBezTo>
                <a:cubicBezTo>
                  <a:pt x="10083" y="12963"/>
                  <a:pt x="10166" y="13020"/>
                  <a:pt x="10220" y="13097"/>
                </a:cubicBezTo>
                <a:cubicBezTo>
                  <a:pt x="10241" y="13140"/>
                  <a:pt x="10244" y="13161"/>
                  <a:pt x="10269" y="13122"/>
                </a:cubicBezTo>
              </a:path>
              <a:path w="5855" h="4540">
                <a:moveTo>
                  <a:pt x="9971" y="12129"/>
                </a:moveTo>
                <a:cubicBezTo>
                  <a:pt x="9936" y="12213"/>
                  <a:pt x="9840" y="12377"/>
                  <a:pt x="9823" y="12477"/>
                </a:cubicBezTo>
                <a:cubicBezTo>
                  <a:pt x="9809" y="12561"/>
                  <a:pt x="9794" y="12644"/>
                  <a:pt x="9773" y="12725"/>
                </a:cubicBezTo>
                <a:cubicBezTo>
                  <a:pt x="9749" y="12817"/>
                  <a:pt x="9703" y="12856"/>
                  <a:pt x="9699" y="12948"/>
                </a:cubicBezTo>
                <a:cubicBezTo>
                  <a:pt x="9699" y="12993"/>
                  <a:pt x="9695" y="13013"/>
                  <a:pt x="9723" y="12973"/>
                </a:cubicBezTo>
              </a:path>
              <a:path w="5855" h="4540">
                <a:moveTo>
                  <a:pt x="10145" y="12452"/>
                </a:moveTo>
                <a:cubicBezTo>
                  <a:pt x="10211" y="12452"/>
                  <a:pt x="10278" y="12452"/>
                  <a:pt x="10344" y="12452"/>
                </a:cubicBezTo>
              </a:path>
              <a:path w="5855" h="4540">
                <a:moveTo>
                  <a:pt x="10170" y="12601"/>
                </a:moveTo>
                <a:cubicBezTo>
                  <a:pt x="10256" y="12630"/>
                  <a:pt x="10294" y="12616"/>
                  <a:pt x="10368" y="12601"/>
                </a:cubicBezTo>
                <a:cubicBezTo>
                  <a:pt x="10385" y="12601"/>
                  <a:pt x="10401" y="12601"/>
                  <a:pt x="10418" y="12601"/>
                </a:cubicBezTo>
              </a:path>
              <a:path w="5855" h="4540">
                <a:moveTo>
                  <a:pt x="10691" y="12154"/>
                </a:moveTo>
                <a:cubicBezTo>
                  <a:pt x="10691" y="12246"/>
                  <a:pt x="10670" y="12313"/>
                  <a:pt x="10666" y="12402"/>
                </a:cubicBezTo>
                <a:cubicBezTo>
                  <a:pt x="10656" y="12604"/>
                  <a:pt x="10654" y="12837"/>
                  <a:pt x="10691" y="13022"/>
                </a:cubicBezTo>
                <a:cubicBezTo>
                  <a:pt x="10691" y="13064"/>
                  <a:pt x="10691" y="13089"/>
                  <a:pt x="10691" y="13047"/>
                </a:cubicBezTo>
              </a:path>
              <a:path w="5855" h="4540">
                <a:moveTo>
                  <a:pt x="10914" y="12254"/>
                </a:moveTo>
                <a:cubicBezTo>
                  <a:pt x="10905" y="12324"/>
                  <a:pt x="10875" y="12385"/>
                  <a:pt x="10864" y="12452"/>
                </a:cubicBezTo>
                <a:cubicBezTo>
                  <a:pt x="10850" y="12533"/>
                  <a:pt x="10857" y="12591"/>
                  <a:pt x="10939" y="12601"/>
                </a:cubicBezTo>
                <a:cubicBezTo>
                  <a:pt x="11016" y="12610"/>
                  <a:pt x="11087" y="12587"/>
                  <a:pt x="11162" y="12576"/>
                </a:cubicBezTo>
              </a:path>
              <a:path w="5855" h="4540">
                <a:moveTo>
                  <a:pt x="11162" y="12080"/>
                </a:moveTo>
                <a:cubicBezTo>
                  <a:pt x="11138" y="12128"/>
                  <a:pt x="11120" y="12219"/>
                  <a:pt x="11112" y="12278"/>
                </a:cubicBezTo>
                <a:cubicBezTo>
                  <a:pt x="11094" y="12417"/>
                  <a:pt x="11106" y="12562"/>
                  <a:pt x="11088" y="12700"/>
                </a:cubicBezTo>
                <a:cubicBezTo>
                  <a:pt x="11079" y="12770"/>
                  <a:pt x="11054" y="13046"/>
                  <a:pt x="11112" y="13097"/>
                </a:cubicBezTo>
                <a:cubicBezTo>
                  <a:pt x="11120" y="13089"/>
                  <a:pt x="11129" y="13080"/>
                  <a:pt x="11137" y="13072"/>
                </a:cubicBezTo>
              </a:path>
              <a:path w="5855" h="4540">
                <a:moveTo>
                  <a:pt x="11460" y="12105"/>
                </a:moveTo>
                <a:cubicBezTo>
                  <a:pt x="11454" y="12209"/>
                  <a:pt x="11420" y="12322"/>
                  <a:pt x="11435" y="12427"/>
                </a:cubicBezTo>
                <a:cubicBezTo>
                  <a:pt x="11457" y="12586"/>
                  <a:pt x="11457" y="12725"/>
                  <a:pt x="11435" y="12874"/>
                </a:cubicBezTo>
                <a:cubicBezTo>
                  <a:pt x="11429" y="12919"/>
                  <a:pt x="11450" y="13035"/>
                  <a:pt x="11410" y="12998"/>
                </a:cubicBezTo>
              </a:path>
              <a:path w="5855" h="4540">
                <a:moveTo>
                  <a:pt x="12229" y="12179"/>
                </a:moveTo>
                <a:cubicBezTo>
                  <a:pt x="12237" y="12187"/>
                  <a:pt x="12246" y="12196"/>
                  <a:pt x="12254" y="12204"/>
                </a:cubicBezTo>
                <a:cubicBezTo>
                  <a:pt x="12295" y="12132"/>
                  <a:pt x="12265" y="12081"/>
                  <a:pt x="12229" y="12005"/>
                </a:cubicBezTo>
                <a:cubicBezTo>
                  <a:pt x="12197" y="11937"/>
                  <a:pt x="12142" y="11903"/>
                  <a:pt x="12080" y="11956"/>
                </a:cubicBezTo>
                <a:cubicBezTo>
                  <a:pt x="12023" y="12005"/>
                  <a:pt x="12008" y="12085"/>
                  <a:pt x="12005" y="12154"/>
                </a:cubicBezTo>
                <a:cubicBezTo>
                  <a:pt x="12001" y="12240"/>
                  <a:pt x="12030" y="12312"/>
                  <a:pt x="12030" y="12402"/>
                </a:cubicBezTo>
                <a:cubicBezTo>
                  <a:pt x="12030" y="12511"/>
                  <a:pt x="12055" y="12615"/>
                  <a:pt x="12055" y="12725"/>
                </a:cubicBezTo>
                <a:cubicBezTo>
                  <a:pt x="12055" y="12848"/>
                  <a:pt x="12037" y="12983"/>
                  <a:pt x="12080" y="13097"/>
                </a:cubicBezTo>
              </a:path>
              <a:path w="5855" h="4540">
                <a:moveTo>
                  <a:pt x="11807" y="12601"/>
                </a:moveTo>
                <a:cubicBezTo>
                  <a:pt x="11901" y="12609"/>
                  <a:pt x="11984" y="12626"/>
                  <a:pt x="12080" y="12626"/>
                </a:cubicBezTo>
                <a:cubicBezTo>
                  <a:pt x="12138" y="12626"/>
                  <a:pt x="12163" y="12626"/>
                  <a:pt x="12204" y="12626"/>
                </a:cubicBezTo>
              </a:path>
              <a:path w="5855" h="4540">
                <a:moveTo>
                  <a:pt x="12675" y="12105"/>
                </a:moveTo>
                <a:cubicBezTo>
                  <a:pt x="12675" y="12194"/>
                  <a:pt x="12661" y="12271"/>
                  <a:pt x="12650" y="12353"/>
                </a:cubicBezTo>
                <a:cubicBezTo>
                  <a:pt x="12634" y="12478"/>
                  <a:pt x="12664" y="12603"/>
                  <a:pt x="12675" y="12725"/>
                </a:cubicBezTo>
                <a:cubicBezTo>
                  <a:pt x="12684" y="12821"/>
                  <a:pt x="12685" y="12907"/>
                  <a:pt x="12700" y="12998"/>
                </a:cubicBezTo>
                <a:cubicBezTo>
                  <a:pt x="12700" y="13039"/>
                  <a:pt x="12700" y="13063"/>
                  <a:pt x="12700" y="13022"/>
                </a:cubicBezTo>
              </a:path>
              <a:path w="5855" h="4540">
                <a:moveTo>
                  <a:pt x="12427" y="12551"/>
                </a:moveTo>
                <a:cubicBezTo>
                  <a:pt x="12487" y="12515"/>
                  <a:pt x="12551" y="12526"/>
                  <a:pt x="12626" y="12526"/>
                </a:cubicBezTo>
                <a:cubicBezTo>
                  <a:pt x="12711" y="12526"/>
                  <a:pt x="12789" y="12566"/>
                  <a:pt x="12874" y="12551"/>
                </a:cubicBezTo>
                <a:cubicBezTo>
                  <a:pt x="12907" y="12543"/>
                  <a:pt x="12940" y="12534"/>
                  <a:pt x="12973" y="12526"/>
                </a:cubicBezTo>
              </a:path>
              <a:path w="5855" h="4540">
                <a:moveTo>
                  <a:pt x="9302" y="11782"/>
                </a:moveTo>
                <a:cubicBezTo>
                  <a:pt x="9349" y="11726"/>
                  <a:pt x="9371" y="11705"/>
                  <a:pt x="9426" y="11658"/>
                </a:cubicBezTo>
                <a:cubicBezTo>
                  <a:pt x="9412" y="11658"/>
                  <a:pt x="9290" y="11627"/>
                  <a:pt x="9178" y="11658"/>
                </a:cubicBezTo>
                <a:cubicBezTo>
                  <a:pt x="9102" y="11679"/>
                  <a:pt x="8987" y="11724"/>
                  <a:pt x="8930" y="11782"/>
                </a:cubicBezTo>
                <a:cubicBezTo>
                  <a:pt x="8849" y="11865"/>
                  <a:pt x="8800" y="11962"/>
                  <a:pt x="8806" y="12080"/>
                </a:cubicBezTo>
                <a:cubicBezTo>
                  <a:pt x="8811" y="12172"/>
                  <a:pt x="8851" y="12208"/>
                  <a:pt x="8905" y="12278"/>
                </a:cubicBezTo>
                <a:cubicBezTo>
                  <a:pt x="8960" y="12349"/>
                  <a:pt x="9115" y="12426"/>
                  <a:pt x="9103" y="12526"/>
                </a:cubicBezTo>
                <a:cubicBezTo>
                  <a:pt x="9091" y="12627"/>
                  <a:pt x="8959" y="12670"/>
                  <a:pt x="8905" y="12725"/>
                </a:cubicBezTo>
                <a:cubicBezTo>
                  <a:pt x="8831" y="12801"/>
                  <a:pt x="8801" y="12851"/>
                  <a:pt x="8781" y="12948"/>
                </a:cubicBezTo>
                <a:cubicBezTo>
                  <a:pt x="8769" y="13009"/>
                  <a:pt x="8773" y="13140"/>
                  <a:pt x="8830" y="13196"/>
                </a:cubicBezTo>
                <a:cubicBezTo>
                  <a:pt x="8902" y="13267"/>
                  <a:pt x="9062" y="13322"/>
                  <a:pt x="9153" y="13370"/>
                </a:cubicBezTo>
                <a:cubicBezTo>
                  <a:pt x="9260" y="13426"/>
                  <a:pt x="9467" y="13452"/>
                  <a:pt x="9550" y="13519"/>
                </a:cubicBezTo>
                <a:cubicBezTo>
                  <a:pt x="9599" y="13559"/>
                  <a:pt x="9594" y="13596"/>
                  <a:pt x="9624" y="13643"/>
                </a:cubicBezTo>
                <a:cubicBezTo>
                  <a:pt x="9709" y="13780"/>
                  <a:pt x="9754" y="13886"/>
                  <a:pt x="9947" y="13965"/>
                </a:cubicBezTo>
                <a:cubicBezTo>
                  <a:pt x="10073" y="14016"/>
                  <a:pt x="10233" y="14041"/>
                  <a:pt x="10368" y="14039"/>
                </a:cubicBezTo>
                <a:cubicBezTo>
                  <a:pt x="10458" y="14038"/>
                  <a:pt x="10523" y="14023"/>
                  <a:pt x="10592" y="13965"/>
                </a:cubicBezTo>
                <a:cubicBezTo>
                  <a:pt x="10675" y="13895"/>
                  <a:pt x="10648" y="13863"/>
                  <a:pt x="10666" y="13791"/>
                </a:cubicBezTo>
                <a:cubicBezTo>
                  <a:pt x="10788" y="13819"/>
                  <a:pt x="10912" y="13858"/>
                  <a:pt x="11038" y="13891"/>
                </a:cubicBezTo>
                <a:cubicBezTo>
                  <a:pt x="11199" y="13934"/>
                  <a:pt x="11334" y="13977"/>
                  <a:pt x="11509" y="13940"/>
                </a:cubicBezTo>
                <a:cubicBezTo>
                  <a:pt x="11577" y="13926"/>
                  <a:pt x="11650" y="13844"/>
                  <a:pt x="11683" y="13791"/>
                </a:cubicBezTo>
                <a:cubicBezTo>
                  <a:pt x="11696" y="13770"/>
                  <a:pt x="11697" y="13694"/>
                  <a:pt x="11708" y="13667"/>
                </a:cubicBezTo>
                <a:cubicBezTo>
                  <a:pt x="11842" y="13694"/>
                  <a:pt x="11972" y="13741"/>
                  <a:pt x="12105" y="13767"/>
                </a:cubicBezTo>
                <a:cubicBezTo>
                  <a:pt x="12218" y="13789"/>
                  <a:pt x="12316" y="13809"/>
                  <a:pt x="12427" y="13767"/>
                </a:cubicBezTo>
                <a:cubicBezTo>
                  <a:pt x="12509" y="13736"/>
                  <a:pt x="12518" y="13658"/>
                  <a:pt x="12576" y="13618"/>
                </a:cubicBezTo>
                <a:cubicBezTo>
                  <a:pt x="12681" y="13546"/>
                  <a:pt x="12656" y="13560"/>
                  <a:pt x="12799" y="13568"/>
                </a:cubicBezTo>
                <a:cubicBezTo>
                  <a:pt x="12906" y="13574"/>
                  <a:pt x="13012" y="13611"/>
                  <a:pt x="13122" y="13618"/>
                </a:cubicBezTo>
                <a:cubicBezTo>
                  <a:pt x="13275" y="13628"/>
                  <a:pt x="13318" y="13620"/>
                  <a:pt x="13419" y="13519"/>
                </a:cubicBezTo>
                <a:cubicBezTo>
                  <a:pt x="13493" y="13445"/>
                  <a:pt x="13537" y="13295"/>
                  <a:pt x="13543" y="13196"/>
                </a:cubicBezTo>
                <a:cubicBezTo>
                  <a:pt x="13551" y="13059"/>
                  <a:pt x="13487" y="12902"/>
                  <a:pt x="13444" y="12774"/>
                </a:cubicBezTo>
                <a:cubicBezTo>
                  <a:pt x="13436" y="12758"/>
                  <a:pt x="13427" y="12741"/>
                  <a:pt x="13419" y="12725"/>
                </a:cubicBezTo>
                <a:cubicBezTo>
                  <a:pt x="13456" y="12705"/>
                  <a:pt x="13579" y="12675"/>
                  <a:pt x="13593" y="12650"/>
                </a:cubicBezTo>
                <a:cubicBezTo>
                  <a:pt x="13642" y="12564"/>
                  <a:pt x="13584" y="12433"/>
                  <a:pt x="13543" y="12353"/>
                </a:cubicBezTo>
                <a:cubicBezTo>
                  <a:pt x="13473" y="12216"/>
                  <a:pt x="13351" y="12109"/>
                  <a:pt x="13221" y="12030"/>
                </a:cubicBezTo>
                <a:cubicBezTo>
                  <a:pt x="13087" y="11948"/>
                  <a:pt x="12891" y="11928"/>
                  <a:pt x="12774" y="11857"/>
                </a:cubicBezTo>
                <a:cubicBezTo>
                  <a:pt x="12522" y="11704"/>
                  <a:pt x="12429" y="11507"/>
                  <a:pt x="12105" y="11435"/>
                </a:cubicBezTo>
                <a:cubicBezTo>
                  <a:pt x="11944" y="11399"/>
                  <a:pt x="11808" y="11430"/>
                  <a:pt x="11658" y="11435"/>
                </a:cubicBezTo>
                <a:cubicBezTo>
                  <a:pt x="11646" y="11435"/>
                  <a:pt x="11601" y="11438"/>
                  <a:pt x="11509" y="11410"/>
                </a:cubicBezTo>
                <a:cubicBezTo>
                  <a:pt x="11352" y="11362"/>
                  <a:pt x="11178" y="11325"/>
                  <a:pt x="11013" y="11361"/>
                </a:cubicBezTo>
                <a:cubicBezTo>
                  <a:pt x="10880" y="11390"/>
                  <a:pt x="10756" y="11439"/>
                  <a:pt x="10641" y="11509"/>
                </a:cubicBezTo>
                <a:cubicBezTo>
                  <a:pt x="10593" y="11538"/>
                  <a:pt x="10551" y="11593"/>
                  <a:pt x="10492" y="11584"/>
                </a:cubicBezTo>
                <a:cubicBezTo>
                  <a:pt x="10380" y="11568"/>
                  <a:pt x="10240" y="11445"/>
                  <a:pt x="10120" y="11410"/>
                </a:cubicBezTo>
                <a:cubicBezTo>
                  <a:pt x="9959" y="11363"/>
                  <a:pt x="9810" y="11390"/>
                  <a:pt x="9649" y="11410"/>
                </a:cubicBezTo>
                <a:cubicBezTo>
                  <a:pt x="9530" y="11425"/>
                  <a:pt x="9397" y="11417"/>
                  <a:pt x="9302" y="11509"/>
                </a:cubicBezTo>
                <a:cubicBezTo>
                  <a:pt x="9237" y="11572"/>
                  <a:pt x="9284" y="11612"/>
                  <a:pt x="9252" y="11683"/>
                </a:cubicBezTo>
                <a:cubicBezTo>
                  <a:pt x="9252" y="11751"/>
                  <a:pt x="9239" y="11781"/>
                  <a:pt x="9178" y="11807"/>
                </a:cubicBezTo>
              </a:path>
              <a:path w="5855" h="4540">
                <a:moveTo>
                  <a:pt x="12998" y="10418"/>
                </a:moveTo>
                <a:cubicBezTo>
                  <a:pt x="12943" y="10396"/>
                  <a:pt x="12953" y="10367"/>
                  <a:pt x="12898" y="10344"/>
                </a:cubicBezTo>
                <a:cubicBezTo>
                  <a:pt x="12851" y="10324"/>
                  <a:pt x="12774" y="10299"/>
                  <a:pt x="12725" y="10269"/>
                </a:cubicBezTo>
                <a:cubicBezTo>
                  <a:pt x="12651" y="10224"/>
                  <a:pt x="12540" y="10144"/>
                  <a:pt x="12477" y="10120"/>
                </a:cubicBezTo>
                <a:cubicBezTo>
                  <a:pt x="12347" y="10071"/>
                  <a:pt x="12226" y="10034"/>
                  <a:pt x="12080" y="9971"/>
                </a:cubicBezTo>
                <a:cubicBezTo>
                  <a:pt x="11966" y="9922"/>
                  <a:pt x="11855" y="9843"/>
                  <a:pt x="11733" y="9823"/>
                </a:cubicBezTo>
                <a:cubicBezTo>
                  <a:pt x="11606" y="9802"/>
                  <a:pt x="11548" y="9712"/>
                  <a:pt x="11435" y="9674"/>
                </a:cubicBezTo>
                <a:cubicBezTo>
                  <a:pt x="11365" y="9651"/>
                  <a:pt x="11254" y="9636"/>
                  <a:pt x="11187" y="9599"/>
                </a:cubicBezTo>
                <a:cubicBezTo>
                  <a:pt x="11124" y="9565"/>
                  <a:pt x="11077" y="9526"/>
                  <a:pt x="11013" y="9500"/>
                </a:cubicBezTo>
              </a:path>
              <a:path w="5855" h="4540">
                <a:moveTo>
                  <a:pt x="10071" y="10765"/>
                </a:moveTo>
                <a:cubicBezTo>
                  <a:pt x="10131" y="10747"/>
                  <a:pt x="10182" y="10745"/>
                  <a:pt x="10244" y="10716"/>
                </a:cubicBezTo>
                <a:cubicBezTo>
                  <a:pt x="10356" y="10663"/>
                  <a:pt x="10447" y="10606"/>
                  <a:pt x="10567" y="10567"/>
                </a:cubicBezTo>
                <a:cubicBezTo>
                  <a:pt x="10668" y="10534"/>
                  <a:pt x="10792" y="10446"/>
                  <a:pt x="10889" y="10418"/>
                </a:cubicBezTo>
                <a:cubicBezTo>
                  <a:pt x="11034" y="10377"/>
                  <a:pt x="11151" y="10310"/>
                  <a:pt x="11286" y="10220"/>
                </a:cubicBezTo>
                <a:cubicBezTo>
                  <a:pt x="11425" y="10127"/>
                  <a:pt x="11566" y="10057"/>
                  <a:pt x="11708" y="9971"/>
                </a:cubicBezTo>
                <a:cubicBezTo>
                  <a:pt x="11817" y="9905"/>
                  <a:pt x="11990" y="9830"/>
                  <a:pt x="12080" y="9748"/>
                </a:cubicBezTo>
                <a:cubicBezTo>
                  <a:pt x="12151" y="9684"/>
                  <a:pt x="12191" y="9655"/>
                  <a:pt x="12278" y="9599"/>
                </a:cubicBezTo>
                <a:cubicBezTo>
                  <a:pt x="12346" y="9555"/>
                  <a:pt x="12354" y="9603"/>
                  <a:pt x="12328" y="9500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Ink 13"/>
          <p:cNvSpPr/>
          <p:nvPr/>
        </p:nvSpPr>
        <p:spPr>
          <a:xfrm>
            <a:off x="5823000" y="2990880"/>
            <a:ext cx="2759040" cy="716040"/>
          </a:xfrm>
          <a:custGeom>
            <a:avLst/>
            <a:gdLst/>
            <a:ahLst/>
            <a:rect l="l" t="t" r="r" b="b"/>
            <a:pathLst>
              <a:path w="7665" h="1985">
                <a:moveTo>
                  <a:pt x="16644" y="8806"/>
                </a:moveTo>
                <a:cubicBezTo>
                  <a:pt x="16624" y="8776"/>
                  <a:pt x="16573" y="8737"/>
                  <a:pt x="16520" y="8731"/>
                </a:cubicBezTo>
                <a:cubicBezTo>
                  <a:pt x="16408" y="8718"/>
                  <a:pt x="16360" y="8752"/>
                  <a:pt x="16272" y="8781"/>
                </a:cubicBezTo>
                <a:cubicBezTo>
                  <a:pt x="16230" y="8781"/>
                  <a:pt x="16214" y="8773"/>
                  <a:pt x="16222" y="8806"/>
                </a:cubicBezTo>
                <a:cubicBezTo>
                  <a:pt x="16237" y="8828"/>
                  <a:pt x="16298" y="8916"/>
                  <a:pt x="16321" y="8930"/>
                </a:cubicBezTo>
                <a:cubicBezTo>
                  <a:pt x="16398" y="8978"/>
                  <a:pt x="16449" y="9011"/>
                  <a:pt x="16520" y="9079"/>
                </a:cubicBezTo>
                <a:cubicBezTo>
                  <a:pt x="16577" y="9134"/>
                  <a:pt x="16694" y="9249"/>
                  <a:pt x="16694" y="9327"/>
                </a:cubicBezTo>
                <a:cubicBezTo>
                  <a:pt x="16694" y="9366"/>
                  <a:pt x="16652" y="9446"/>
                  <a:pt x="16619" y="9451"/>
                </a:cubicBezTo>
                <a:cubicBezTo>
                  <a:pt x="16533" y="9464"/>
                  <a:pt x="16516" y="9458"/>
                  <a:pt x="16470" y="9401"/>
                </a:cubicBezTo>
                <a:cubicBezTo>
                  <a:pt x="16440" y="9364"/>
                  <a:pt x="16387" y="9372"/>
                  <a:pt x="16396" y="9302"/>
                </a:cubicBezTo>
                <a:cubicBezTo>
                  <a:pt x="16412" y="9184"/>
                  <a:pt x="16457" y="9109"/>
                  <a:pt x="16495" y="9004"/>
                </a:cubicBezTo>
                <a:cubicBezTo>
                  <a:pt x="16526" y="8918"/>
                  <a:pt x="16591" y="8901"/>
                  <a:pt x="16644" y="8806"/>
                </a:cubicBezTo>
              </a:path>
              <a:path w="7665" h="1985">
                <a:moveTo>
                  <a:pt x="16867" y="8731"/>
                </a:moveTo>
                <a:cubicBezTo>
                  <a:pt x="16861" y="8855"/>
                  <a:pt x="16842" y="8956"/>
                  <a:pt x="16842" y="9079"/>
                </a:cubicBezTo>
                <a:cubicBezTo>
                  <a:pt x="16842" y="9143"/>
                  <a:pt x="16898" y="9257"/>
                  <a:pt x="16942" y="9302"/>
                </a:cubicBezTo>
                <a:cubicBezTo>
                  <a:pt x="16967" y="9327"/>
                  <a:pt x="17051" y="9338"/>
                  <a:pt x="17090" y="9327"/>
                </a:cubicBezTo>
                <a:cubicBezTo>
                  <a:pt x="17185" y="9300"/>
                  <a:pt x="17165" y="9271"/>
                  <a:pt x="17165" y="9178"/>
                </a:cubicBezTo>
                <a:cubicBezTo>
                  <a:pt x="17165" y="9087"/>
                  <a:pt x="17150" y="9015"/>
                  <a:pt x="17115" y="8930"/>
                </a:cubicBezTo>
                <a:cubicBezTo>
                  <a:pt x="17094" y="8878"/>
                  <a:pt x="17035" y="8808"/>
                  <a:pt x="17016" y="8781"/>
                </a:cubicBezTo>
                <a:cubicBezTo>
                  <a:pt x="16967" y="8711"/>
                  <a:pt x="16943" y="8713"/>
                  <a:pt x="16892" y="8657"/>
                </a:cubicBezTo>
                <a:cubicBezTo>
                  <a:pt x="16869" y="8634"/>
                  <a:pt x="16861" y="8623"/>
                  <a:pt x="16867" y="8657"/>
                </a:cubicBezTo>
              </a:path>
              <a:path w="7665" h="1985">
                <a:moveTo>
                  <a:pt x="17462" y="9079"/>
                </a:moveTo>
                <a:cubicBezTo>
                  <a:pt x="17470" y="9079"/>
                  <a:pt x="17479" y="9079"/>
                  <a:pt x="17487" y="9079"/>
                </a:cubicBezTo>
              </a:path>
              <a:path w="7665" h="1985">
                <a:moveTo>
                  <a:pt x="17884" y="8731"/>
                </a:moveTo>
                <a:cubicBezTo>
                  <a:pt x="17793" y="8731"/>
                  <a:pt x="17766" y="8769"/>
                  <a:pt x="17686" y="8781"/>
                </a:cubicBezTo>
                <a:cubicBezTo>
                  <a:pt x="17641" y="8788"/>
                  <a:pt x="17651" y="8776"/>
                  <a:pt x="17611" y="8806"/>
                </a:cubicBezTo>
                <a:cubicBezTo>
                  <a:pt x="17652" y="8863"/>
                  <a:pt x="17698" y="8902"/>
                  <a:pt x="17760" y="8930"/>
                </a:cubicBezTo>
                <a:cubicBezTo>
                  <a:pt x="17836" y="8965"/>
                  <a:pt x="17900" y="9003"/>
                  <a:pt x="17934" y="9079"/>
                </a:cubicBezTo>
                <a:cubicBezTo>
                  <a:pt x="17971" y="9162"/>
                  <a:pt x="17952" y="9189"/>
                  <a:pt x="17909" y="9252"/>
                </a:cubicBezTo>
                <a:cubicBezTo>
                  <a:pt x="17838" y="9355"/>
                  <a:pt x="17827" y="9279"/>
                  <a:pt x="17760" y="9252"/>
                </a:cubicBezTo>
                <a:cubicBezTo>
                  <a:pt x="17696" y="9226"/>
                  <a:pt x="17640" y="9256"/>
                  <a:pt x="17611" y="9178"/>
                </a:cubicBezTo>
                <a:cubicBezTo>
                  <a:pt x="17611" y="9170"/>
                  <a:pt x="17611" y="9161"/>
                  <a:pt x="17611" y="9153"/>
                </a:cubicBezTo>
              </a:path>
              <a:path w="7665" h="1985">
                <a:moveTo>
                  <a:pt x="18207" y="8880"/>
                </a:moveTo>
                <a:cubicBezTo>
                  <a:pt x="18228" y="8993"/>
                  <a:pt x="18233" y="9117"/>
                  <a:pt x="18256" y="9227"/>
                </a:cubicBezTo>
                <a:cubicBezTo>
                  <a:pt x="18268" y="9284"/>
                  <a:pt x="18315" y="9341"/>
                  <a:pt x="18256" y="9302"/>
                </a:cubicBezTo>
              </a:path>
              <a:path w="7665" h="1985">
                <a:moveTo>
                  <a:pt x="18231" y="8632"/>
                </a:moveTo>
                <a:cubicBezTo>
                  <a:pt x="18269" y="8576"/>
                  <a:pt x="18264" y="8551"/>
                  <a:pt x="18306" y="8558"/>
                </a:cubicBezTo>
              </a:path>
              <a:path w="7665" h="1985">
                <a:moveTo>
                  <a:pt x="18455" y="9004"/>
                </a:moveTo>
                <a:cubicBezTo>
                  <a:pt x="18462" y="9148"/>
                  <a:pt x="18465" y="9127"/>
                  <a:pt x="18479" y="9227"/>
                </a:cubicBezTo>
                <a:cubicBezTo>
                  <a:pt x="18432" y="9191"/>
                  <a:pt x="18430" y="9147"/>
                  <a:pt x="18430" y="9079"/>
                </a:cubicBezTo>
                <a:cubicBezTo>
                  <a:pt x="18430" y="9006"/>
                  <a:pt x="18461" y="8915"/>
                  <a:pt x="18504" y="8855"/>
                </a:cubicBezTo>
                <a:cubicBezTo>
                  <a:pt x="18570" y="8762"/>
                  <a:pt x="18609" y="8823"/>
                  <a:pt x="18678" y="8855"/>
                </a:cubicBezTo>
                <a:cubicBezTo>
                  <a:pt x="18766" y="8896"/>
                  <a:pt x="18773" y="8993"/>
                  <a:pt x="18802" y="9079"/>
                </a:cubicBezTo>
                <a:cubicBezTo>
                  <a:pt x="18819" y="9129"/>
                  <a:pt x="18846" y="9267"/>
                  <a:pt x="18876" y="9302"/>
                </a:cubicBezTo>
                <a:cubicBezTo>
                  <a:pt x="18884" y="9302"/>
                  <a:pt x="18893" y="9302"/>
                  <a:pt x="18901" y="9302"/>
                </a:cubicBezTo>
              </a:path>
              <a:path w="7665" h="1985">
                <a:moveTo>
                  <a:pt x="19075" y="8706"/>
                </a:moveTo>
                <a:cubicBezTo>
                  <a:pt x="19090" y="8808"/>
                  <a:pt x="19120" y="8911"/>
                  <a:pt x="19124" y="9004"/>
                </a:cubicBezTo>
                <a:cubicBezTo>
                  <a:pt x="19128" y="9090"/>
                  <a:pt x="19129" y="9148"/>
                  <a:pt x="19149" y="9227"/>
                </a:cubicBezTo>
                <a:cubicBezTo>
                  <a:pt x="19149" y="9260"/>
                  <a:pt x="19149" y="9277"/>
                  <a:pt x="19149" y="9302"/>
                </a:cubicBezTo>
              </a:path>
              <a:path w="7665" h="1985">
                <a:moveTo>
                  <a:pt x="19323" y="8731"/>
                </a:moveTo>
                <a:cubicBezTo>
                  <a:pt x="19395" y="8718"/>
                  <a:pt x="19487" y="8676"/>
                  <a:pt x="19546" y="8731"/>
                </a:cubicBezTo>
                <a:cubicBezTo>
                  <a:pt x="19626" y="8805"/>
                  <a:pt x="19630" y="8825"/>
                  <a:pt x="19645" y="8930"/>
                </a:cubicBezTo>
                <a:cubicBezTo>
                  <a:pt x="19652" y="8974"/>
                  <a:pt x="19682" y="9175"/>
                  <a:pt x="19621" y="9227"/>
                </a:cubicBezTo>
                <a:cubicBezTo>
                  <a:pt x="19563" y="9276"/>
                  <a:pt x="19572" y="9213"/>
                  <a:pt x="19521" y="9302"/>
                </a:cubicBezTo>
                <a:cubicBezTo>
                  <a:pt x="19480" y="9260"/>
                  <a:pt x="19415" y="9228"/>
                  <a:pt x="19397" y="9178"/>
                </a:cubicBezTo>
                <a:cubicBezTo>
                  <a:pt x="19368" y="9098"/>
                  <a:pt x="19419" y="9026"/>
                  <a:pt x="19496" y="9004"/>
                </a:cubicBezTo>
                <a:cubicBezTo>
                  <a:pt x="19561" y="8986"/>
                  <a:pt x="19594" y="9058"/>
                  <a:pt x="19621" y="9103"/>
                </a:cubicBezTo>
                <a:cubicBezTo>
                  <a:pt x="19656" y="9162"/>
                  <a:pt x="19637" y="9153"/>
                  <a:pt x="19695" y="9153"/>
                </a:cubicBezTo>
              </a:path>
              <a:path w="7665" h="1985">
                <a:moveTo>
                  <a:pt x="19769" y="8632"/>
                </a:moveTo>
                <a:cubicBezTo>
                  <a:pt x="19769" y="8760"/>
                  <a:pt x="19780" y="8771"/>
                  <a:pt x="19869" y="8855"/>
                </a:cubicBezTo>
                <a:cubicBezTo>
                  <a:pt x="19936" y="8918"/>
                  <a:pt x="19915" y="8930"/>
                  <a:pt x="20017" y="8930"/>
                </a:cubicBezTo>
                <a:cubicBezTo>
                  <a:pt x="20025" y="8930"/>
                  <a:pt x="20034" y="8930"/>
                  <a:pt x="20042" y="8930"/>
                </a:cubicBezTo>
              </a:path>
              <a:path w="7665" h="1985">
                <a:moveTo>
                  <a:pt x="20042" y="8434"/>
                </a:moveTo>
                <a:cubicBezTo>
                  <a:pt x="20009" y="8508"/>
                  <a:pt x="19980" y="8573"/>
                  <a:pt x="19993" y="8657"/>
                </a:cubicBezTo>
                <a:cubicBezTo>
                  <a:pt x="20011" y="8769"/>
                  <a:pt x="20019" y="8895"/>
                  <a:pt x="20042" y="9004"/>
                </a:cubicBezTo>
                <a:cubicBezTo>
                  <a:pt x="20061" y="9095"/>
                  <a:pt x="20062" y="9217"/>
                  <a:pt x="20092" y="9302"/>
                </a:cubicBezTo>
                <a:cubicBezTo>
                  <a:pt x="20104" y="9336"/>
                  <a:pt x="20121" y="9363"/>
                  <a:pt x="20141" y="9376"/>
                </a:cubicBezTo>
              </a:path>
              <a:path w="7665" h="1985">
                <a:moveTo>
                  <a:pt x="20315" y="8930"/>
                </a:moveTo>
                <a:cubicBezTo>
                  <a:pt x="20419" y="8915"/>
                  <a:pt x="20466" y="8891"/>
                  <a:pt x="20563" y="8855"/>
                </a:cubicBezTo>
              </a:path>
              <a:path w="7665" h="1985">
                <a:moveTo>
                  <a:pt x="20365" y="9029"/>
                </a:moveTo>
                <a:cubicBezTo>
                  <a:pt x="20549" y="9064"/>
                  <a:pt x="20494" y="9084"/>
                  <a:pt x="20638" y="9004"/>
                </a:cubicBezTo>
              </a:path>
              <a:path w="7665" h="1985">
                <a:moveTo>
                  <a:pt x="20985" y="8582"/>
                </a:moveTo>
                <a:cubicBezTo>
                  <a:pt x="21007" y="8714"/>
                  <a:pt x="20995" y="8766"/>
                  <a:pt x="21084" y="8855"/>
                </a:cubicBezTo>
                <a:cubicBezTo>
                  <a:pt x="21159" y="8930"/>
                  <a:pt x="21226" y="9093"/>
                  <a:pt x="21307" y="9153"/>
                </a:cubicBezTo>
                <a:cubicBezTo>
                  <a:pt x="21365" y="9196"/>
                  <a:pt x="21438" y="9265"/>
                  <a:pt x="21506" y="9302"/>
                </a:cubicBezTo>
                <a:cubicBezTo>
                  <a:pt x="21520" y="9309"/>
                  <a:pt x="21564" y="9302"/>
                  <a:pt x="21580" y="9302"/>
                </a:cubicBezTo>
              </a:path>
              <a:path w="7665" h="1985">
                <a:moveTo>
                  <a:pt x="21208" y="8781"/>
                </a:moveTo>
                <a:cubicBezTo>
                  <a:pt x="21081" y="8890"/>
                  <a:pt x="21082" y="8941"/>
                  <a:pt x="21010" y="9079"/>
                </a:cubicBezTo>
                <a:cubicBezTo>
                  <a:pt x="20965" y="9166"/>
                  <a:pt x="20910" y="9202"/>
                  <a:pt x="20886" y="9302"/>
                </a:cubicBezTo>
                <a:cubicBezTo>
                  <a:pt x="20886" y="9327"/>
                  <a:pt x="20886" y="9335"/>
                  <a:pt x="20910" y="9327"/>
                </a:cubicBezTo>
              </a:path>
              <a:path w="7665" h="1985">
                <a:moveTo>
                  <a:pt x="21605" y="9004"/>
                </a:moveTo>
                <a:cubicBezTo>
                  <a:pt x="21613" y="9004"/>
                  <a:pt x="21622" y="9004"/>
                  <a:pt x="21630" y="9004"/>
                </a:cubicBezTo>
              </a:path>
              <a:path w="7665" h="1985">
                <a:moveTo>
                  <a:pt x="22051" y="8706"/>
                </a:moveTo>
                <a:cubicBezTo>
                  <a:pt x="21985" y="8706"/>
                  <a:pt x="21919" y="8706"/>
                  <a:pt x="21853" y="8706"/>
                </a:cubicBezTo>
                <a:cubicBezTo>
                  <a:pt x="21864" y="8809"/>
                  <a:pt x="21889" y="8771"/>
                  <a:pt x="21952" y="8855"/>
                </a:cubicBezTo>
                <a:cubicBezTo>
                  <a:pt x="22049" y="8985"/>
                  <a:pt x="22118" y="9065"/>
                  <a:pt x="22151" y="9227"/>
                </a:cubicBezTo>
                <a:cubicBezTo>
                  <a:pt x="22086" y="9243"/>
                  <a:pt x="22051" y="9267"/>
                  <a:pt x="21977" y="9227"/>
                </a:cubicBezTo>
                <a:cubicBezTo>
                  <a:pt x="21903" y="9187"/>
                  <a:pt x="21869" y="9157"/>
                  <a:pt x="21853" y="9079"/>
                </a:cubicBezTo>
              </a:path>
              <a:path w="7665" h="1985">
                <a:moveTo>
                  <a:pt x="22175" y="8632"/>
                </a:moveTo>
                <a:cubicBezTo>
                  <a:pt x="22215" y="8771"/>
                  <a:pt x="22244" y="8886"/>
                  <a:pt x="22250" y="9029"/>
                </a:cubicBezTo>
                <a:cubicBezTo>
                  <a:pt x="22253" y="9100"/>
                  <a:pt x="22269" y="9150"/>
                  <a:pt x="22250" y="9178"/>
                </a:cubicBezTo>
              </a:path>
              <a:path w="7665" h="1985">
                <a:moveTo>
                  <a:pt x="22225" y="8409"/>
                </a:moveTo>
                <a:cubicBezTo>
                  <a:pt x="22245" y="8348"/>
                  <a:pt x="22243" y="8333"/>
                  <a:pt x="22275" y="8310"/>
                </a:cubicBezTo>
              </a:path>
              <a:path w="7665" h="1985">
                <a:moveTo>
                  <a:pt x="22448" y="8781"/>
                </a:moveTo>
                <a:cubicBezTo>
                  <a:pt x="22462" y="8883"/>
                  <a:pt x="22442" y="9054"/>
                  <a:pt x="22473" y="9153"/>
                </a:cubicBezTo>
                <a:cubicBezTo>
                  <a:pt x="22503" y="9183"/>
                  <a:pt x="22508" y="9197"/>
                  <a:pt x="22473" y="9227"/>
                </a:cubicBezTo>
                <a:cubicBezTo>
                  <a:pt x="22473" y="9140"/>
                  <a:pt x="22494" y="9085"/>
                  <a:pt x="22498" y="9004"/>
                </a:cubicBezTo>
                <a:cubicBezTo>
                  <a:pt x="22501" y="8946"/>
                  <a:pt x="22521" y="8904"/>
                  <a:pt x="22547" y="8855"/>
                </a:cubicBezTo>
                <a:cubicBezTo>
                  <a:pt x="22565" y="8822"/>
                  <a:pt x="22665" y="8721"/>
                  <a:pt x="22696" y="8731"/>
                </a:cubicBezTo>
                <a:cubicBezTo>
                  <a:pt x="22763" y="8752"/>
                  <a:pt x="22759" y="8875"/>
                  <a:pt x="22771" y="8930"/>
                </a:cubicBezTo>
                <a:cubicBezTo>
                  <a:pt x="22788" y="9008"/>
                  <a:pt x="22817" y="9079"/>
                  <a:pt x="22845" y="9153"/>
                </a:cubicBezTo>
                <a:cubicBezTo>
                  <a:pt x="22869" y="9217"/>
                  <a:pt x="22887" y="9245"/>
                  <a:pt x="22920" y="9302"/>
                </a:cubicBezTo>
              </a:path>
              <a:path w="7665" h="1985">
                <a:moveTo>
                  <a:pt x="23019" y="8632"/>
                </a:moveTo>
                <a:cubicBezTo>
                  <a:pt x="23096" y="8614"/>
                  <a:pt x="23261" y="8567"/>
                  <a:pt x="23292" y="8706"/>
                </a:cubicBezTo>
                <a:cubicBezTo>
                  <a:pt x="23314" y="8803"/>
                  <a:pt x="23283" y="8912"/>
                  <a:pt x="23267" y="9004"/>
                </a:cubicBezTo>
                <a:cubicBezTo>
                  <a:pt x="23251" y="9092"/>
                  <a:pt x="23223" y="9116"/>
                  <a:pt x="23168" y="9153"/>
                </a:cubicBezTo>
                <a:cubicBezTo>
                  <a:pt x="23114" y="9189"/>
                  <a:pt x="23059" y="9186"/>
                  <a:pt x="23044" y="9103"/>
                </a:cubicBezTo>
                <a:cubicBezTo>
                  <a:pt x="23044" y="9042"/>
                  <a:pt x="23035" y="9027"/>
                  <a:pt x="23068" y="9004"/>
                </a:cubicBezTo>
                <a:cubicBezTo>
                  <a:pt x="23136" y="9014"/>
                  <a:pt x="23186" y="9057"/>
                  <a:pt x="23242" y="9103"/>
                </a:cubicBezTo>
                <a:cubicBezTo>
                  <a:pt x="23315" y="9163"/>
                  <a:pt x="23346" y="9153"/>
                  <a:pt x="23440" y="9153"/>
                </a:cubicBezTo>
              </a:path>
              <a:path w="7665" h="1985">
                <a:moveTo>
                  <a:pt x="23688" y="8657"/>
                </a:moveTo>
                <a:cubicBezTo>
                  <a:pt x="23623" y="8632"/>
                  <a:pt x="23538" y="8607"/>
                  <a:pt x="23515" y="8706"/>
                </a:cubicBezTo>
                <a:cubicBezTo>
                  <a:pt x="23500" y="8772"/>
                  <a:pt x="23551" y="8824"/>
                  <a:pt x="23589" y="8880"/>
                </a:cubicBezTo>
                <a:cubicBezTo>
                  <a:pt x="23655" y="8978"/>
                  <a:pt x="23699" y="9039"/>
                  <a:pt x="23738" y="9153"/>
                </a:cubicBezTo>
                <a:cubicBezTo>
                  <a:pt x="23768" y="9243"/>
                  <a:pt x="23771" y="9224"/>
                  <a:pt x="23738" y="9302"/>
                </a:cubicBezTo>
                <a:cubicBezTo>
                  <a:pt x="23698" y="9291"/>
                  <a:pt x="23640" y="9259"/>
                  <a:pt x="23614" y="9227"/>
                </a:cubicBezTo>
                <a:cubicBezTo>
                  <a:pt x="23562" y="9164"/>
                  <a:pt x="23546" y="9104"/>
                  <a:pt x="23589" y="9029"/>
                </a:cubicBezTo>
                <a:cubicBezTo>
                  <a:pt x="23620" y="8974"/>
                  <a:pt x="23649" y="8887"/>
                  <a:pt x="23713" y="8855"/>
                </a:cubicBezTo>
                <a:cubicBezTo>
                  <a:pt x="23777" y="8823"/>
                  <a:pt x="23782" y="8850"/>
                  <a:pt x="23837" y="8781"/>
                </a:cubicBezTo>
              </a:path>
              <a:path w="7665" h="1985">
                <a:moveTo>
                  <a:pt x="23837" y="9451"/>
                </a:moveTo>
                <a:cubicBezTo>
                  <a:pt x="23671" y="9499"/>
                  <a:pt x="23679" y="9467"/>
                  <a:pt x="23515" y="9451"/>
                </a:cubicBezTo>
                <a:cubicBezTo>
                  <a:pt x="23368" y="9436"/>
                  <a:pt x="23238" y="9407"/>
                  <a:pt x="23093" y="9401"/>
                </a:cubicBezTo>
                <a:cubicBezTo>
                  <a:pt x="22909" y="9393"/>
                  <a:pt x="22732" y="9376"/>
                  <a:pt x="22547" y="9376"/>
                </a:cubicBezTo>
                <a:cubicBezTo>
                  <a:pt x="22305" y="9376"/>
                  <a:pt x="22020" y="9356"/>
                  <a:pt x="21779" y="9401"/>
                </a:cubicBezTo>
                <a:cubicBezTo>
                  <a:pt x="21563" y="9442"/>
                  <a:pt x="21350" y="9440"/>
                  <a:pt x="21134" y="9475"/>
                </a:cubicBezTo>
                <a:cubicBezTo>
                  <a:pt x="21112" y="9479"/>
                  <a:pt x="20870" y="9511"/>
                  <a:pt x="20861" y="9525"/>
                </a:cubicBezTo>
                <a:cubicBezTo>
                  <a:pt x="20869" y="9533"/>
                  <a:pt x="20878" y="9542"/>
                  <a:pt x="20886" y="9550"/>
                </a:cubicBezTo>
              </a:path>
              <a:path w="7665" h="1985">
                <a:moveTo>
                  <a:pt x="16173" y="9475"/>
                </a:moveTo>
                <a:cubicBezTo>
                  <a:pt x="16530" y="9475"/>
                  <a:pt x="16885" y="9470"/>
                  <a:pt x="17239" y="9451"/>
                </a:cubicBezTo>
                <a:cubicBezTo>
                  <a:pt x="17719" y="9426"/>
                  <a:pt x="18205" y="9434"/>
                  <a:pt x="18678" y="9401"/>
                </a:cubicBezTo>
                <a:cubicBezTo>
                  <a:pt x="19119" y="9370"/>
                  <a:pt x="20377" y="9458"/>
                  <a:pt x="19943" y="9376"/>
                </a:cubicBezTo>
                <a:cubicBezTo>
                  <a:pt x="19885" y="9376"/>
                  <a:pt x="19860" y="9376"/>
                  <a:pt x="19819" y="9376"/>
                </a:cubicBezTo>
              </a:path>
              <a:path w="7665" h="1985">
                <a:moveTo>
                  <a:pt x="18132" y="9748"/>
                </a:moveTo>
                <a:cubicBezTo>
                  <a:pt x="18051" y="9748"/>
                  <a:pt x="17974" y="9763"/>
                  <a:pt x="17909" y="9773"/>
                </a:cubicBezTo>
                <a:cubicBezTo>
                  <a:pt x="17817" y="9787"/>
                  <a:pt x="17838" y="9801"/>
                  <a:pt x="17760" y="9823"/>
                </a:cubicBezTo>
                <a:cubicBezTo>
                  <a:pt x="17829" y="9890"/>
                  <a:pt x="17910" y="9937"/>
                  <a:pt x="17983" y="9996"/>
                </a:cubicBezTo>
                <a:cubicBezTo>
                  <a:pt x="18002" y="10011"/>
                  <a:pt x="18156" y="10115"/>
                  <a:pt x="18157" y="10120"/>
                </a:cubicBezTo>
                <a:cubicBezTo>
                  <a:pt x="18189" y="10229"/>
                  <a:pt x="18088" y="10263"/>
                  <a:pt x="18008" y="10269"/>
                </a:cubicBezTo>
                <a:cubicBezTo>
                  <a:pt x="17923" y="10275"/>
                  <a:pt x="17816" y="10306"/>
                  <a:pt x="17810" y="10195"/>
                </a:cubicBezTo>
                <a:cubicBezTo>
                  <a:pt x="17810" y="10170"/>
                  <a:pt x="17810" y="10145"/>
                  <a:pt x="17810" y="10120"/>
                </a:cubicBezTo>
              </a:path>
              <a:path w="7665" h="1985">
                <a:moveTo>
                  <a:pt x="18405" y="9897"/>
                </a:moveTo>
                <a:cubicBezTo>
                  <a:pt x="18405" y="9970"/>
                  <a:pt x="18385" y="10087"/>
                  <a:pt x="18380" y="10120"/>
                </a:cubicBezTo>
                <a:cubicBezTo>
                  <a:pt x="18379" y="10126"/>
                  <a:pt x="18380" y="10343"/>
                  <a:pt x="18380" y="10145"/>
                </a:cubicBezTo>
              </a:path>
              <a:path w="7665" h="1985">
                <a:moveTo>
                  <a:pt x="18380" y="9599"/>
                </a:moveTo>
                <a:cubicBezTo>
                  <a:pt x="18402" y="9556"/>
                  <a:pt x="18406" y="9544"/>
                  <a:pt x="18430" y="9525"/>
                </a:cubicBezTo>
              </a:path>
              <a:path w="7665" h="1985">
                <a:moveTo>
                  <a:pt x="18604" y="9996"/>
                </a:moveTo>
                <a:cubicBezTo>
                  <a:pt x="18588" y="10055"/>
                  <a:pt x="18582" y="10099"/>
                  <a:pt x="18554" y="10145"/>
                </a:cubicBezTo>
                <a:cubicBezTo>
                  <a:pt x="18592" y="10070"/>
                  <a:pt x="18581" y="10045"/>
                  <a:pt x="18604" y="9971"/>
                </a:cubicBezTo>
                <a:cubicBezTo>
                  <a:pt x="18623" y="9910"/>
                  <a:pt x="18691" y="9892"/>
                  <a:pt x="18728" y="9847"/>
                </a:cubicBezTo>
                <a:cubicBezTo>
                  <a:pt x="18806" y="9751"/>
                  <a:pt x="18865" y="9867"/>
                  <a:pt x="18901" y="9897"/>
                </a:cubicBezTo>
                <a:cubicBezTo>
                  <a:pt x="18952" y="9939"/>
                  <a:pt x="18959" y="9957"/>
                  <a:pt x="18976" y="10046"/>
                </a:cubicBezTo>
                <a:cubicBezTo>
                  <a:pt x="18978" y="10058"/>
                  <a:pt x="19027" y="10263"/>
                  <a:pt x="19000" y="10269"/>
                </a:cubicBezTo>
                <a:cubicBezTo>
                  <a:pt x="18992" y="10253"/>
                  <a:pt x="18984" y="10236"/>
                  <a:pt x="18976" y="10220"/>
                </a:cubicBezTo>
              </a:path>
              <a:path w="7665" h="1985">
                <a:moveTo>
                  <a:pt x="19100" y="9748"/>
                </a:moveTo>
                <a:cubicBezTo>
                  <a:pt x="19208" y="9676"/>
                  <a:pt x="19212" y="9697"/>
                  <a:pt x="19298" y="9748"/>
                </a:cubicBezTo>
                <a:cubicBezTo>
                  <a:pt x="19349" y="9778"/>
                  <a:pt x="19373" y="9817"/>
                  <a:pt x="19348" y="9897"/>
                </a:cubicBezTo>
                <a:cubicBezTo>
                  <a:pt x="19343" y="9912"/>
                  <a:pt x="19287" y="10034"/>
                  <a:pt x="19273" y="10046"/>
                </a:cubicBezTo>
                <a:cubicBezTo>
                  <a:pt x="19190" y="10119"/>
                  <a:pt x="19192" y="10113"/>
                  <a:pt x="19273" y="10195"/>
                </a:cubicBezTo>
                <a:cubicBezTo>
                  <a:pt x="19337" y="10153"/>
                  <a:pt x="19348" y="10136"/>
                  <a:pt x="19397" y="10145"/>
                </a:cubicBezTo>
              </a:path>
              <a:path w="7665" h="1985">
                <a:moveTo>
                  <a:pt x="19745" y="9823"/>
                </a:moveTo>
                <a:cubicBezTo>
                  <a:pt x="19712" y="9777"/>
                  <a:pt x="19654" y="9698"/>
                  <a:pt x="19596" y="9773"/>
                </a:cubicBezTo>
                <a:cubicBezTo>
                  <a:pt x="19541" y="9845"/>
                  <a:pt x="19595" y="9900"/>
                  <a:pt x="19621" y="9971"/>
                </a:cubicBezTo>
                <a:cubicBezTo>
                  <a:pt x="19650" y="10048"/>
                  <a:pt x="19675" y="10123"/>
                  <a:pt x="19695" y="10195"/>
                </a:cubicBezTo>
                <a:cubicBezTo>
                  <a:pt x="19703" y="10220"/>
                  <a:pt x="19712" y="10244"/>
                  <a:pt x="19720" y="10269"/>
                </a:cubicBezTo>
                <a:cubicBezTo>
                  <a:pt x="19658" y="10285"/>
                  <a:pt x="19592" y="10322"/>
                  <a:pt x="19521" y="10269"/>
                </a:cubicBezTo>
                <a:cubicBezTo>
                  <a:pt x="19486" y="10243"/>
                  <a:pt x="19462" y="10106"/>
                  <a:pt x="19472" y="10071"/>
                </a:cubicBezTo>
                <a:cubicBezTo>
                  <a:pt x="19492" y="9998"/>
                  <a:pt x="19519" y="10009"/>
                  <a:pt x="19571" y="9971"/>
                </a:cubicBezTo>
                <a:cubicBezTo>
                  <a:pt x="19638" y="9923"/>
                  <a:pt x="19700" y="9872"/>
                  <a:pt x="19769" y="982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Ink 14"/>
          <p:cNvSpPr/>
          <p:nvPr/>
        </p:nvSpPr>
        <p:spPr>
          <a:xfrm>
            <a:off x="7527960" y="3133800"/>
            <a:ext cx="1143000" cy="1117440"/>
          </a:xfrm>
          <a:custGeom>
            <a:avLst/>
            <a:gdLst/>
            <a:ahLst/>
            <a:rect l="l" t="t" r="r" b="b"/>
            <a:pathLst>
              <a:path w="3176" h="3102">
                <a:moveTo>
                  <a:pt x="21431" y="10046"/>
                </a:moveTo>
                <a:cubicBezTo>
                  <a:pt x="21696" y="10046"/>
                  <a:pt x="21992" y="10009"/>
                  <a:pt x="22250" y="10071"/>
                </a:cubicBezTo>
                <a:cubicBezTo>
                  <a:pt x="22454" y="10120"/>
                  <a:pt x="22668" y="10100"/>
                  <a:pt x="22870" y="10145"/>
                </a:cubicBezTo>
                <a:cubicBezTo>
                  <a:pt x="23067" y="10189"/>
                  <a:pt x="23269" y="10228"/>
                  <a:pt x="23465" y="10269"/>
                </a:cubicBezTo>
                <a:cubicBezTo>
                  <a:pt x="23607" y="10299"/>
                  <a:pt x="23688" y="10297"/>
                  <a:pt x="23688" y="10195"/>
                </a:cubicBezTo>
              </a:path>
              <a:path w="3176" h="3102">
                <a:moveTo>
                  <a:pt x="21779" y="8706"/>
                </a:moveTo>
                <a:cubicBezTo>
                  <a:pt x="21940" y="8706"/>
                  <a:pt x="21976" y="8753"/>
                  <a:pt x="22151" y="8781"/>
                </a:cubicBezTo>
                <a:cubicBezTo>
                  <a:pt x="22343" y="8812"/>
                  <a:pt x="22525" y="8814"/>
                  <a:pt x="22721" y="8855"/>
                </a:cubicBezTo>
                <a:cubicBezTo>
                  <a:pt x="22934" y="8900"/>
                  <a:pt x="23133" y="8973"/>
                  <a:pt x="23341" y="9029"/>
                </a:cubicBezTo>
                <a:cubicBezTo>
                  <a:pt x="23542" y="9083"/>
                  <a:pt x="23704" y="9191"/>
                  <a:pt x="23912" y="9227"/>
                </a:cubicBezTo>
                <a:cubicBezTo>
                  <a:pt x="23972" y="9237"/>
                  <a:pt x="24025" y="9244"/>
                  <a:pt x="24085" y="9252"/>
                </a:cubicBezTo>
                <a:cubicBezTo>
                  <a:pt x="24026" y="9232"/>
                  <a:pt x="23976" y="9210"/>
                  <a:pt x="23912" y="9178"/>
                </a:cubicBezTo>
              </a:path>
              <a:path w="3176" h="3102">
                <a:moveTo>
                  <a:pt x="20910" y="11237"/>
                </a:moveTo>
                <a:cubicBezTo>
                  <a:pt x="21022" y="11260"/>
                  <a:pt x="21117" y="11261"/>
                  <a:pt x="21233" y="11261"/>
                </a:cubicBezTo>
                <a:cubicBezTo>
                  <a:pt x="21241" y="11261"/>
                  <a:pt x="21250" y="11261"/>
                  <a:pt x="21258" y="11261"/>
                </a:cubicBezTo>
              </a:path>
              <a:path w="3176" h="3102">
                <a:moveTo>
                  <a:pt x="21010" y="11460"/>
                </a:moveTo>
                <a:cubicBezTo>
                  <a:pt x="21150" y="11496"/>
                  <a:pt x="21192" y="11485"/>
                  <a:pt x="21332" y="11435"/>
                </a:cubicBezTo>
              </a:path>
              <a:path w="3176" h="3102">
                <a:moveTo>
                  <a:pt x="21506" y="11063"/>
                </a:moveTo>
                <a:cubicBezTo>
                  <a:pt x="21572" y="11188"/>
                  <a:pt x="21640" y="11255"/>
                  <a:pt x="21729" y="11361"/>
                </a:cubicBezTo>
                <a:cubicBezTo>
                  <a:pt x="21828" y="11479"/>
                  <a:pt x="21929" y="11587"/>
                  <a:pt x="22051" y="11683"/>
                </a:cubicBezTo>
                <a:cubicBezTo>
                  <a:pt x="22141" y="11743"/>
                  <a:pt x="22182" y="11769"/>
                  <a:pt x="22250" y="11807"/>
                </a:cubicBezTo>
              </a:path>
              <a:path w="3176" h="3102">
                <a:moveTo>
                  <a:pt x="22027" y="11187"/>
                </a:moveTo>
                <a:cubicBezTo>
                  <a:pt x="21946" y="11267"/>
                  <a:pt x="21876" y="11349"/>
                  <a:pt x="21803" y="11435"/>
                </a:cubicBezTo>
                <a:cubicBezTo>
                  <a:pt x="21706" y="11552"/>
                  <a:pt x="21694" y="11572"/>
                  <a:pt x="21630" y="1163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Ink 15"/>
          <p:cNvSpPr/>
          <p:nvPr/>
        </p:nvSpPr>
        <p:spPr>
          <a:xfrm>
            <a:off x="6402240" y="3830760"/>
            <a:ext cx="250920" cy="330120"/>
          </a:xfrm>
          <a:custGeom>
            <a:avLst/>
            <a:gdLst/>
            <a:ahLst/>
            <a:rect l="l" t="t" r="r" b="b"/>
            <a:pathLst>
              <a:path w="695" h="919">
                <a:moveTo>
                  <a:pt x="17785" y="10691"/>
                </a:moveTo>
                <a:cubicBezTo>
                  <a:pt x="17833" y="10785"/>
                  <a:pt x="17817" y="10839"/>
                  <a:pt x="17835" y="10939"/>
                </a:cubicBezTo>
                <a:cubicBezTo>
                  <a:pt x="17853" y="11041"/>
                  <a:pt x="17859" y="11131"/>
                  <a:pt x="17859" y="11237"/>
                </a:cubicBezTo>
                <a:cubicBezTo>
                  <a:pt x="17859" y="11312"/>
                  <a:pt x="17859" y="11539"/>
                  <a:pt x="17859" y="11534"/>
                </a:cubicBezTo>
              </a:path>
              <a:path w="695" h="919">
                <a:moveTo>
                  <a:pt x="18132" y="10864"/>
                </a:moveTo>
                <a:cubicBezTo>
                  <a:pt x="18109" y="10916"/>
                  <a:pt x="18035" y="11022"/>
                  <a:pt x="18083" y="11063"/>
                </a:cubicBezTo>
                <a:cubicBezTo>
                  <a:pt x="18155" y="11124"/>
                  <a:pt x="18229" y="11120"/>
                  <a:pt x="18306" y="11112"/>
                </a:cubicBezTo>
                <a:cubicBezTo>
                  <a:pt x="18350" y="11112"/>
                  <a:pt x="18363" y="11115"/>
                  <a:pt x="18380" y="11088"/>
                </a:cubicBezTo>
              </a:path>
              <a:path w="695" h="919">
                <a:moveTo>
                  <a:pt x="18430" y="10641"/>
                </a:moveTo>
                <a:cubicBezTo>
                  <a:pt x="18394" y="10757"/>
                  <a:pt x="18380" y="10844"/>
                  <a:pt x="18380" y="10964"/>
                </a:cubicBezTo>
                <a:cubicBezTo>
                  <a:pt x="18380" y="11092"/>
                  <a:pt x="18413" y="11213"/>
                  <a:pt x="18430" y="11336"/>
                </a:cubicBezTo>
                <a:cubicBezTo>
                  <a:pt x="18440" y="11406"/>
                  <a:pt x="18455" y="11467"/>
                  <a:pt x="18479" y="11534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Ink 16"/>
          <p:cNvSpPr/>
          <p:nvPr/>
        </p:nvSpPr>
        <p:spPr>
          <a:xfrm>
            <a:off x="6858000" y="3867120"/>
            <a:ext cx="19080" cy="347760"/>
          </a:xfrm>
          <a:custGeom>
            <a:avLst/>
            <a:gdLst/>
            <a:ahLst/>
            <a:rect l="l" t="t" r="r" b="b"/>
            <a:pathLst>
              <a:path w="51" h="969">
                <a:moveTo>
                  <a:pt x="19050" y="10740"/>
                </a:moveTo>
                <a:cubicBezTo>
                  <a:pt x="19050" y="10894"/>
                  <a:pt x="19059" y="11037"/>
                  <a:pt x="19075" y="11187"/>
                </a:cubicBezTo>
                <a:cubicBezTo>
                  <a:pt x="19088" y="11312"/>
                  <a:pt x="19100" y="11432"/>
                  <a:pt x="19100" y="11559"/>
                </a:cubicBezTo>
                <a:cubicBezTo>
                  <a:pt x="19100" y="11633"/>
                  <a:pt x="19100" y="11658"/>
                  <a:pt x="19100" y="1170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Ink 17"/>
          <p:cNvSpPr/>
          <p:nvPr/>
        </p:nvSpPr>
        <p:spPr>
          <a:xfrm>
            <a:off x="7724880" y="3510000"/>
            <a:ext cx="795240" cy="295200"/>
          </a:xfrm>
          <a:custGeom>
            <a:avLst/>
            <a:gdLst/>
            <a:ahLst/>
            <a:rect l="l" t="t" r="r" b="b"/>
            <a:pathLst>
              <a:path w="2209" h="820">
                <a:moveTo>
                  <a:pt x="21903" y="9971"/>
                </a:moveTo>
                <a:cubicBezTo>
                  <a:pt x="21816" y="9911"/>
                  <a:pt x="21760" y="9897"/>
                  <a:pt x="21654" y="9897"/>
                </a:cubicBezTo>
                <a:cubicBezTo>
                  <a:pt x="21582" y="9897"/>
                  <a:pt x="21511" y="9880"/>
                  <a:pt x="21456" y="9922"/>
                </a:cubicBezTo>
                <a:cubicBezTo>
                  <a:pt x="21501" y="9974"/>
                  <a:pt x="21607" y="10092"/>
                  <a:pt x="21679" y="10120"/>
                </a:cubicBezTo>
                <a:cubicBezTo>
                  <a:pt x="21787" y="10162"/>
                  <a:pt x="21786" y="10175"/>
                  <a:pt x="21853" y="10269"/>
                </a:cubicBezTo>
                <a:cubicBezTo>
                  <a:pt x="21881" y="10297"/>
                  <a:pt x="21890" y="10311"/>
                  <a:pt x="21878" y="10344"/>
                </a:cubicBezTo>
                <a:cubicBezTo>
                  <a:pt x="21824" y="10370"/>
                  <a:pt x="21713" y="10378"/>
                  <a:pt x="21654" y="10344"/>
                </a:cubicBezTo>
                <a:cubicBezTo>
                  <a:pt x="21586" y="10304"/>
                  <a:pt x="21588" y="10249"/>
                  <a:pt x="21555" y="10195"/>
                </a:cubicBezTo>
              </a:path>
              <a:path w="2209" h="820">
                <a:moveTo>
                  <a:pt x="22101" y="10145"/>
                </a:moveTo>
                <a:cubicBezTo>
                  <a:pt x="22110" y="10175"/>
                  <a:pt x="22151" y="10530"/>
                  <a:pt x="22151" y="10344"/>
                </a:cubicBezTo>
              </a:path>
              <a:path w="2209" h="820">
                <a:moveTo>
                  <a:pt x="22101" y="9897"/>
                </a:moveTo>
                <a:cubicBezTo>
                  <a:pt x="22113" y="9791"/>
                  <a:pt x="22098" y="9852"/>
                  <a:pt x="22151" y="9773"/>
                </a:cubicBezTo>
              </a:path>
              <a:path w="2209" h="820">
                <a:moveTo>
                  <a:pt x="22349" y="10294"/>
                </a:moveTo>
                <a:cubicBezTo>
                  <a:pt x="22349" y="10311"/>
                  <a:pt x="22349" y="10327"/>
                  <a:pt x="22349" y="10344"/>
                </a:cubicBezTo>
                <a:cubicBezTo>
                  <a:pt x="22328" y="10280"/>
                  <a:pt x="22302" y="10190"/>
                  <a:pt x="22324" y="10120"/>
                </a:cubicBezTo>
                <a:cubicBezTo>
                  <a:pt x="22344" y="10058"/>
                  <a:pt x="22438" y="9999"/>
                  <a:pt x="22498" y="10046"/>
                </a:cubicBezTo>
                <a:cubicBezTo>
                  <a:pt x="22561" y="10095"/>
                  <a:pt x="22610" y="10186"/>
                  <a:pt x="22622" y="10269"/>
                </a:cubicBezTo>
                <a:cubicBezTo>
                  <a:pt x="22626" y="10296"/>
                  <a:pt x="22647" y="10525"/>
                  <a:pt x="22647" y="10344"/>
                </a:cubicBezTo>
              </a:path>
              <a:path w="2209" h="820">
                <a:moveTo>
                  <a:pt x="22870" y="9773"/>
                </a:moveTo>
                <a:cubicBezTo>
                  <a:pt x="22968" y="9746"/>
                  <a:pt x="23046" y="9728"/>
                  <a:pt x="23118" y="9823"/>
                </a:cubicBezTo>
                <a:cubicBezTo>
                  <a:pt x="23143" y="9856"/>
                  <a:pt x="23166" y="9954"/>
                  <a:pt x="23168" y="9996"/>
                </a:cubicBezTo>
                <a:cubicBezTo>
                  <a:pt x="23172" y="10085"/>
                  <a:pt x="23145" y="10209"/>
                  <a:pt x="23118" y="10294"/>
                </a:cubicBezTo>
                <a:cubicBezTo>
                  <a:pt x="23110" y="10320"/>
                  <a:pt x="23038" y="10410"/>
                  <a:pt x="23019" y="10418"/>
                </a:cubicBezTo>
                <a:cubicBezTo>
                  <a:pt x="23002" y="10418"/>
                  <a:pt x="22986" y="10418"/>
                  <a:pt x="22969" y="10418"/>
                </a:cubicBezTo>
                <a:cubicBezTo>
                  <a:pt x="22963" y="10366"/>
                  <a:pt x="22920" y="10285"/>
                  <a:pt x="22994" y="10269"/>
                </a:cubicBezTo>
                <a:cubicBezTo>
                  <a:pt x="23060" y="10255"/>
                  <a:pt x="23118" y="10286"/>
                  <a:pt x="23168" y="10294"/>
                </a:cubicBezTo>
                <a:cubicBezTo>
                  <a:pt x="23226" y="10294"/>
                  <a:pt x="23234" y="10294"/>
                  <a:pt x="23267" y="10294"/>
                </a:cubicBezTo>
              </a:path>
              <a:path w="2209" h="820">
                <a:moveTo>
                  <a:pt x="23564" y="9922"/>
                </a:moveTo>
                <a:cubicBezTo>
                  <a:pt x="23514" y="9908"/>
                  <a:pt x="23366" y="9858"/>
                  <a:pt x="23366" y="9971"/>
                </a:cubicBezTo>
                <a:cubicBezTo>
                  <a:pt x="23366" y="10067"/>
                  <a:pt x="23455" y="10086"/>
                  <a:pt x="23490" y="10145"/>
                </a:cubicBezTo>
                <a:cubicBezTo>
                  <a:pt x="23538" y="10225"/>
                  <a:pt x="23599" y="10332"/>
                  <a:pt x="23639" y="10418"/>
                </a:cubicBezTo>
                <a:cubicBezTo>
                  <a:pt x="23662" y="10467"/>
                  <a:pt x="23678" y="10618"/>
                  <a:pt x="23564" y="10567"/>
                </a:cubicBezTo>
                <a:cubicBezTo>
                  <a:pt x="23470" y="10525"/>
                  <a:pt x="23490" y="10426"/>
                  <a:pt x="23490" y="10344"/>
                </a:cubicBezTo>
                <a:cubicBezTo>
                  <a:pt x="23490" y="10250"/>
                  <a:pt x="23518" y="10273"/>
                  <a:pt x="23564" y="10195"/>
                </a:cubicBezTo>
                <a:cubicBezTo>
                  <a:pt x="23572" y="10178"/>
                  <a:pt x="23581" y="10162"/>
                  <a:pt x="23589" y="10145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Ink 18"/>
          <p:cNvSpPr/>
          <p:nvPr/>
        </p:nvSpPr>
        <p:spPr>
          <a:xfrm>
            <a:off x="2946240" y="3241800"/>
            <a:ext cx="1046160" cy="303120"/>
          </a:xfrm>
          <a:custGeom>
            <a:avLst/>
            <a:gdLst/>
            <a:ahLst/>
            <a:rect l="l" t="t" r="r" b="b"/>
            <a:pathLst>
              <a:path w="2903" h="844">
                <a:moveTo>
                  <a:pt x="8682" y="9376"/>
                </a:moveTo>
                <a:cubicBezTo>
                  <a:pt x="8747" y="9332"/>
                  <a:pt x="8680" y="9331"/>
                  <a:pt x="8657" y="9302"/>
                </a:cubicBezTo>
                <a:cubicBezTo>
                  <a:pt x="8597" y="9228"/>
                  <a:pt x="8582" y="9227"/>
                  <a:pt x="8483" y="9227"/>
                </a:cubicBezTo>
                <a:cubicBezTo>
                  <a:pt x="8373" y="9227"/>
                  <a:pt x="8334" y="9261"/>
                  <a:pt x="8235" y="9302"/>
                </a:cubicBezTo>
                <a:cubicBezTo>
                  <a:pt x="8183" y="9323"/>
                  <a:pt x="8164" y="9347"/>
                  <a:pt x="8210" y="9401"/>
                </a:cubicBezTo>
                <a:cubicBezTo>
                  <a:pt x="8276" y="9478"/>
                  <a:pt x="8328" y="9429"/>
                  <a:pt x="8409" y="9475"/>
                </a:cubicBezTo>
                <a:cubicBezTo>
                  <a:pt x="8489" y="9520"/>
                  <a:pt x="8539" y="9571"/>
                  <a:pt x="8607" y="9599"/>
                </a:cubicBezTo>
                <a:cubicBezTo>
                  <a:pt x="8693" y="9634"/>
                  <a:pt x="8675" y="9686"/>
                  <a:pt x="8706" y="9748"/>
                </a:cubicBezTo>
                <a:cubicBezTo>
                  <a:pt x="8748" y="9831"/>
                  <a:pt x="8685" y="9843"/>
                  <a:pt x="8607" y="9847"/>
                </a:cubicBezTo>
                <a:cubicBezTo>
                  <a:pt x="8521" y="9851"/>
                  <a:pt x="8465" y="9828"/>
                  <a:pt x="8384" y="9823"/>
                </a:cubicBezTo>
                <a:cubicBezTo>
                  <a:pt x="8336" y="9820"/>
                  <a:pt x="8342" y="9787"/>
                  <a:pt x="8334" y="9748"/>
                </a:cubicBezTo>
              </a:path>
              <a:path w="2903" h="844">
                <a:moveTo>
                  <a:pt x="9004" y="9376"/>
                </a:moveTo>
                <a:cubicBezTo>
                  <a:pt x="9022" y="9488"/>
                  <a:pt x="9029" y="9587"/>
                  <a:pt x="9029" y="9699"/>
                </a:cubicBezTo>
                <a:cubicBezTo>
                  <a:pt x="9029" y="9757"/>
                  <a:pt x="9048" y="9923"/>
                  <a:pt x="9029" y="9748"/>
                </a:cubicBezTo>
              </a:path>
              <a:path w="2903" h="844">
                <a:moveTo>
                  <a:pt x="9029" y="9079"/>
                </a:moveTo>
                <a:cubicBezTo>
                  <a:pt x="9037" y="9062"/>
                  <a:pt x="9046" y="9046"/>
                  <a:pt x="9054" y="9029"/>
                </a:cubicBezTo>
              </a:path>
              <a:path w="2903" h="844">
                <a:moveTo>
                  <a:pt x="9252" y="9451"/>
                </a:moveTo>
                <a:cubicBezTo>
                  <a:pt x="9274" y="9555"/>
                  <a:pt x="9290" y="9591"/>
                  <a:pt x="9302" y="9674"/>
                </a:cubicBezTo>
                <a:cubicBezTo>
                  <a:pt x="9302" y="9593"/>
                  <a:pt x="9300" y="9497"/>
                  <a:pt x="9327" y="9451"/>
                </a:cubicBezTo>
                <a:cubicBezTo>
                  <a:pt x="9371" y="9378"/>
                  <a:pt x="9366" y="9376"/>
                  <a:pt x="9451" y="9376"/>
                </a:cubicBezTo>
                <a:cubicBezTo>
                  <a:pt x="9568" y="9376"/>
                  <a:pt x="9560" y="9367"/>
                  <a:pt x="9624" y="9451"/>
                </a:cubicBezTo>
                <a:cubicBezTo>
                  <a:pt x="9668" y="9509"/>
                  <a:pt x="9677" y="9564"/>
                  <a:pt x="9699" y="9624"/>
                </a:cubicBezTo>
                <a:cubicBezTo>
                  <a:pt x="9725" y="9694"/>
                  <a:pt x="9723" y="9750"/>
                  <a:pt x="9723" y="9823"/>
                </a:cubicBezTo>
              </a:path>
              <a:path w="2903" h="844">
                <a:moveTo>
                  <a:pt x="10021" y="9153"/>
                </a:moveTo>
                <a:cubicBezTo>
                  <a:pt x="10040" y="9254"/>
                  <a:pt x="10071" y="9350"/>
                  <a:pt x="10071" y="9451"/>
                </a:cubicBezTo>
                <a:cubicBezTo>
                  <a:pt x="10071" y="9554"/>
                  <a:pt x="10052" y="9686"/>
                  <a:pt x="10096" y="9773"/>
                </a:cubicBezTo>
              </a:path>
              <a:path w="2903" h="844">
                <a:moveTo>
                  <a:pt x="10244" y="9227"/>
                </a:moveTo>
                <a:cubicBezTo>
                  <a:pt x="10318" y="9140"/>
                  <a:pt x="10321" y="9185"/>
                  <a:pt x="10393" y="9227"/>
                </a:cubicBezTo>
                <a:cubicBezTo>
                  <a:pt x="10496" y="9288"/>
                  <a:pt x="10457" y="9354"/>
                  <a:pt x="10492" y="9451"/>
                </a:cubicBezTo>
                <a:cubicBezTo>
                  <a:pt x="10518" y="9525"/>
                  <a:pt x="10532" y="9588"/>
                  <a:pt x="10492" y="9674"/>
                </a:cubicBezTo>
                <a:cubicBezTo>
                  <a:pt x="10473" y="9716"/>
                  <a:pt x="10424" y="9816"/>
                  <a:pt x="10393" y="9823"/>
                </a:cubicBezTo>
                <a:cubicBezTo>
                  <a:pt x="10352" y="9823"/>
                  <a:pt x="10344" y="9823"/>
                  <a:pt x="10319" y="9823"/>
                </a:cubicBezTo>
                <a:cubicBezTo>
                  <a:pt x="10319" y="9754"/>
                  <a:pt x="10305" y="9684"/>
                  <a:pt x="10344" y="9624"/>
                </a:cubicBezTo>
                <a:cubicBezTo>
                  <a:pt x="10366" y="9590"/>
                  <a:pt x="10392" y="9557"/>
                  <a:pt x="10418" y="9525"/>
                </a:cubicBezTo>
                <a:cubicBezTo>
                  <a:pt x="10493" y="9557"/>
                  <a:pt x="10488" y="9602"/>
                  <a:pt x="10542" y="9674"/>
                </a:cubicBezTo>
                <a:cubicBezTo>
                  <a:pt x="10593" y="9741"/>
                  <a:pt x="10561" y="9755"/>
                  <a:pt x="10616" y="9699"/>
                </a:cubicBezTo>
              </a:path>
              <a:path w="2903" h="844">
                <a:moveTo>
                  <a:pt x="10716" y="9178"/>
                </a:moveTo>
                <a:cubicBezTo>
                  <a:pt x="10706" y="9283"/>
                  <a:pt x="10685" y="9290"/>
                  <a:pt x="10740" y="9376"/>
                </a:cubicBezTo>
                <a:cubicBezTo>
                  <a:pt x="10777" y="9434"/>
                  <a:pt x="10831" y="9491"/>
                  <a:pt x="10914" y="9451"/>
                </a:cubicBezTo>
                <a:cubicBezTo>
                  <a:pt x="10931" y="9434"/>
                  <a:pt x="10947" y="9418"/>
                  <a:pt x="10964" y="9401"/>
                </a:cubicBezTo>
              </a:path>
              <a:path w="2903" h="844">
                <a:moveTo>
                  <a:pt x="11063" y="9004"/>
                </a:moveTo>
                <a:cubicBezTo>
                  <a:pt x="11030" y="9015"/>
                  <a:pt x="11016" y="9055"/>
                  <a:pt x="11013" y="9103"/>
                </a:cubicBezTo>
                <a:cubicBezTo>
                  <a:pt x="11005" y="9215"/>
                  <a:pt x="11006" y="9263"/>
                  <a:pt x="11013" y="9376"/>
                </a:cubicBezTo>
                <a:cubicBezTo>
                  <a:pt x="11019" y="9466"/>
                  <a:pt x="11006" y="9536"/>
                  <a:pt x="11038" y="9624"/>
                </a:cubicBezTo>
                <a:cubicBezTo>
                  <a:pt x="11065" y="9697"/>
                  <a:pt x="11088" y="9745"/>
                  <a:pt x="11088" y="9823"/>
                </a:cubicBezTo>
                <a:cubicBezTo>
                  <a:pt x="11088" y="9864"/>
                  <a:pt x="11071" y="9872"/>
                  <a:pt x="11013" y="9847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2.  From fire tower A, a fire with bearings N70</a:t>
            </a:r>
            <a:r>
              <a:rPr b="0" lang="en-US" sz="35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E is sighted.  The same fire is seen from tower B at N46</a:t>
            </a:r>
            <a:r>
              <a:rPr b="0" lang="en-US" sz="35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W.  Tower B is 75 miles east of A.  How far from tower A is the fire?</a:t>
            </a:r>
            <a:endParaRPr b="0" lang="en-US" sz="35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Ink 3"/>
          <p:cNvSpPr/>
          <p:nvPr/>
        </p:nvSpPr>
        <p:spPr>
          <a:xfrm>
            <a:off x="884160" y="4170240"/>
            <a:ext cx="295200" cy="482760"/>
          </a:xfrm>
          <a:custGeom>
            <a:avLst/>
            <a:gdLst/>
            <a:ahLst/>
            <a:rect l="l" t="t" r="r" b="b"/>
            <a:pathLst>
              <a:path w="819" h="1340">
                <a:moveTo>
                  <a:pt x="3175" y="11658"/>
                </a:moveTo>
                <a:cubicBezTo>
                  <a:pt x="3167" y="11650"/>
                  <a:pt x="3158" y="11641"/>
                  <a:pt x="3150" y="11633"/>
                </a:cubicBezTo>
                <a:cubicBezTo>
                  <a:pt x="3137" y="11677"/>
                  <a:pt x="3134" y="11764"/>
                  <a:pt x="3225" y="11733"/>
                </a:cubicBezTo>
                <a:cubicBezTo>
                  <a:pt x="3288" y="11712"/>
                  <a:pt x="3246" y="11609"/>
                  <a:pt x="3175" y="11633"/>
                </a:cubicBezTo>
                <a:cubicBezTo>
                  <a:pt x="3118" y="11652"/>
                  <a:pt x="3157" y="11760"/>
                  <a:pt x="3200" y="11757"/>
                </a:cubicBezTo>
                <a:cubicBezTo>
                  <a:pt x="3243" y="11736"/>
                  <a:pt x="3255" y="11732"/>
                  <a:pt x="3274" y="11708"/>
                </a:cubicBezTo>
                <a:cubicBezTo>
                  <a:pt x="3264" y="11678"/>
                  <a:pt x="3150" y="11607"/>
                  <a:pt x="3150" y="11683"/>
                </a:cubicBezTo>
                <a:cubicBezTo>
                  <a:pt x="3158" y="11691"/>
                  <a:pt x="3167" y="11700"/>
                  <a:pt x="3175" y="11708"/>
                </a:cubicBezTo>
                <a:cubicBezTo>
                  <a:pt x="3235" y="11699"/>
                  <a:pt x="3296" y="11677"/>
                  <a:pt x="3249" y="11609"/>
                </a:cubicBezTo>
                <a:cubicBezTo>
                  <a:pt x="3227" y="11586"/>
                  <a:pt x="3222" y="11578"/>
                  <a:pt x="3200" y="11584"/>
                </a:cubicBezTo>
              </a:path>
              <a:path w="819" h="1340">
                <a:moveTo>
                  <a:pt x="2704" y="12204"/>
                </a:moveTo>
                <a:cubicBezTo>
                  <a:pt x="2673" y="12312"/>
                  <a:pt x="2636" y="12422"/>
                  <a:pt x="2604" y="12526"/>
                </a:cubicBezTo>
                <a:cubicBezTo>
                  <a:pt x="2579" y="12607"/>
                  <a:pt x="2495" y="12697"/>
                  <a:pt x="2480" y="12774"/>
                </a:cubicBezTo>
                <a:cubicBezTo>
                  <a:pt x="2480" y="12799"/>
                  <a:pt x="2480" y="12824"/>
                  <a:pt x="2480" y="12849"/>
                </a:cubicBezTo>
                <a:cubicBezTo>
                  <a:pt x="2429" y="12902"/>
                  <a:pt x="2516" y="12713"/>
                  <a:pt x="2530" y="12675"/>
                </a:cubicBezTo>
                <a:cubicBezTo>
                  <a:pt x="2566" y="12577"/>
                  <a:pt x="2614" y="12476"/>
                  <a:pt x="2654" y="12378"/>
                </a:cubicBezTo>
                <a:cubicBezTo>
                  <a:pt x="2687" y="12298"/>
                  <a:pt x="2698" y="12214"/>
                  <a:pt x="2729" y="12129"/>
                </a:cubicBezTo>
                <a:cubicBezTo>
                  <a:pt x="2760" y="12045"/>
                  <a:pt x="2788" y="11956"/>
                  <a:pt x="2828" y="11881"/>
                </a:cubicBezTo>
                <a:cubicBezTo>
                  <a:pt x="2852" y="11833"/>
                  <a:pt x="2861" y="11819"/>
                  <a:pt x="2853" y="11782"/>
                </a:cubicBezTo>
                <a:cubicBezTo>
                  <a:pt x="2917" y="11837"/>
                  <a:pt x="2900" y="11855"/>
                  <a:pt x="2927" y="11931"/>
                </a:cubicBezTo>
                <a:cubicBezTo>
                  <a:pt x="2956" y="12013"/>
                  <a:pt x="2956" y="12096"/>
                  <a:pt x="2977" y="12179"/>
                </a:cubicBezTo>
                <a:cubicBezTo>
                  <a:pt x="2998" y="12261"/>
                  <a:pt x="3022" y="12342"/>
                  <a:pt x="3026" y="12427"/>
                </a:cubicBezTo>
                <a:cubicBezTo>
                  <a:pt x="3031" y="12514"/>
                  <a:pt x="3067" y="12594"/>
                  <a:pt x="3101" y="12675"/>
                </a:cubicBezTo>
                <a:cubicBezTo>
                  <a:pt x="3125" y="12731"/>
                  <a:pt x="3152" y="12802"/>
                  <a:pt x="3175" y="12849"/>
                </a:cubicBezTo>
                <a:cubicBezTo>
                  <a:pt x="3191" y="12882"/>
                  <a:pt x="3191" y="12863"/>
                  <a:pt x="3200" y="12898"/>
                </a:cubicBezTo>
              </a:path>
              <a:path w="819" h="1340">
                <a:moveTo>
                  <a:pt x="2778" y="12526"/>
                </a:moveTo>
                <a:cubicBezTo>
                  <a:pt x="2854" y="12537"/>
                  <a:pt x="2948" y="12554"/>
                  <a:pt x="3026" y="12576"/>
                </a:cubicBezTo>
                <a:cubicBezTo>
                  <a:pt x="3076" y="12591"/>
                  <a:pt x="3096" y="12601"/>
                  <a:pt x="3150" y="12601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Ink 4"/>
          <p:cNvSpPr/>
          <p:nvPr/>
        </p:nvSpPr>
        <p:spPr>
          <a:xfrm>
            <a:off x="1357200" y="3348000"/>
            <a:ext cx="241560" cy="250920"/>
          </a:xfrm>
          <a:custGeom>
            <a:avLst/>
            <a:gdLst/>
            <a:ahLst/>
            <a:rect l="l" t="t" r="r" b="b"/>
            <a:pathLst>
              <a:path w="671" h="695">
                <a:moveTo>
                  <a:pt x="3770" y="9451"/>
                </a:moveTo>
                <a:cubicBezTo>
                  <a:pt x="3814" y="9539"/>
                  <a:pt x="3829" y="9572"/>
                  <a:pt x="3919" y="9599"/>
                </a:cubicBezTo>
                <a:cubicBezTo>
                  <a:pt x="4003" y="9624"/>
                  <a:pt x="4085" y="9665"/>
                  <a:pt x="4167" y="9674"/>
                </a:cubicBezTo>
                <a:cubicBezTo>
                  <a:pt x="4215" y="9679"/>
                  <a:pt x="4391" y="9770"/>
                  <a:pt x="4415" y="9748"/>
                </a:cubicBezTo>
                <a:cubicBezTo>
                  <a:pt x="4423" y="9723"/>
                  <a:pt x="4432" y="9699"/>
                  <a:pt x="4440" y="9674"/>
                </a:cubicBezTo>
              </a:path>
              <a:path w="671" h="695">
                <a:moveTo>
                  <a:pt x="3994" y="9302"/>
                </a:moveTo>
                <a:cubicBezTo>
                  <a:pt x="3979" y="9401"/>
                  <a:pt x="3949" y="9524"/>
                  <a:pt x="3944" y="9624"/>
                </a:cubicBezTo>
                <a:cubicBezTo>
                  <a:pt x="3939" y="9727"/>
                  <a:pt x="3903" y="9801"/>
                  <a:pt x="3870" y="9897"/>
                </a:cubicBezTo>
                <a:cubicBezTo>
                  <a:pt x="3843" y="9974"/>
                  <a:pt x="3865" y="10001"/>
                  <a:pt x="3820" y="9971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Ink 5"/>
          <p:cNvSpPr/>
          <p:nvPr/>
        </p:nvSpPr>
        <p:spPr>
          <a:xfrm>
            <a:off x="2089080" y="2367000"/>
            <a:ext cx="4599000" cy="1946160"/>
          </a:xfrm>
          <a:custGeom>
            <a:avLst/>
            <a:gdLst/>
            <a:ahLst/>
            <a:rect l="l" t="t" r="r" b="b"/>
            <a:pathLst>
              <a:path w="12776" h="5409">
                <a:moveTo>
                  <a:pt x="6052" y="7714"/>
                </a:moveTo>
                <a:cubicBezTo>
                  <a:pt x="6078" y="7670"/>
                  <a:pt x="6093" y="7595"/>
                  <a:pt x="6102" y="7541"/>
                </a:cubicBezTo>
                <a:cubicBezTo>
                  <a:pt x="6114" y="7472"/>
                  <a:pt x="6108" y="7384"/>
                  <a:pt x="6127" y="7317"/>
                </a:cubicBezTo>
                <a:cubicBezTo>
                  <a:pt x="6149" y="7237"/>
                  <a:pt x="6150" y="7147"/>
                  <a:pt x="6176" y="7069"/>
                </a:cubicBezTo>
                <a:cubicBezTo>
                  <a:pt x="6216" y="6951"/>
                  <a:pt x="6196" y="6836"/>
                  <a:pt x="6226" y="6722"/>
                </a:cubicBezTo>
                <a:cubicBezTo>
                  <a:pt x="6234" y="6714"/>
                  <a:pt x="6243" y="6705"/>
                  <a:pt x="6251" y="6697"/>
                </a:cubicBezTo>
                <a:cubicBezTo>
                  <a:pt x="6258" y="6777"/>
                  <a:pt x="6276" y="6839"/>
                  <a:pt x="6276" y="6921"/>
                </a:cubicBezTo>
                <a:cubicBezTo>
                  <a:pt x="6276" y="6937"/>
                  <a:pt x="6276" y="6954"/>
                  <a:pt x="6276" y="6970"/>
                </a:cubicBezTo>
                <a:cubicBezTo>
                  <a:pt x="6325" y="6908"/>
                  <a:pt x="6344" y="6845"/>
                  <a:pt x="6375" y="6772"/>
                </a:cubicBezTo>
                <a:cubicBezTo>
                  <a:pt x="6400" y="6722"/>
                  <a:pt x="6408" y="6706"/>
                  <a:pt x="6424" y="6672"/>
                </a:cubicBezTo>
                <a:cubicBezTo>
                  <a:pt x="6446" y="6731"/>
                  <a:pt x="6437" y="6799"/>
                  <a:pt x="6474" y="6846"/>
                </a:cubicBezTo>
                <a:cubicBezTo>
                  <a:pt x="6519" y="6902"/>
                  <a:pt x="6564" y="6740"/>
                  <a:pt x="6573" y="6697"/>
                </a:cubicBezTo>
                <a:cubicBezTo>
                  <a:pt x="6585" y="6640"/>
                  <a:pt x="6569" y="6622"/>
                  <a:pt x="6598" y="6573"/>
                </a:cubicBezTo>
                <a:cubicBezTo>
                  <a:pt x="6598" y="6664"/>
                  <a:pt x="6631" y="6709"/>
                  <a:pt x="6648" y="6796"/>
                </a:cubicBezTo>
                <a:cubicBezTo>
                  <a:pt x="6648" y="6841"/>
                  <a:pt x="6644" y="6854"/>
                  <a:pt x="6672" y="6871"/>
                </a:cubicBezTo>
                <a:cubicBezTo>
                  <a:pt x="6723" y="6820"/>
                  <a:pt x="6725" y="6808"/>
                  <a:pt x="6747" y="6747"/>
                </a:cubicBezTo>
                <a:cubicBezTo>
                  <a:pt x="6768" y="6688"/>
                  <a:pt x="6788" y="6660"/>
                  <a:pt x="6796" y="6598"/>
                </a:cubicBezTo>
                <a:cubicBezTo>
                  <a:pt x="6859" y="6661"/>
                  <a:pt x="6825" y="6692"/>
                  <a:pt x="6846" y="6772"/>
                </a:cubicBezTo>
                <a:cubicBezTo>
                  <a:pt x="6870" y="6861"/>
                  <a:pt x="6873" y="6959"/>
                  <a:pt x="6896" y="7045"/>
                </a:cubicBezTo>
                <a:cubicBezTo>
                  <a:pt x="6915" y="7117"/>
                  <a:pt x="6934" y="7195"/>
                  <a:pt x="6945" y="7268"/>
                </a:cubicBezTo>
                <a:cubicBezTo>
                  <a:pt x="6956" y="7343"/>
                  <a:pt x="6986" y="7415"/>
                  <a:pt x="6995" y="7491"/>
                </a:cubicBezTo>
                <a:cubicBezTo>
                  <a:pt x="7004" y="7566"/>
                  <a:pt x="7032" y="7603"/>
                  <a:pt x="6995" y="7665"/>
                </a:cubicBezTo>
                <a:cubicBezTo>
                  <a:pt x="6925" y="7656"/>
                  <a:pt x="6870" y="7640"/>
                  <a:pt x="6796" y="7640"/>
                </a:cubicBezTo>
                <a:cubicBezTo>
                  <a:pt x="6697" y="7640"/>
                  <a:pt x="6617" y="7620"/>
                  <a:pt x="6524" y="7615"/>
                </a:cubicBezTo>
                <a:cubicBezTo>
                  <a:pt x="6376" y="7607"/>
                  <a:pt x="6225" y="7615"/>
                  <a:pt x="6077" y="7615"/>
                </a:cubicBezTo>
              </a:path>
              <a:path w="12776" h="5409">
                <a:moveTo>
                  <a:pt x="6176" y="7813"/>
                </a:moveTo>
                <a:cubicBezTo>
                  <a:pt x="6184" y="7821"/>
                  <a:pt x="6193" y="7830"/>
                  <a:pt x="6201" y="7838"/>
                </a:cubicBezTo>
              </a:path>
              <a:path w="12776" h="5409">
                <a:moveTo>
                  <a:pt x="6176" y="7813"/>
                </a:moveTo>
                <a:cubicBezTo>
                  <a:pt x="6193" y="7830"/>
                  <a:pt x="6209" y="7846"/>
                  <a:pt x="6226" y="7863"/>
                </a:cubicBezTo>
              </a:path>
              <a:path w="12776" h="5409">
                <a:moveTo>
                  <a:pt x="6226" y="7863"/>
                </a:moveTo>
                <a:cubicBezTo>
                  <a:pt x="6260" y="7905"/>
                  <a:pt x="6288" y="7946"/>
                  <a:pt x="6325" y="7987"/>
                </a:cubicBezTo>
                <a:cubicBezTo>
                  <a:pt x="6377" y="8045"/>
                  <a:pt x="6424" y="8105"/>
                  <a:pt x="6474" y="8161"/>
                </a:cubicBezTo>
                <a:cubicBezTo>
                  <a:pt x="6519" y="8211"/>
                  <a:pt x="6558" y="8257"/>
                  <a:pt x="6598" y="8310"/>
                </a:cubicBezTo>
                <a:cubicBezTo>
                  <a:pt x="6630" y="8352"/>
                  <a:pt x="6658" y="8386"/>
                  <a:pt x="6697" y="8434"/>
                </a:cubicBezTo>
                <a:cubicBezTo>
                  <a:pt x="6749" y="8498"/>
                  <a:pt x="6793" y="8569"/>
                  <a:pt x="6846" y="8632"/>
                </a:cubicBezTo>
                <a:cubicBezTo>
                  <a:pt x="6890" y="8684"/>
                  <a:pt x="6925" y="8733"/>
                  <a:pt x="6970" y="8781"/>
                </a:cubicBezTo>
                <a:cubicBezTo>
                  <a:pt x="7017" y="8831"/>
                  <a:pt x="7052" y="8878"/>
                  <a:pt x="7094" y="8930"/>
                </a:cubicBezTo>
                <a:cubicBezTo>
                  <a:pt x="7174" y="9031"/>
                  <a:pt x="7263" y="9140"/>
                  <a:pt x="7342" y="9227"/>
                </a:cubicBezTo>
                <a:cubicBezTo>
                  <a:pt x="7401" y="9292"/>
                  <a:pt x="7484" y="9341"/>
                  <a:pt x="7541" y="9401"/>
                </a:cubicBezTo>
                <a:cubicBezTo>
                  <a:pt x="7594" y="9457"/>
                  <a:pt x="7636" y="9540"/>
                  <a:pt x="7689" y="9599"/>
                </a:cubicBezTo>
                <a:cubicBezTo>
                  <a:pt x="7756" y="9672"/>
                  <a:pt x="7862" y="9757"/>
                  <a:pt x="7913" y="9823"/>
                </a:cubicBezTo>
                <a:cubicBezTo>
                  <a:pt x="7962" y="9887"/>
                  <a:pt x="8008" y="9942"/>
                  <a:pt x="8062" y="9996"/>
                </a:cubicBezTo>
                <a:cubicBezTo>
                  <a:pt x="8119" y="10053"/>
                  <a:pt x="8204" y="10157"/>
                  <a:pt x="8235" y="10195"/>
                </a:cubicBezTo>
                <a:cubicBezTo>
                  <a:pt x="8289" y="10261"/>
                  <a:pt x="8330" y="10312"/>
                  <a:pt x="8384" y="10368"/>
                </a:cubicBezTo>
                <a:cubicBezTo>
                  <a:pt x="8428" y="10413"/>
                  <a:pt x="8495" y="10457"/>
                  <a:pt x="8533" y="10492"/>
                </a:cubicBezTo>
                <a:cubicBezTo>
                  <a:pt x="8582" y="10538"/>
                  <a:pt x="8609" y="10580"/>
                  <a:pt x="8657" y="10641"/>
                </a:cubicBezTo>
                <a:cubicBezTo>
                  <a:pt x="8710" y="10708"/>
                  <a:pt x="8747" y="10752"/>
                  <a:pt x="8806" y="10815"/>
                </a:cubicBezTo>
                <a:cubicBezTo>
                  <a:pt x="8850" y="10862"/>
                  <a:pt x="8884" y="10922"/>
                  <a:pt x="8930" y="10964"/>
                </a:cubicBezTo>
                <a:cubicBezTo>
                  <a:pt x="8986" y="11015"/>
                  <a:pt x="9051" y="11062"/>
                  <a:pt x="9103" y="11112"/>
                </a:cubicBezTo>
                <a:cubicBezTo>
                  <a:pt x="9128" y="11137"/>
                  <a:pt x="9136" y="11145"/>
                  <a:pt x="9153" y="11162"/>
                </a:cubicBezTo>
                <a:cubicBezTo>
                  <a:pt x="9069" y="11176"/>
                  <a:pt x="8996" y="11185"/>
                  <a:pt x="8905" y="11187"/>
                </a:cubicBezTo>
                <a:cubicBezTo>
                  <a:pt x="8827" y="11189"/>
                  <a:pt x="8752" y="11207"/>
                  <a:pt x="8682" y="11212"/>
                </a:cubicBezTo>
                <a:cubicBezTo>
                  <a:pt x="8551" y="11221"/>
                  <a:pt x="8412" y="11229"/>
                  <a:pt x="8285" y="11237"/>
                </a:cubicBezTo>
                <a:cubicBezTo>
                  <a:pt x="8220" y="11241"/>
                  <a:pt x="8164" y="11250"/>
                  <a:pt x="8111" y="11261"/>
                </a:cubicBezTo>
                <a:cubicBezTo>
                  <a:pt x="8025" y="11278"/>
                  <a:pt x="7925" y="11303"/>
                  <a:pt x="7838" y="11311"/>
                </a:cubicBezTo>
                <a:cubicBezTo>
                  <a:pt x="7765" y="11318"/>
                  <a:pt x="7681" y="11331"/>
                  <a:pt x="7615" y="11336"/>
                </a:cubicBezTo>
                <a:cubicBezTo>
                  <a:pt x="7377" y="11352"/>
                  <a:pt x="7130" y="11346"/>
                  <a:pt x="6896" y="11361"/>
                </a:cubicBezTo>
                <a:cubicBezTo>
                  <a:pt x="6805" y="11367"/>
                  <a:pt x="6726" y="11364"/>
                  <a:pt x="6648" y="11385"/>
                </a:cubicBezTo>
                <a:cubicBezTo>
                  <a:pt x="6606" y="11385"/>
                  <a:pt x="6590" y="11377"/>
                  <a:pt x="6598" y="11410"/>
                </a:cubicBezTo>
              </a:path>
              <a:path w="12776" h="5409">
                <a:moveTo>
                  <a:pt x="9426" y="11088"/>
                </a:moveTo>
                <a:cubicBezTo>
                  <a:pt x="9461" y="11145"/>
                  <a:pt x="9472" y="11190"/>
                  <a:pt x="9475" y="11261"/>
                </a:cubicBezTo>
                <a:cubicBezTo>
                  <a:pt x="9478" y="11329"/>
                  <a:pt x="9438" y="11403"/>
                  <a:pt x="9451" y="11460"/>
                </a:cubicBezTo>
                <a:cubicBezTo>
                  <a:pt x="9459" y="11476"/>
                  <a:pt x="9467" y="11493"/>
                  <a:pt x="9475" y="11509"/>
                </a:cubicBezTo>
                <a:cubicBezTo>
                  <a:pt x="9475" y="11429"/>
                  <a:pt x="9497" y="11388"/>
                  <a:pt x="9500" y="11311"/>
                </a:cubicBezTo>
                <a:cubicBezTo>
                  <a:pt x="9503" y="11217"/>
                  <a:pt x="9520" y="11145"/>
                  <a:pt x="9525" y="11063"/>
                </a:cubicBezTo>
                <a:cubicBezTo>
                  <a:pt x="9529" y="10993"/>
                  <a:pt x="9581" y="10924"/>
                  <a:pt x="9624" y="10864"/>
                </a:cubicBezTo>
                <a:cubicBezTo>
                  <a:pt x="9632" y="10856"/>
                  <a:pt x="9641" y="10848"/>
                  <a:pt x="9649" y="10840"/>
                </a:cubicBezTo>
                <a:cubicBezTo>
                  <a:pt x="9691" y="10881"/>
                  <a:pt x="9737" y="10921"/>
                  <a:pt x="9723" y="10988"/>
                </a:cubicBezTo>
                <a:cubicBezTo>
                  <a:pt x="9713" y="11036"/>
                  <a:pt x="9671" y="11093"/>
                  <a:pt x="9649" y="11137"/>
                </a:cubicBezTo>
                <a:cubicBezTo>
                  <a:pt x="9609" y="11177"/>
                  <a:pt x="9653" y="11113"/>
                  <a:pt x="9699" y="11137"/>
                </a:cubicBezTo>
                <a:cubicBezTo>
                  <a:pt x="9800" y="11188"/>
                  <a:pt x="9823" y="11201"/>
                  <a:pt x="9823" y="11311"/>
                </a:cubicBezTo>
                <a:cubicBezTo>
                  <a:pt x="9823" y="11394"/>
                  <a:pt x="9831" y="11446"/>
                  <a:pt x="9773" y="11509"/>
                </a:cubicBezTo>
                <a:cubicBezTo>
                  <a:pt x="9716" y="11571"/>
                  <a:pt x="9647" y="11539"/>
                  <a:pt x="9575" y="11534"/>
                </a:cubicBezTo>
                <a:cubicBezTo>
                  <a:pt x="9473" y="11527"/>
                  <a:pt x="9434" y="11516"/>
                  <a:pt x="9376" y="11435"/>
                </a:cubicBezTo>
              </a:path>
              <a:path w="12776" h="5409">
                <a:moveTo>
                  <a:pt x="7962" y="10765"/>
                </a:moveTo>
                <a:cubicBezTo>
                  <a:pt x="7958" y="10800"/>
                  <a:pt x="7904" y="10923"/>
                  <a:pt x="7962" y="10939"/>
                </a:cubicBezTo>
                <a:cubicBezTo>
                  <a:pt x="8038" y="10960"/>
                  <a:pt x="8117" y="10928"/>
                  <a:pt x="8186" y="10914"/>
                </a:cubicBezTo>
              </a:path>
              <a:path w="12776" h="5409">
                <a:moveTo>
                  <a:pt x="8136" y="10567"/>
                </a:moveTo>
                <a:cubicBezTo>
                  <a:pt x="8136" y="10744"/>
                  <a:pt x="8134" y="10919"/>
                  <a:pt x="8161" y="11088"/>
                </a:cubicBezTo>
                <a:cubicBezTo>
                  <a:pt x="8161" y="11137"/>
                  <a:pt x="8161" y="11154"/>
                  <a:pt x="8161" y="11187"/>
                </a:cubicBezTo>
              </a:path>
              <a:path w="12776" h="5409">
                <a:moveTo>
                  <a:pt x="8310" y="10641"/>
                </a:moveTo>
                <a:cubicBezTo>
                  <a:pt x="8310" y="10742"/>
                  <a:pt x="8276" y="10932"/>
                  <a:pt x="8334" y="11013"/>
                </a:cubicBezTo>
                <a:cubicBezTo>
                  <a:pt x="8360" y="11050"/>
                  <a:pt x="8408" y="11105"/>
                  <a:pt x="8458" y="11088"/>
                </a:cubicBezTo>
                <a:cubicBezTo>
                  <a:pt x="8521" y="11067"/>
                  <a:pt x="8508" y="10988"/>
                  <a:pt x="8508" y="10939"/>
                </a:cubicBezTo>
                <a:cubicBezTo>
                  <a:pt x="8508" y="10922"/>
                  <a:pt x="8508" y="10906"/>
                  <a:pt x="8508" y="10889"/>
                </a:cubicBezTo>
                <a:cubicBezTo>
                  <a:pt x="8417" y="10902"/>
                  <a:pt x="8412" y="10928"/>
                  <a:pt x="8434" y="11013"/>
                </a:cubicBezTo>
              </a:path>
              <a:path w="12776" h="5409">
                <a:moveTo>
                  <a:pt x="8533" y="10691"/>
                </a:moveTo>
                <a:cubicBezTo>
                  <a:pt x="8502" y="10769"/>
                  <a:pt x="8540" y="10775"/>
                  <a:pt x="8607" y="10740"/>
                </a:cubicBezTo>
                <a:cubicBezTo>
                  <a:pt x="8624" y="10732"/>
                  <a:pt x="8640" y="10724"/>
                  <a:pt x="8657" y="10716"/>
                </a:cubicBezTo>
                <a:cubicBezTo>
                  <a:pt x="8623" y="10639"/>
                  <a:pt x="8613" y="10624"/>
                  <a:pt x="8533" y="10592"/>
                </a:cubicBezTo>
              </a:path>
              <a:path w="12776" h="5409">
                <a:moveTo>
                  <a:pt x="7565" y="8731"/>
                </a:moveTo>
                <a:lnTo>
                  <a:pt x="7565" y="8731"/>
                </a:lnTo>
              </a:path>
              <a:path w="12776" h="5409">
                <a:moveTo>
                  <a:pt x="5854" y="8483"/>
                </a:moveTo>
                <a:cubicBezTo>
                  <a:pt x="5848" y="8545"/>
                  <a:pt x="5848" y="8644"/>
                  <a:pt x="5829" y="8706"/>
                </a:cubicBezTo>
                <a:cubicBezTo>
                  <a:pt x="5807" y="8777"/>
                  <a:pt x="5804" y="8846"/>
                  <a:pt x="5804" y="8930"/>
                </a:cubicBezTo>
                <a:cubicBezTo>
                  <a:pt x="5804" y="8961"/>
                  <a:pt x="5833" y="9062"/>
                  <a:pt x="5879" y="9079"/>
                </a:cubicBezTo>
                <a:cubicBezTo>
                  <a:pt x="5969" y="9112"/>
                  <a:pt x="6033" y="9006"/>
                  <a:pt x="6077" y="8954"/>
                </a:cubicBezTo>
                <a:cubicBezTo>
                  <a:pt x="6131" y="8890"/>
                  <a:pt x="6098" y="8838"/>
                  <a:pt x="6052" y="8781"/>
                </a:cubicBezTo>
                <a:cubicBezTo>
                  <a:pt x="6001" y="8847"/>
                  <a:pt x="6026" y="8882"/>
                  <a:pt x="6003" y="8954"/>
                </a:cubicBezTo>
                <a:cubicBezTo>
                  <a:pt x="5995" y="8971"/>
                  <a:pt x="5986" y="8987"/>
                  <a:pt x="5978" y="9004"/>
                </a:cubicBezTo>
              </a:path>
              <a:path w="12776" h="5409">
                <a:moveTo>
                  <a:pt x="6152" y="8508"/>
                </a:moveTo>
                <a:cubicBezTo>
                  <a:pt x="6122" y="8528"/>
                  <a:pt x="6109" y="8601"/>
                  <a:pt x="6127" y="8657"/>
                </a:cubicBezTo>
                <a:cubicBezTo>
                  <a:pt x="6151" y="8731"/>
                  <a:pt x="6221" y="8724"/>
                  <a:pt x="6276" y="8706"/>
                </a:cubicBezTo>
              </a:path>
              <a:path w="12776" h="5409">
                <a:moveTo>
                  <a:pt x="6251" y="8409"/>
                </a:moveTo>
                <a:cubicBezTo>
                  <a:pt x="6251" y="8548"/>
                  <a:pt x="6262" y="8671"/>
                  <a:pt x="6276" y="8806"/>
                </a:cubicBezTo>
                <a:cubicBezTo>
                  <a:pt x="6286" y="8901"/>
                  <a:pt x="6284" y="8985"/>
                  <a:pt x="6300" y="9079"/>
                </a:cubicBezTo>
                <a:cubicBezTo>
                  <a:pt x="6300" y="9112"/>
                  <a:pt x="6300" y="9128"/>
                  <a:pt x="6300" y="9153"/>
                </a:cubicBezTo>
              </a:path>
              <a:path w="12776" h="5409">
                <a:moveTo>
                  <a:pt x="6424" y="8483"/>
                </a:moveTo>
                <a:cubicBezTo>
                  <a:pt x="6408" y="8524"/>
                  <a:pt x="6399" y="8600"/>
                  <a:pt x="6474" y="8582"/>
                </a:cubicBezTo>
                <a:cubicBezTo>
                  <a:pt x="6553" y="8563"/>
                  <a:pt x="6563" y="8493"/>
                  <a:pt x="6524" y="8434"/>
                </a:cubicBezTo>
                <a:cubicBezTo>
                  <a:pt x="6500" y="8399"/>
                  <a:pt x="6480" y="8374"/>
                  <a:pt x="6449" y="8359"/>
                </a:cubicBezTo>
              </a:path>
              <a:path w="12776" h="5409">
                <a:moveTo>
                  <a:pt x="10790" y="9475"/>
                </a:moveTo>
                <a:cubicBezTo>
                  <a:pt x="11424" y="9475"/>
                  <a:pt x="12072" y="9510"/>
                  <a:pt x="12700" y="9451"/>
                </a:cubicBezTo>
                <a:cubicBezTo>
                  <a:pt x="12781" y="9443"/>
                  <a:pt x="12866" y="9451"/>
                  <a:pt x="12948" y="9451"/>
                </a:cubicBezTo>
                <a:cubicBezTo>
                  <a:pt x="12901" y="9369"/>
                  <a:pt x="12922" y="9386"/>
                  <a:pt x="12824" y="9376"/>
                </a:cubicBezTo>
              </a:path>
              <a:path w="12776" h="5409">
                <a:moveTo>
                  <a:pt x="11460" y="9674"/>
                </a:moveTo>
                <a:cubicBezTo>
                  <a:pt x="11382" y="9680"/>
                  <a:pt x="11334" y="9690"/>
                  <a:pt x="11261" y="9699"/>
                </a:cubicBezTo>
                <a:cubicBezTo>
                  <a:pt x="11331" y="9673"/>
                  <a:pt x="11384" y="9674"/>
                  <a:pt x="11460" y="9674"/>
                </a:cubicBezTo>
                <a:cubicBezTo>
                  <a:pt x="11551" y="9674"/>
                  <a:pt x="11642" y="9674"/>
                  <a:pt x="11733" y="9674"/>
                </a:cubicBezTo>
                <a:cubicBezTo>
                  <a:pt x="11687" y="9743"/>
                  <a:pt x="11679" y="9816"/>
                  <a:pt x="11658" y="9897"/>
                </a:cubicBezTo>
                <a:cubicBezTo>
                  <a:pt x="11634" y="9987"/>
                  <a:pt x="11633" y="10053"/>
                  <a:pt x="11633" y="10145"/>
                </a:cubicBezTo>
                <a:cubicBezTo>
                  <a:pt x="11633" y="10238"/>
                  <a:pt x="11625" y="10505"/>
                  <a:pt x="11658" y="10418"/>
                </a:cubicBezTo>
                <a:cubicBezTo>
                  <a:pt x="11658" y="10393"/>
                  <a:pt x="11658" y="10369"/>
                  <a:pt x="11658" y="10344"/>
                </a:cubicBezTo>
              </a:path>
              <a:path w="12776" h="5409">
                <a:moveTo>
                  <a:pt x="11931" y="9674"/>
                </a:moveTo>
                <a:cubicBezTo>
                  <a:pt x="12032" y="9644"/>
                  <a:pt x="12127" y="9607"/>
                  <a:pt x="12229" y="9599"/>
                </a:cubicBezTo>
                <a:cubicBezTo>
                  <a:pt x="12237" y="9599"/>
                  <a:pt x="12246" y="9599"/>
                  <a:pt x="12254" y="9599"/>
                </a:cubicBezTo>
              </a:path>
              <a:path w="12776" h="5409">
                <a:moveTo>
                  <a:pt x="12005" y="9599"/>
                </a:moveTo>
                <a:cubicBezTo>
                  <a:pt x="11920" y="9685"/>
                  <a:pt x="11886" y="9708"/>
                  <a:pt x="11881" y="9823"/>
                </a:cubicBezTo>
                <a:cubicBezTo>
                  <a:pt x="11881" y="9848"/>
                  <a:pt x="11881" y="9872"/>
                  <a:pt x="11881" y="9897"/>
                </a:cubicBezTo>
                <a:cubicBezTo>
                  <a:pt x="11927" y="9817"/>
                  <a:pt x="11938" y="9823"/>
                  <a:pt x="12030" y="9823"/>
                </a:cubicBezTo>
                <a:cubicBezTo>
                  <a:pt x="12101" y="9823"/>
                  <a:pt x="12205" y="9870"/>
                  <a:pt x="12254" y="9922"/>
                </a:cubicBezTo>
                <a:cubicBezTo>
                  <a:pt x="12301" y="9973"/>
                  <a:pt x="12331" y="10056"/>
                  <a:pt x="12353" y="10120"/>
                </a:cubicBezTo>
                <a:cubicBezTo>
                  <a:pt x="12388" y="10221"/>
                  <a:pt x="12438" y="10328"/>
                  <a:pt x="12328" y="10418"/>
                </a:cubicBezTo>
                <a:cubicBezTo>
                  <a:pt x="12293" y="10447"/>
                  <a:pt x="12109" y="10456"/>
                  <a:pt x="12055" y="10443"/>
                </a:cubicBezTo>
                <a:cubicBezTo>
                  <a:pt x="12016" y="10434"/>
                  <a:pt x="11900" y="10413"/>
                  <a:pt x="11931" y="10344"/>
                </a:cubicBezTo>
                <a:cubicBezTo>
                  <a:pt x="11948" y="10319"/>
                  <a:pt x="11964" y="10294"/>
                  <a:pt x="11981" y="10269"/>
                </a:cubicBezTo>
              </a:path>
              <a:path w="12776" h="5409">
                <a:moveTo>
                  <a:pt x="13246" y="9302"/>
                </a:moveTo>
                <a:cubicBezTo>
                  <a:pt x="13345" y="9302"/>
                  <a:pt x="13444" y="9302"/>
                  <a:pt x="13543" y="9302"/>
                </a:cubicBezTo>
              </a:path>
              <a:path w="12776" h="5409">
                <a:moveTo>
                  <a:pt x="13196" y="9451"/>
                </a:moveTo>
                <a:cubicBezTo>
                  <a:pt x="13304" y="9451"/>
                  <a:pt x="13411" y="9451"/>
                  <a:pt x="13519" y="9451"/>
                </a:cubicBezTo>
              </a:path>
              <a:path w="12776" h="5409">
                <a:moveTo>
                  <a:pt x="14461" y="8930"/>
                </a:moveTo>
                <a:cubicBezTo>
                  <a:pt x="14474" y="8885"/>
                  <a:pt x="14469" y="8830"/>
                  <a:pt x="14412" y="8806"/>
                </a:cubicBezTo>
                <a:cubicBezTo>
                  <a:pt x="14344" y="8777"/>
                  <a:pt x="14286" y="8833"/>
                  <a:pt x="14238" y="8855"/>
                </a:cubicBezTo>
                <a:cubicBezTo>
                  <a:pt x="14188" y="8880"/>
                  <a:pt x="14171" y="8888"/>
                  <a:pt x="14163" y="8930"/>
                </a:cubicBezTo>
                <a:cubicBezTo>
                  <a:pt x="14227" y="8992"/>
                  <a:pt x="14273" y="8983"/>
                  <a:pt x="14337" y="9029"/>
                </a:cubicBezTo>
                <a:cubicBezTo>
                  <a:pt x="14395" y="9071"/>
                  <a:pt x="14455" y="9117"/>
                  <a:pt x="14511" y="9153"/>
                </a:cubicBezTo>
                <a:cubicBezTo>
                  <a:pt x="14615" y="9220"/>
                  <a:pt x="14543" y="9290"/>
                  <a:pt x="14461" y="9302"/>
                </a:cubicBezTo>
                <a:cubicBezTo>
                  <a:pt x="14357" y="9318"/>
                  <a:pt x="14303" y="9300"/>
                  <a:pt x="14238" y="9252"/>
                </a:cubicBezTo>
                <a:cubicBezTo>
                  <a:pt x="14163" y="9197"/>
                  <a:pt x="14178" y="9266"/>
                  <a:pt x="14163" y="9178"/>
                </a:cubicBezTo>
              </a:path>
              <a:path w="12776" h="5409">
                <a:moveTo>
                  <a:pt x="14759" y="9004"/>
                </a:moveTo>
                <a:cubicBezTo>
                  <a:pt x="14751" y="9059"/>
                  <a:pt x="14704" y="9231"/>
                  <a:pt x="14734" y="9302"/>
                </a:cubicBezTo>
                <a:cubicBezTo>
                  <a:pt x="14757" y="9325"/>
                  <a:pt x="14765" y="9336"/>
                  <a:pt x="14759" y="9302"/>
                </a:cubicBezTo>
              </a:path>
              <a:path w="12776" h="5409">
                <a:moveTo>
                  <a:pt x="14759" y="8706"/>
                </a:moveTo>
                <a:cubicBezTo>
                  <a:pt x="14767" y="8690"/>
                  <a:pt x="14776" y="8673"/>
                  <a:pt x="14784" y="8657"/>
                </a:cubicBezTo>
              </a:path>
              <a:path w="12776" h="5409">
                <a:moveTo>
                  <a:pt x="14932" y="9004"/>
                </a:moveTo>
                <a:cubicBezTo>
                  <a:pt x="14932" y="9128"/>
                  <a:pt x="14932" y="9153"/>
                  <a:pt x="14932" y="9227"/>
                </a:cubicBezTo>
                <a:cubicBezTo>
                  <a:pt x="14932" y="9134"/>
                  <a:pt x="14934" y="9078"/>
                  <a:pt x="14957" y="9004"/>
                </a:cubicBezTo>
                <a:cubicBezTo>
                  <a:pt x="14969" y="8965"/>
                  <a:pt x="15030" y="8901"/>
                  <a:pt x="15056" y="8880"/>
                </a:cubicBezTo>
                <a:cubicBezTo>
                  <a:pt x="15148" y="8807"/>
                  <a:pt x="15174" y="8886"/>
                  <a:pt x="15230" y="8930"/>
                </a:cubicBezTo>
                <a:cubicBezTo>
                  <a:pt x="15287" y="8975"/>
                  <a:pt x="15299" y="9017"/>
                  <a:pt x="15304" y="9103"/>
                </a:cubicBezTo>
                <a:cubicBezTo>
                  <a:pt x="15308" y="9162"/>
                  <a:pt x="15286" y="9186"/>
                  <a:pt x="15329" y="9227"/>
                </a:cubicBezTo>
              </a:path>
              <a:path w="12776" h="5409">
                <a:moveTo>
                  <a:pt x="15503" y="8706"/>
                </a:moveTo>
                <a:cubicBezTo>
                  <a:pt x="15472" y="8810"/>
                  <a:pt x="15477" y="8795"/>
                  <a:pt x="15528" y="8880"/>
                </a:cubicBezTo>
                <a:cubicBezTo>
                  <a:pt x="15572" y="8953"/>
                  <a:pt x="15618" y="8930"/>
                  <a:pt x="15701" y="8930"/>
                </a:cubicBezTo>
                <a:cubicBezTo>
                  <a:pt x="15709" y="8930"/>
                  <a:pt x="15718" y="8930"/>
                  <a:pt x="15726" y="8930"/>
                </a:cubicBezTo>
              </a:path>
              <a:path w="12776" h="5409">
                <a:moveTo>
                  <a:pt x="15850" y="8558"/>
                </a:moveTo>
                <a:cubicBezTo>
                  <a:pt x="15843" y="8641"/>
                  <a:pt x="15821" y="8707"/>
                  <a:pt x="15801" y="8781"/>
                </a:cubicBezTo>
                <a:cubicBezTo>
                  <a:pt x="15778" y="8864"/>
                  <a:pt x="15750" y="8992"/>
                  <a:pt x="15776" y="9079"/>
                </a:cubicBezTo>
                <a:cubicBezTo>
                  <a:pt x="15791" y="9128"/>
                  <a:pt x="15816" y="9202"/>
                  <a:pt x="15825" y="9252"/>
                </a:cubicBezTo>
                <a:cubicBezTo>
                  <a:pt x="15831" y="9283"/>
                  <a:pt x="15824" y="9355"/>
                  <a:pt x="15850" y="9302"/>
                </a:cubicBezTo>
              </a:path>
              <a:path w="12776" h="5409">
                <a:moveTo>
                  <a:pt x="16073" y="8632"/>
                </a:moveTo>
                <a:cubicBezTo>
                  <a:pt x="16063" y="8733"/>
                  <a:pt x="16049" y="8852"/>
                  <a:pt x="16024" y="8954"/>
                </a:cubicBezTo>
                <a:cubicBezTo>
                  <a:pt x="16007" y="9025"/>
                  <a:pt x="15991" y="9087"/>
                  <a:pt x="16024" y="9153"/>
                </a:cubicBezTo>
                <a:cubicBezTo>
                  <a:pt x="16038" y="9181"/>
                  <a:pt x="16063" y="9284"/>
                  <a:pt x="16098" y="9302"/>
                </a:cubicBezTo>
                <a:cubicBezTo>
                  <a:pt x="16183" y="9344"/>
                  <a:pt x="16215" y="9255"/>
                  <a:pt x="16272" y="9227"/>
                </a:cubicBezTo>
                <a:cubicBezTo>
                  <a:pt x="16340" y="9193"/>
                  <a:pt x="16344" y="9143"/>
                  <a:pt x="16321" y="9079"/>
                </a:cubicBezTo>
                <a:cubicBezTo>
                  <a:pt x="16293" y="9002"/>
                  <a:pt x="16270" y="9004"/>
                  <a:pt x="16197" y="9004"/>
                </a:cubicBezTo>
                <a:cubicBezTo>
                  <a:pt x="16113" y="9004"/>
                  <a:pt x="16045" y="9081"/>
                  <a:pt x="16024" y="9153"/>
                </a:cubicBezTo>
                <a:cubicBezTo>
                  <a:pt x="16013" y="9192"/>
                  <a:pt x="16024" y="9265"/>
                  <a:pt x="16024" y="9302"/>
                </a:cubicBezTo>
              </a:path>
              <a:path w="12776" h="5409">
                <a:moveTo>
                  <a:pt x="13866" y="9401"/>
                </a:moveTo>
                <a:cubicBezTo>
                  <a:pt x="14006" y="9448"/>
                  <a:pt x="14091" y="9451"/>
                  <a:pt x="14238" y="9451"/>
                </a:cubicBezTo>
                <a:cubicBezTo>
                  <a:pt x="14464" y="9451"/>
                  <a:pt x="14684" y="9464"/>
                  <a:pt x="14908" y="9475"/>
                </a:cubicBezTo>
                <a:cubicBezTo>
                  <a:pt x="15115" y="9485"/>
                  <a:pt x="15323" y="9489"/>
                  <a:pt x="15528" y="9500"/>
                </a:cubicBezTo>
                <a:cubicBezTo>
                  <a:pt x="15710" y="9509"/>
                  <a:pt x="15893" y="9496"/>
                  <a:pt x="16073" y="9525"/>
                </a:cubicBezTo>
                <a:cubicBezTo>
                  <a:pt x="16085" y="9527"/>
                  <a:pt x="16400" y="9558"/>
                  <a:pt x="16247" y="9525"/>
                </a:cubicBezTo>
                <a:cubicBezTo>
                  <a:pt x="16230" y="9525"/>
                  <a:pt x="16214" y="9525"/>
                  <a:pt x="16197" y="9525"/>
                </a:cubicBezTo>
              </a:path>
              <a:path w="12776" h="5409">
                <a:moveTo>
                  <a:pt x="15081" y="9748"/>
                </a:moveTo>
                <a:cubicBezTo>
                  <a:pt x="15110" y="9855"/>
                  <a:pt x="15131" y="9936"/>
                  <a:pt x="15131" y="10046"/>
                </a:cubicBezTo>
                <a:cubicBezTo>
                  <a:pt x="15131" y="10195"/>
                  <a:pt x="15131" y="10343"/>
                  <a:pt x="15131" y="10492"/>
                </a:cubicBezTo>
                <a:cubicBezTo>
                  <a:pt x="15139" y="10437"/>
                  <a:pt x="15171" y="10393"/>
                  <a:pt x="15180" y="10344"/>
                </a:cubicBezTo>
                <a:cubicBezTo>
                  <a:pt x="15197" y="10256"/>
                  <a:pt x="15224" y="10282"/>
                  <a:pt x="15280" y="10220"/>
                </a:cubicBezTo>
                <a:cubicBezTo>
                  <a:pt x="15354" y="10138"/>
                  <a:pt x="15338" y="10169"/>
                  <a:pt x="15453" y="10195"/>
                </a:cubicBezTo>
                <a:cubicBezTo>
                  <a:pt x="15535" y="10213"/>
                  <a:pt x="15537" y="10281"/>
                  <a:pt x="15577" y="10344"/>
                </a:cubicBezTo>
                <a:cubicBezTo>
                  <a:pt x="15616" y="10406"/>
                  <a:pt x="15653" y="10441"/>
                  <a:pt x="15602" y="10492"/>
                </a:cubicBezTo>
                <a:cubicBezTo>
                  <a:pt x="15529" y="10565"/>
                  <a:pt x="15530" y="10581"/>
                  <a:pt x="15404" y="10592"/>
                </a:cubicBezTo>
                <a:cubicBezTo>
                  <a:pt x="15297" y="10601"/>
                  <a:pt x="15206" y="10580"/>
                  <a:pt x="15106" y="10567"/>
                </a:cubicBezTo>
              </a:path>
              <a:path w="12776" h="5409">
                <a:moveTo>
                  <a:pt x="12973" y="9103"/>
                </a:moveTo>
                <a:cubicBezTo>
                  <a:pt x="13050" y="9162"/>
                  <a:pt x="13140" y="9193"/>
                  <a:pt x="13221" y="9252"/>
                </a:cubicBezTo>
                <a:cubicBezTo>
                  <a:pt x="13295" y="9305"/>
                  <a:pt x="13362" y="9347"/>
                  <a:pt x="13444" y="9401"/>
                </a:cubicBezTo>
                <a:cubicBezTo>
                  <a:pt x="13550" y="9472"/>
                  <a:pt x="13675" y="9503"/>
                  <a:pt x="13767" y="9599"/>
                </a:cubicBezTo>
                <a:cubicBezTo>
                  <a:pt x="13870" y="9707"/>
                  <a:pt x="14010" y="9747"/>
                  <a:pt x="14139" y="9847"/>
                </a:cubicBezTo>
                <a:cubicBezTo>
                  <a:pt x="14152" y="9857"/>
                  <a:pt x="14338" y="9932"/>
                  <a:pt x="14337" y="9922"/>
                </a:cubicBezTo>
                <a:cubicBezTo>
                  <a:pt x="14337" y="9876"/>
                  <a:pt x="14325" y="9850"/>
                  <a:pt x="14288" y="9823"/>
                </a:cubicBezTo>
              </a:path>
              <a:path w="12776" h="5409">
                <a:moveTo>
                  <a:pt x="13767" y="8954"/>
                </a:moveTo>
                <a:cubicBezTo>
                  <a:pt x="13729" y="9040"/>
                  <a:pt x="13699" y="9081"/>
                  <a:pt x="13643" y="9153"/>
                </a:cubicBezTo>
                <a:cubicBezTo>
                  <a:pt x="13563" y="9256"/>
                  <a:pt x="13474" y="9335"/>
                  <a:pt x="13419" y="9451"/>
                </a:cubicBezTo>
                <a:cubicBezTo>
                  <a:pt x="13382" y="9529"/>
                  <a:pt x="13318" y="9600"/>
                  <a:pt x="13271" y="9674"/>
                </a:cubicBezTo>
                <a:cubicBezTo>
                  <a:pt x="13224" y="9749"/>
                  <a:pt x="13182" y="9794"/>
                  <a:pt x="13122" y="9847"/>
                </a:cubicBezTo>
                <a:cubicBezTo>
                  <a:pt x="13105" y="9864"/>
                  <a:pt x="13089" y="9880"/>
                  <a:pt x="13072" y="9897"/>
                </a:cubicBezTo>
              </a:path>
              <a:path w="12776" h="5409">
                <a:moveTo>
                  <a:pt x="10740" y="10815"/>
                </a:moveTo>
                <a:cubicBezTo>
                  <a:pt x="10805" y="10896"/>
                  <a:pt x="10769" y="10944"/>
                  <a:pt x="10790" y="11038"/>
                </a:cubicBezTo>
                <a:cubicBezTo>
                  <a:pt x="10805" y="11103"/>
                  <a:pt x="10801" y="11171"/>
                  <a:pt x="10815" y="11237"/>
                </a:cubicBezTo>
                <a:cubicBezTo>
                  <a:pt x="10835" y="11327"/>
                  <a:pt x="10852" y="11418"/>
                  <a:pt x="10864" y="11509"/>
                </a:cubicBezTo>
                <a:cubicBezTo>
                  <a:pt x="10874" y="11584"/>
                  <a:pt x="10878" y="11658"/>
                  <a:pt x="10889" y="11733"/>
                </a:cubicBezTo>
                <a:cubicBezTo>
                  <a:pt x="10904" y="11837"/>
                  <a:pt x="10889" y="11846"/>
                  <a:pt x="10889" y="11733"/>
                </a:cubicBezTo>
                <a:cubicBezTo>
                  <a:pt x="10889" y="11661"/>
                  <a:pt x="10892" y="11596"/>
                  <a:pt x="10914" y="11534"/>
                </a:cubicBezTo>
                <a:cubicBezTo>
                  <a:pt x="10946" y="11445"/>
                  <a:pt x="10970" y="11392"/>
                  <a:pt x="11038" y="11336"/>
                </a:cubicBezTo>
                <a:cubicBezTo>
                  <a:pt x="11095" y="11288"/>
                  <a:pt x="11116" y="11316"/>
                  <a:pt x="11162" y="11361"/>
                </a:cubicBezTo>
                <a:cubicBezTo>
                  <a:pt x="11213" y="11411"/>
                  <a:pt x="11217" y="11452"/>
                  <a:pt x="11237" y="11509"/>
                </a:cubicBezTo>
                <a:cubicBezTo>
                  <a:pt x="11260" y="11575"/>
                  <a:pt x="11278" y="11660"/>
                  <a:pt x="11261" y="11733"/>
                </a:cubicBezTo>
                <a:cubicBezTo>
                  <a:pt x="11240" y="11825"/>
                  <a:pt x="11135" y="11812"/>
                  <a:pt x="11088" y="11807"/>
                </a:cubicBezTo>
                <a:cubicBezTo>
                  <a:pt x="11030" y="11801"/>
                  <a:pt x="10935" y="11784"/>
                  <a:pt x="10889" y="11733"/>
                </a:cubicBezTo>
                <a:cubicBezTo>
                  <a:pt x="10889" y="11725"/>
                  <a:pt x="10889" y="11716"/>
                  <a:pt x="10889" y="11708"/>
                </a:cubicBezTo>
              </a:path>
              <a:path w="12776" h="5409">
                <a:moveTo>
                  <a:pt x="11584" y="11336"/>
                </a:moveTo>
                <a:cubicBezTo>
                  <a:pt x="11576" y="11336"/>
                  <a:pt x="11567" y="11336"/>
                  <a:pt x="11559" y="11336"/>
                </a:cubicBezTo>
              </a:path>
              <a:path w="12776" h="5409">
                <a:moveTo>
                  <a:pt x="12129" y="11311"/>
                </a:moveTo>
                <a:cubicBezTo>
                  <a:pt x="12118" y="11229"/>
                  <a:pt x="12092" y="11217"/>
                  <a:pt x="12005" y="11212"/>
                </a:cubicBezTo>
                <a:cubicBezTo>
                  <a:pt x="11949" y="11209"/>
                  <a:pt x="11855" y="11233"/>
                  <a:pt x="11881" y="11311"/>
                </a:cubicBezTo>
                <a:cubicBezTo>
                  <a:pt x="11903" y="11376"/>
                  <a:pt x="12007" y="11379"/>
                  <a:pt x="12055" y="11410"/>
                </a:cubicBezTo>
                <a:cubicBezTo>
                  <a:pt x="12096" y="11436"/>
                  <a:pt x="12143" y="11477"/>
                  <a:pt x="12179" y="11509"/>
                </a:cubicBezTo>
                <a:cubicBezTo>
                  <a:pt x="12227" y="11551"/>
                  <a:pt x="12274" y="11614"/>
                  <a:pt x="12254" y="11683"/>
                </a:cubicBezTo>
                <a:cubicBezTo>
                  <a:pt x="12234" y="11753"/>
                  <a:pt x="12128" y="11733"/>
                  <a:pt x="12080" y="11733"/>
                </a:cubicBezTo>
                <a:cubicBezTo>
                  <a:pt x="12032" y="11733"/>
                  <a:pt x="11938" y="11724"/>
                  <a:pt x="11906" y="11683"/>
                </a:cubicBezTo>
                <a:cubicBezTo>
                  <a:pt x="11898" y="11666"/>
                  <a:pt x="11889" y="11650"/>
                  <a:pt x="11881" y="11633"/>
                </a:cubicBezTo>
              </a:path>
              <a:path w="12776" h="5409">
                <a:moveTo>
                  <a:pt x="12452" y="11361"/>
                </a:moveTo>
                <a:cubicBezTo>
                  <a:pt x="12468" y="11453"/>
                  <a:pt x="12451" y="11596"/>
                  <a:pt x="12477" y="11683"/>
                </a:cubicBezTo>
                <a:cubicBezTo>
                  <a:pt x="12505" y="11711"/>
                  <a:pt x="12514" y="11715"/>
                  <a:pt x="12502" y="11658"/>
                </a:cubicBezTo>
              </a:path>
              <a:path w="12776" h="5409">
                <a:moveTo>
                  <a:pt x="12452" y="10988"/>
                </a:moveTo>
                <a:cubicBezTo>
                  <a:pt x="12452" y="10980"/>
                  <a:pt x="12452" y="10972"/>
                  <a:pt x="12452" y="10964"/>
                </a:cubicBezTo>
              </a:path>
              <a:path w="12776" h="5409">
                <a:moveTo>
                  <a:pt x="12650" y="11509"/>
                </a:moveTo>
                <a:cubicBezTo>
                  <a:pt x="12650" y="11526"/>
                  <a:pt x="12650" y="11542"/>
                  <a:pt x="12650" y="11559"/>
                </a:cubicBezTo>
                <a:cubicBezTo>
                  <a:pt x="12650" y="11466"/>
                  <a:pt x="12659" y="11418"/>
                  <a:pt x="12700" y="11336"/>
                </a:cubicBezTo>
                <a:cubicBezTo>
                  <a:pt x="12728" y="11280"/>
                  <a:pt x="12773" y="11214"/>
                  <a:pt x="12849" y="11237"/>
                </a:cubicBezTo>
                <a:cubicBezTo>
                  <a:pt x="12884" y="11247"/>
                  <a:pt x="12936" y="11334"/>
                  <a:pt x="12948" y="11361"/>
                </a:cubicBezTo>
                <a:cubicBezTo>
                  <a:pt x="12973" y="11416"/>
                  <a:pt x="13012" y="11507"/>
                  <a:pt x="13022" y="11559"/>
                </a:cubicBezTo>
                <a:cubicBezTo>
                  <a:pt x="13022" y="11609"/>
                  <a:pt x="13022" y="11625"/>
                  <a:pt x="13022" y="11658"/>
                </a:cubicBezTo>
              </a:path>
              <a:path w="12776" h="5409">
                <a:moveTo>
                  <a:pt x="13196" y="11088"/>
                </a:moveTo>
                <a:cubicBezTo>
                  <a:pt x="13229" y="11173"/>
                  <a:pt x="13201" y="11200"/>
                  <a:pt x="13196" y="11286"/>
                </a:cubicBezTo>
                <a:cubicBezTo>
                  <a:pt x="13192" y="11361"/>
                  <a:pt x="13183" y="11443"/>
                  <a:pt x="13221" y="11509"/>
                </a:cubicBezTo>
                <a:cubicBezTo>
                  <a:pt x="13250" y="11560"/>
                  <a:pt x="13316" y="11598"/>
                  <a:pt x="13370" y="11609"/>
                </a:cubicBezTo>
                <a:cubicBezTo>
                  <a:pt x="13409" y="11617"/>
                  <a:pt x="13482" y="11577"/>
                  <a:pt x="13494" y="11534"/>
                </a:cubicBezTo>
                <a:cubicBezTo>
                  <a:pt x="13509" y="11484"/>
                  <a:pt x="13491" y="11447"/>
                  <a:pt x="13469" y="11410"/>
                </a:cubicBezTo>
                <a:cubicBezTo>
                  <a:pt x="13374" y="11446"/>
                  <a:pt x="13370" y="11480"/>
                  <a:pt x="13370" y="11584"/>
                </a:cubicBezTo>
                <a:cubicBezTo>
                  <a:pt x="13370" y="11644"/>
                  <a:pt x="13389" y="11669"/>
                  <a:pt x="13444" y="11683"/>
                </a:cubicBezTo>
              </a:path>
              <a:path w="12776" h="5409">
                <a:moveTo>
                  <a:pt x="13568" y="11137"/>
                </a:moveTo>
                <a:cubicBezTo>
                  <a:pt x="13571" y="11191"/>
                  <a:pt x="13558" y="11311"/>
                  <a:pt x="13643" y="11336"/>
                </a:cubicBezTo>
                <a:cubicBezTo>
                  <a:pt x="13692" y="11336"/>
                  <a:pt x="13709" y="11336"/>
                  <a:pt x="13742" y="11336"/>
                </a:cubicBezTo>
              </a:path>
              <a:path w="12776" h="5409">
                <a:moveTo>
                  <a:pt x="13791" y="11088"/>
                </a:moveTo>
                <a:cubicBezTo>
                  <a:pt x="13791" y="11055"/>
                  <a:pt x="13791" y="11021"/>
                  <a:pt x="13791" y="10988"/>
                </a:cubicBezTo>
                <a:cubicBezTo>
                  <a:pt x="13800" y="11058"/>
                  <a:pt x="13816" y="11113"/>
                  <a:pt x="13816" y="11187"/>
                </a:cubicBezTo>
                <a:cubicBezTo>
                  <a:pt x="13816" y="11262"/>
                  <a:pt x="13829" y="11316"/>
                  <a:pt x="13841" y="11385"/>
                </a:cubicBezTo>
                <a:cubicBezTo>
                  <a:pt x="13856" y="11474"/>
                  <a:pt x="13851" y="11579"/>
                  <a:pt x="13866" y="11658"/>
                </a:cubicBezTo>
                <a:cubicBezTo>
                  <a:pt x="13877" y="11716"/>
                  <a:pt x="13858" y="11718"/>
                  <a:pt x="13915" y="11733"/>
                </a:cubicBezTo>
              </a:path>
              <a:path w="12776" h="5409">
                <a:moveTo>
                  <a:pt x="14139" y="11336"/>
                </a:moveTo>
                <a:cubicBezTo>
                  <a:pt x="14218" y="11316"/>
                  <a:pt x="14280" y="11311"/>
                  <a:pt x="14362" y="11311"/>
                </a:cubicBezTo>
              </a:path>
              <a:path w="12776" h="5409">
                <a:moveTo>
                  <a:pt x="14238" y="11460"/>
                </a:moveTo>
                <a:cubicBezTo>
                  <a:pt x="14347" y="11484"/>
                  <a:pt x="14407" y="11495"/>
                  <a:pt x="14511" y="11460"/>
                </a:cubicBezTo>
              </a:path>
              <a:path w="12776" h="5409">
                <a:moveTo>
                  <a:pt x="14660" y="11063"/>
                </a:moveTo>
                <a:cubicBezTo>
                  <a:pt x="14710" y="11032"/>
                  <a:pt x="14798" y="11017"/>
                  <a:pt x="14858" y="11013"/>
                </a:cubicBezTo>
                <a:cubicBezTo>
                  <a:pt x="14948" y="11008"/>
                  <a:pt x="15041" y="11013"/>
                  <a:pt x="15131" y="11013"/>
                </a:cubicBezTo>
                <a:cubicBezTo>
                  <a:pt x="15131" y="11175"/>
                  <a:pt x="15136" y="11326"/>
                  <a:pt x="15156" y="11485"/>
                </a:cubicBezTo>
                <a:cubicBezTo>
                  <a:pt x="15164" y="11545"/>
                  <a:pt x="15129" y="11747"/>
                  <a:pt x="15180" y="11708"/>
                </a:cubicBezTo>
                <a:cubicBezTo>
                  <a:pt x="15188" y="11700"/>
                  <a:pt x="15197" y="11691"/>
                  <a:pt x="15205" y="11683"/>
                </a:cubicBezTo>
              </a:path>
              <a:path w="12776" h="5409">
                <a:moveTo>
                  <a:pt x="15453" y="10988"/>
                </a:moveTo>
                <a:cubicBezTo>
                  <a:pt x="15538" y="10968"/>
                  <a:pt x="15617" y="10950"/>
                  <a:pt x="15701" y="10939"/>
                </a:cubicBezTo>
              </a:path>
              <a:path w="12776" h="5409">
                <a:moveTo>
                  <a:pt x="15453" y="10914"/>
                </a:moveTo>
                <a:cubicBezTo>
                  <a:pt x="15421" y="10971"/>
                  <a:pt x="15358" y="11040"/>
                  <a:pt x="15379" y="11112"/>
                </a:cubicBezTo>
                <a:cubicBezTo>
                  <a:pt x="15392" y="11156"/>
                  <a:pt x="15455" y="11226"/>
                  <a:pt x="15503" y="11237"/>
                </a:cubicBezTo>
                <a:cubicBezTo>
                  <a:pt x="15581" y="11255"/>
                  <a:pt x="15648" y="11228"/>
                  <a:pt x="15726" y="11261"/>
                </a:cubicBezTo>
                <a:cubicBezTo>
                  <a:pt x="15771" y="11280"/>
                  <a:pt x="15842" y="11356"/>
                  <a:pt x="15850" y="11410"/>
                </a:cubicBezTo>
                <a:cubicBezTo>
                  <a:pt x="15860" y="11478"/>
                  <a:pt x="15869" y="11650"/>
                  <a:pt x="15825" y="11708"/>
                </a:cubicBezTo>
                <a:cubicBezTo>
                  <a:pt x="15794" y="11749"/>
                  <a:pt x="15700" y="11775"/>
                  <a:pt x="15652" y="11757"/>
                </a:cubicBezTo>
                <a:cubicBezTo>
                  <a:pt x="15604" y="11739"/>
                  <a:pt x="15566" y="11737"/>
                  <a:pt x="15553" y="11683"/>
                </a:cubicBezTo>
              </a:path>
              <a:path w="12776" h="5409">
                <a:moveTo>
                  <a:pt x="16098" y="11385"/>
                </a:moveTo>
                <a:cubicBezTo>
                  <a:pt x="16106" y="11377"/>
                  <a:pt x="16115" y="11369"/>
                  <a:pt x="16123" y="11361"/>
                </a:cubicBezTo>
              </a:path>
              <a:path w="12776" h="5409">
                <a:moveTo>
                  <a:pt x="16669" y="11112"/>
                </a:moveTo>
                <a:cubicBezTo>
                  <a:pt x="16613" y="11058"/>
                  <a:pt x="16551" y="11044"/>
                  <a:pt x="16470" y="11063"/>
                </a:cubicBezTo>
                <a:cubicBezTo>
                  <a:pt x="16417" y="11090"/>
                  <a:pt x="16397" y="11102"/>
                  <a:pt x="16371" y="11137"/>
                </a:cubicBezTo>
                <a:cubicBezTo>
                  <a:pt x="16410" y="11185"/>
                  <a:pt x="16459" y="11219"/>
                  <a:pt x="16495" y="11261"/>
                </a:cubicBezTo>
                <a:cubicBezTo>
                  <a:pt x="16544" y="11319"/>
                  <a:pt x="16588" y="11379"/>
                  <a:pt x="16644" y="11435"/>
                </a:cubicBezTo>
                <a:cubicBezTo>
                  <a:pt x="16672" y="11463"/>
                  <a:pt x="16749" y="11564"/>
                  <a:pt x="16718" y="11609"/>
                </a:cubicBezTo>
                <a:cubicBezTo>
                  <a:pt x="16670" y="11678"/>
                  <a:pt x="16567" y="11607"/>
                  <a:pt x="16520" y="11584"/>
                </a:cubicBezTo>
                <a:cubicBezTo>
                  <a:pt x="16469" y="11558"/>
                  <a:pt x="16435" y="11538"/>
                  <a:pt x="16421" y="11485"/>
                </a:cubicBezTo>
              </a:path>
              <a:path w="12776" h="5409">
                <a:moveTo>
                  <a:pt x="16942" y="11212"/>
                </a:moveTo>
                <a:cubicBezTo>
                  <a:pt x="16961" y="11283"/>
                  <a:pt x="16987" y="11343"/>
                  <a:pt x="16991" y="11410"/>
                </a:cubicBezTo>
                <a:cubicBezTo>
                  <a:pt x="16995" y="11480"/>
                  <a:pt x="17034" y="11612"/>
                  <a:pt x="16991" y="11534"/>
                </a:cubicBezTo>
                <a:cubicBezTo>
                  <a:pt x="16983" y="11526"/>
                  <a:pt x="16974" y="11517"/>
                  <a:pt x="16966" y="11509"/>
                </a:cubicBezTo>
              </a:path>
              <a:path w="12776" h="5409">
                <a:moveTo>
                  <a:pt x="16867" y="10840"/>
                </a:moveTo>
                <a:cubicBezTo>
                  <a:pt x="16892" y="10790"/>
                  <a:pt x="16900" y="10773"/>
                  <a:pt x="16917" y="10740"/>
                </a:cubicBezTo>
              </a:path>
              <a:path w="12776" h="5409">
                <a:moveTo>
                  <a:pt x="17165" y="11212"/>
                </a:moveTo>
                <a:cubicBezTo>
                  <a:pt x="17179" y="11316"/>
                  <a:pt x="17190" y="11387"/>
                  <a:pt x="17190" y="11485"/>
                </a:cubicBezTo>
                <a:cubicBezTo>
                  <a:pt x="17199" y="11394"/>
                  <a:pt x="17228" y="11303"/>
                  <a:pt x="17239" y="11212"/>
                </a:cubicBezTo>
                <a:cubicBezTo>
                  <a:pt x="17249" y="11124"/>
                  <a:pt x="17226" y="11083"/>
                  <a:pt x="17289" y="11013"/>
                </a:cubicBezTo>
                <a:cubicBezTo>
                  <a:pt x="17310" y="10990"/>
                  <a:pt x="17391" y="10998"/>
                  <a:pt x="17413" y="11038"/>
                </a:cubicBezTo>
                <a:cubicBezTo>
                  <a:pt x="17449" y="11102"/>
                  <a:pt x="17462" y="11156"/>
                  <a:pt x="17512" y="11212"/>
                </a:cubicBezTo>
                <a:cubicBezTo>
                  <a:pt x="17555" y="11260"/>
                  <a:pt x="17536" y="11330"/>
                  <a:pt x="17562" y="11385"/>
                </a:cubicBezTo>
                <a:cubicBezTo>
                  <a:pt x="17579" y="11421"/>
                  <a:pt x="17587" y="11558"/>
                  <a:pt x="17611" y="11509"/>
                </a:cubicBezTo>
              </a:path>
              <a:path w="12776" h="5409">
                <a:moveTo>
                  <a:pt x="17686" y="10840"/>
                </a:moveTo>
                <a:cubicBezTo>
                  <a:pt x="17686" y="10916"/>
                  <a:pt x="17690" y="10972"/>
                  <a:pt x="17735" y="11038"/>
                </a:cubicBezTo>
                <a:cubicBezTo>
                  <a:pt x="17749" y="11059"/>
                  <a:pt x="17811" y="11130"/>
                  <a:pt x="17835" y="11137"/>
                </a:cubicBezTo>
                <a:cubicBezTo>
                  <a:pt x="17879" y="11137"/>
                  <a:pt x="17893" y="11140"/>
                  <a:pt x="17909" y="11112"/>
                </a:cubicBezTo>
              </a:path>
              <a:path w="12776" h="5409">
                <a:moveTo>
                  <a:pt x="17959" y="10691"/>
                </a:moveTo>
                <a:cubicBezTo>
                  <a:pt x="17933" y="10767"/>
                  <a:pt x="17934" y="10832"/>
                  <a:pt x="17934" y="10914"/>
                </a:cubicBezTo>
                <a:cubicBezTo>
                  <a:pt x="17934" y="11014"/>
                  <a:pt x="17945" y="11092"/>
                  <a:pt x="17959" y="11187"/>
                </a:cubicBezTo>
                <a:cubicBezTo>
                  <a:pt x="17972" y="11277"/>
                  <a:pt x="17998" y="11373"/>
                  <a:pt x="18008" y="11460"/>
                </a:cubicBezTo>
                <a:cubicBezTo>
                  <a:pt x="18008" y="11526"/>
                  <a:pt x="18008" y="11559"/>
                  <a:pt x="18008" y="11485"/>
                </a:cubicBezTo>
              </a:path>
              <a:path w="12776" h="5409">
                <a:moveTo>
                  <a:pt x="18207" y="10740"/>
                </a:moveTo>
                <a:cubicBezTo>
                  <a:pt x="18207" y="10832"/>
                  <a:pt x="18186" y="10899"/>
                  <a:pt x="18182" y="10988"/>
                </a:cubicBezTo>
                <a:cubicBezTo>
                  <a:pt x="18177" y="11095"/>
                  <a:pt x="18220" y="11168"/>
                  <a:pt x="18256" y="11261"/>
                </a:cubicBezTo>
                <a:cubicBezTo>
                  <a:pt x="18291" y="11350"/>
                  <a:pt x="18335" y="11404"/>
                  <a:pt x="18380" y="11485"/>
                </a:cubicBezTo>
                <a:cubicBezTo>
                  <a:pt x="18398" y="11517"/>
                  <a:pt x="18463" y="11597"/>
                  <a:pt x="18504" y="11609"/>
                </a:cubicBezTo>
                <a:cubicBezTo>
                  <a:pt x="18549" y="11609"/>
                  <a:pt x="18562" y="11612"/>
                  <a:pt x="18579" y="11584"/>
                </a:cubicBezTo>
                <a:cubicBezTo>
                  <a:pt x="18545" y="11506"/>
                  <a:pt x="18481" y="11493"/>
                  <a:pt x="18380" y="11509"/>
                </a:cubicBezTo>
                <a:cubicBezTo>
                  <a:pt x="18268" y="11527"/>
                  <a:pt x="18186" y="11592"/>
                  <a:pt x="18083" y="11633"/>
                </a:cubicBezTo>
                <a:cubicBezTo>
                  <a:pt x="18058" y="11641"/>
                  <a:pt x="18033" y="11650"/>
                  <a:pt x="18008" y="11658"/>
                </a:cubicBezTo>
              </a:path>
              <a:path w="12776" h="5409">
                <a:moveTo>
                  <a:pt x="10666" y="11981"/>
                </a:moveTo>
                <a:cubicBezTo>
                  <a:pt x="10773" y="11981"/>
                  <a:pt x="10862" y="11967"/>
                  <a:pt x="10964" y="11956"/>
                </a:cubicBezTo>
                <a:cubicBezTo>
                  <a:pt x="11133" y="11937"/>
                  <a:pt x="11315" y="11943"/>
                  <a:pt x="11485" y="11931"/>
                </a:cubicBezTo>
                <a:cubicBezTo>
                  <a:pt x="11724" y="11914"/>
                  <a:pt x="11964" y="11909"/>
                  <a:pt x="12204" y="11906"/>
                </a:cubicBezTo>
                <a:cubicBezTo>
                  <a:pt x="12437" y="11903"/>
                  <a:pt x="12664" y="11881"/>
                  <a:pt x="12898" y="11881"/>
                </a:cubicBezTo>
                <a:cubicBezTo>
                  <a:pt x="13132" y="11881"/>
                  <a:pt x="13360" y="11901"/>
                  <a:pt x="13593" y="11906"/>
                </a:cubicBezTo>
                <a:cubicBezTo>
                  <a:pt x="13764" y="11909"/>
                  <a:pt x="13922" y="11897"/>
                  <a:pt x="14089" y="11857"/>
                </a:cubicBezTo>
                <a:cubicBezTo>
                  <a:pt x="14090" y="11857"/>
                  <a:pt x="14238" y="11812"/>
                  <a:pt x="14213" y="11782"/>
                </a:cubicBezTo>
                <a:cubicBezTo>
                  <a:pt x="14188" y="11782"/>
                  <a:pt x="14164" y="11782"/>
                  <a:pt x="14139" y="1178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Ink 6"/>
          <p:cNvSpPr/>
          <p:nvPr/>
        </p:nvSpPr>
        <p:spPr>
          <a:xfrm>
            <a:off x="3857760" y="3036960"/>
            <a:ext cx="822240" cy="365040"/>
          </a:xfrm>
          <a:custGeom>
            <a:avLst/>
            <a:gdLst/>
            <a:ahLst/>
            <a:rect l="l" t="t" r="r" b="b"/>
            <a:pathLst>
              <a:path w="2283" h="1018">
                <a:moveTo>
                  <a:pt x="11013" y="8930"/>
                </a:moveTo>
                <a:cubicBezTo>
                  <a:pt x="11064" y="8942"/>
                  <a:pt x="11059" y="8953"/>
                  <a:pt x="11088" y="9004"/>
                </a:cubicBezTo>
                <a:cubicBezTo>
                  <a:pt x="11029" y="8902"/>
                  <a:pt x="11027" y="8983"/>
                  <a:pt x="10964" y="8930"/>
                </a:cubicBezTo>
                <a:cubicBezTo>
                  <a:pt x="10870" y="8851"/>
                  <a:pt x="10867" y="8883"/>
                  <a:pt x="10765" y="8930"/>
                </a:cubicBezTo>
                <a:cubicBezTo>
                  <a:pt x="10717" y="8952"/>
                  <a:pt x="10690" y="8942"/>
                  <a:pt x="10716" y="9029"/>
                </a:cubicBezTo>
                <a:cubicBezTo>
                  <a:pt x="10745" y="9125"/>
                  <a:pt x="10817" y="9056"/>
                  <a:pt x="10889" y="9079"/>
                </a:cubicBezTo>
                <a:cubicBezTo>
                  <a:pt x="10950" y="9099"/>
                  <a:pt x="11030" y="9127"/>
                  <a:pt x="11088" y="9153"/>
                </a:cubicBezTo>
                <a:cubicBezTo>
                  <a:pt x="11147" y="9179"/>
                  <a:pt x="11142" y="9262"/>
                  <a:pt x="11162" y="9302"/>
                </a:cubicBezTo>
                <a:cubicBezTo>
                  <a:pt x="11203" y="9384"/>
                  <a:pt x="11148" y="9438"/>
                  <a:pt x="11063" y="9451"/>
                </a:cubicBezTo>
                <a:cubicBezTo>
                  <a:pt x="10999" y="9461"/>
                  <a:pt x="10936" y="9426"/>
                  <a:pt x="10889" y="9401"/>
                </a:cubicBezTo>
                <a:cubicBezTo>
                  <a:pt x="10832" y="9370"/>
                  <a:pt x="10793" y="9355"/>
                  <a:pt x="10740" y="9302"/>
                </a:cubicBezTo>
              </a:path>
              <a:path w="2283" h="1018">
                <a:moveTo>
                  <a:pt x="11361" y="8930"/>
                </a:moveTo>
                <a:cubicBezTo>
                  <a:pt x="11380" y="9028"/>
                  <a:pt x="11406" y="9129"/>
                  <a:pt x="11410" y="9227"/>
                </a:cubicBezTo>
                <a:cubicBezTo>
                  <a:pt x="11414" y="9334"/>
                  <a:pt x="11457" y="9320"/>
                  <a:pt x="11385" y="9302"/>
                </a:cubicBezTo>
              </a:path>
              <a:path w="2283" h="1018">
                <a:moveTo>
                  <a:pt x="11336" y="8632"/>
                </a:moveTo>
                <a:cubicBezTo>
                  <a:pt x="11344" y="8615"/>
                  <a:pt x="11353" y="8599"/>
                  <a:pt x="11361" y="8582"/>
                </a:cubicBezTo>
              </a:path>
              <a:path w="2283" h="1018">
                <a:moveTo>
                  <a:pt x="11559" y="9079"/>
                </a:moveTo>
                <a:cubicBezTo>
                  <a:pt x="11559" y="9153"/>
                  <a:pt x="11559" y="9228"/>
                  <a:pt x="11559" y="9302"/>
                </a:cubicBezTo>
                <a:cubicBezTo>
                  <a:pt x="11559" y="9222"/>
                  <a:pt x="11573" y="9156"/>
                  <a:pt x="11584" y="9079"/>
                </a:cubicBezTo>
                <a:cubicBezTo>
                  <a:pt x="11589" y="9040"/>
                  <a:pt x="11596" y="8953"/>
                  <a:pt x="11633" y="8930"/>
                </a:cubicBezTo>
                <a:cubicBezTo>
                  <a:pt x="11742" y="8862"/>
                  <a:pt x="11704" y="8896"/>
                  <a:pt x="11807" y="8930"/>
                </a:cubicBezTo>
                <a:cubicBezTo>
                  <a:pt x="11898" y="8960"/>
                  <a:pt x="11855" y="9004"/>
                  <a:pt x="11906" y="9079"/>
                </a:cubicBezTo>
                <a:cubicBezTo>
                  <a:pt x="11935" y="9123"/>
                  <a:pt x="11947" y="9205"/>
                  <a:pt x="11956" y="9252"/>
                </a:cubicBezTo>
                <a:cubicBezTo>
                  <a:pt x="11956" y="9294"/>
                  <a:pt x="11956" y="9302"/>
                  <a:pt x="11956" y="9327"/>
                </a:cubicBezTo>
              </a:path>
              <a:path w="2283" h="1018">
                <a:moveTo>
                  <a:pt x="12105" y="8706"/>
                </a:moveTo>
                <a:cubicBezTo>
                  <a:pt x="12128" y="8730"/>
                  <a:pt x="12146" y="8822"/>
                  <a:pt x="12129" y="8880"/>
                </a:cubicBezTo>
                <a:cubicBezTo>
                  <a:pt x="12108" y="8951"/>
                  <a:pt x="12105" y="9001"/>
                  <a:pt x="12105" y="9079"/>
                </a:cubicBezTo>
                <a:cubicBezTo>
                  <a:pt x="12105" y="9152"/>
                  <a:pt x="12123" y="9194"/>
                  <a:pt x="12154" y="9252"/>
                </a:cubicBezTo>
                <a:cubicBezTo>
                  <a:pt x="12180" y="9301"/>
                  <a:pt x="12295" y="9344"/>
                  <a:pt x="12353" y="9302"/>
                </a:cubicBezTo>
                <a:cubicBezTo>
                  <a:pt x="12403" y="9266"/>
                  <a:pt x="12424" y="9202"/>
                  <a:pt x="12427" y="9153"/>
                </a:cubicBezTo>
                <a:cubicBezTo>
                  <a:pt x="12431" y="9070"/>
                  <a:pt x="12396" y="9079"/>
                  <a:pt x="12328" y="9079"/>
                </a:cubicBezTo>
                <a:cubicBezTo>
                  <a:pt x="12249" y="9079"/>
                  <a:pt x="12257" y="9172"/>
                  <a:pt x="12254" y="9227"/>
                </a:cubicBezTo>
                <a:cubicBezTo>
                  <a:pt x="12251" y="9275"/>
                  <a:pt x="12271" y="9286"/>
                  <a:pt x="12303" y="9302"/>
                </a:cubicBezTo>
              </a:path>
              <a:path w="2283" h="1018">
                <a:moveTo>
                  <a:pt x="12452" y="8706"/>
                </a:moveTo>
                <a:cubicBezTo>
                  <a:pt x="12457" y="8761"/>
                  <a:pt x="12453" y="8886"/>
                  <a:pt x="12502" y="8930"/>
                </a:cubicBezTo>
                <a:cubicBezTo>
                  <a:pt x="12516" y="8943"/>
                  <a:pt x="12607" y="8930"/>
                  <a:pt x="12626" y="8930"/>
                </a:cubicBezTo>
              </a:path>
              <a:path w="2283" h="1018">
                <a:moveTo>
                  <a:pt x="12675" y="8558"/>
                </a:moveTo>
                <a:cubicBezTo>
                  <a:pt x="12654" y="8662"/>
                  <a:pt x="12650" y="8749"/>
                  <a:pt x="12650" y="8855"/>
                </a:cubicBezTo>
                <a:cubicBezTo>
                  <a:pt x="12650" y="8935"/>
                  <a:pt x="12666" y="9002"/>
                  <a:pt x="12675" y="9079"/>
                </a:cubicBezTo>
                <a:cubicBezTo>
                  <a:pt x="12684" y="9162"/>
                  <a:pt x="12672" y="9245"/>
                  <a:pt x="12700" y="9327"/>
                </a:cubicBezTo>
                <a:cubicBezTo>
                  <a:pt x="12700" y="9319"/>
                  <a:pt x="12700" y="9310"/>
                  <a:pt x="12700" y="9302"/>
                </a:cubicBezTo>
              </a:path>
              <a:path w="2283" h="1018">
                <a:moveTo>
                  <a:pt x="12849" y="8508"/>
                </a:moveTo>
                <a:cubicBezTo>
                  <a:pt x="12838" y="8540"/>
                  <a:pt x="12794" y="8675"/>
                  <a:pt x="12874" y="8657"/>
                </a:cubicBezTo>
                <a:cubicBezTo>
                  <a:pt x="12916" y="8647"/>
                  <a:pt x="12984" y="8610"/>
                  <a:pt x="12998" y="8558"/>
                </a:cubicBezTo>
                <a:cubicBezTo>
                  <a:pt x="12998" y="8541"/>
                  <a:pt x="12998" y="8525"/>
                  <a:pt x="12998" y="8508"/>
                </a:cubicBezTo>
                <a:cubicBezTo>
                  <a:pt x="12950" y="8472"/>
                  <a:pt x="12936" y="8440"/>
                  <a:pt x="12874" y="8434"/>
                </a:cubicBezTo>
                <a:cubicBezTo>
                  <a:pt x="12849" y="8434"/>
                  <a:pt x="12824" y="8434"/>
                  <a:pt x="12799" y="8434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Ink 7"/>
          <p:cNvSpPr/>
          <p:nvPr/>
        </p:nvSpPr>
        <p:spPr>
          <a:xfrm>
            <a:off x="1170000" y="2847960"/>
            <a:ext cx="1044720" cy="1305000"/>
          </a:xfrm>
          <a:custGeom>
            <a:avLst/>
            <a:gdLst/>
            <a:ahLst/>
            <a:rect l="l" t="t" r="r" b="b"/>
            <a:pathLst>
              <a:path w="2904" h="3622">
                <a:moveTo>
                  <a:pt x="3274" y="11534"/>
                </a:moveTo>
                <a:cubicBezTo>
                  <a:pt x="3284" y="11501"/>
                  <a:pt x="3287" y="11443"/>
                  <a:pt x="3324" y="11385"/>
                </a:cubicBezTo>
                <a:cubicBezTo>
                  <a:pt x="3387" y="11286"/>
                  <a:pt x="3482" y="11209"/>
                  <a:pt x="3547" y="11112"/>
                </a:cubicBezTo>
                <a:cubicBezTo>
                  <a:pt x="3595" y="11040"/>
                  <a:pt x="3638" y="10984"/>
                  <a:pt x="3696" y="10914"/>
                </a:cubicBezTo>
                <a:cubicBezTo>
                  <a:pt x="3769" y="10826"/>
                  <a:pt x="3825" y="10729"/>
                  <a:pt x="3894" y="10641"/>
                </a:cubicBezTo>
                <a:cubicBezTo>
                  <a:pt x="3974" y="10539"/>
                  <a:pt x="4061" y="10450"/>
                  <a:pt x="4142" y="10344"/>
                </a:cubicBezTo>
                <a:cubicBezTo>
                  <a:pt x="4217" y="10246"/>
                  <a:pt x="4282" y="10139"/>
                  <a:pt x="4366" y="10046"/>
                </a:cubicBezTo>
                <a:cubicBezTo>
                  <a:pt x="4491" y="9908"/>
                  <a:pt x="4597" y="9778"/>
                  <a:pt x="4713" y="9624"/>
                </a:cubicBezTo>
                <a:cubicBezTo>
                  <a:pt x="4793" y="9518"/>
                  <a:pt x="4867" y="9394"/>
                  <a:pt x="4961" y="9302"/>
                </a:cubicBezTo>
                <a:cubicBezTo>
                  <a:pt x="5098" y="9168"/>
                  <a:pt x="5216" y="9034"/>
                  <a:pt x="5333" y="8880"/>
                </a:cubicBezTo>
                <a:cubicBezTo>
                  <a:pt x="5436" y="8744"/>
                  <a:pt x="5577" y="8636"/>
                  <a:pt x="5680" y="8508"/>
                </a:cubicBezTo>
                <a:cubicBezTo>
                  <a:pt x="5768" y="8399"/>
                  <a:pt x="5832" y="8306"/>
                  <a:pt x="5928" y="8210"/>
                </a:cubicBezTo>
                <a:cubicBezTo>
                  <a:pt x="5982" y="8156"/>
                  <a:pt x="6031" y="8127"/>
                  <a:pt x="6077" y="8062"/>
                </a:cubicBezTo>
                <a:cubicBezTo>
                  <a:pt x="6111" y="8013"/>
                  <a:pt x="6128" y="7963"/>
                  <a:pt x="6152" y="791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Ink 8"/>
          <p:cNvSpPr/>
          <p:nvPr/>
        </p:nvSpPr>
        <p:spPr>
          <a:xfrm>
            <a:off x="1133640" y="3875040"/>
            <a:ext cx="1554120" cy="669960"/>
          </a:xfrm>
          <a:custGeom>
            <a:avLst/>
            <a:gdLst/>
            <a:ahLst/>
            <a:rect l="l" t="t" r="r" b="b"/>
            <a:pathLst>
              <a:path w="4317" h="1862">
                <a:moveTo>
                  <a:pt x="3299" y="11683"/>
                </a:moveTo>
                <a:cubicBezTo>
                  <a:pt x="3369" y="11665"/>
                  <a:pt x="3438" y="11658"/>
                  <a:pt x="3522" y="11658"/>
                </a:cubicBezTo>
                <a:cubicBezTo>
                  <a:pt x="3606" y="11658"/>
                  <a:pt x="3703" y="11637"/>
                  <a:pt x="3770" y="11633"/>
                </a:cubicBezTo>
                <a:cubicBezTo>
                  <a:pt x="3893" y="11625"/>
                  <a:pt x="4026" y="11617"/>
                  <a:pt x="4142" y="11609"/>
                </a:cubicBezTo>
                <a:cubicBezTo>
                  <a:pt x="4301" y="11598"/>
                  <a:pt x="4458" y="11600"/>
                  <a:pt x="4614" y="11584"/>
                </a:cubicBezTo>
                <a:cubicBezTo>
                  <a:pt x="4718" y="11573"/>
                  <a:pt x="4838" y="11567"/>
                  <a:pt x="4936" y="11559"/>
                </a:cubicBezTo>
                <a:cubicBezTo>
                  <a:pt x="5077" y="11548"/>
                  <a:pt x="5220" y="11547"/>
                  <a:pt x="5358" y="11534"/>
                </a:cubicBezTo>
                <a:cubicBezTo>
                  <a:pt x="5687" y="11504"/>
                  <a:pt x="6024" y="11546"/>
                  <a:pt x="6350" y="11509"/>
                </a:cubicBezTo>
                <a:cubicBezTo>
                  <a:pt x="6479" y="11494"/>
                  <a:pt x="6619" y="11496"/>
                  <a:pt x="6747" y="11485"/>
                </a:cubicBezTo>
                <a:cubicBezTo>
                  <a:pt x="6788" y="11481"/>
                  <a:pt x="6893" y="11488"/>
                  <a:pt x="6921" y="11460"/>
                </a:cubicBezTo>
                <a:cubicBezTo>
                  <a:pt x="6970" y="11411"/>
                  <a:pt x="6915" y="11430"/>
                  <a:pt x="6896" y="11385"/>
                </a:cubicBezTo>
              </a:path>
              <a:path w="4317" h="1862">
                <a:moveTo>
                  <a:pt x="3621" y="11088"/>
                </a:moveTo>
                <a:cubicBezTo>
                  <a:pt x="3726" y="11088"/>
                  <a:pt x="3817" y="11077"/>
                  <a:pt x="3919" y="11063"/>
                </a:cubicBezTo>
                <a:cubicBezTo>
                  <a:pt x="3964" y="11063"/>
                  <a:pt x="3977" y="11060"/>
                  <a:pt x="3994" y="11088"/>
                </a:cubicBezTo>
                <a:cubicBezTo>
                  <a:pt x="3942" y="11151"/>
                  <a:pt x="3930" y="11230"/>
                  <a:pt x="3919" y="11311"/>
                </a:cubicBezTo>
                <a:cubicBezTo>
                  <a:pt x="3915" y="11340"/>
                  <a:pt x="3901" y="11534"/>
                  <a:pt x="3944" y="11534"/>
                </a:cubicBezTo>
                <a:cubicBezTo>
                  <a:pt x="3952" y="11526"/>
                  <a:pt x="3961" y="11517"/>
                  <a:pt x="3969" y="11509"/>
                </a:cubicBezTo>
              </a:path>
              <a:path w="4317" h="1862">
                <a:moveTo>
                  <a:pt x="4167" y="10988"/>
                </a:moveTo>
                <a:cubicBezTo>
                  <a:pt x="4167" y="11071"/>
                  <a:pt x="4155" y="11136"/>
                  <a:pt x="4142" y="11212"/>
                </a:cubicBezTo>
                <a:cubicBezTo>
                  <a:pt x="4133" y="11263"/>
                  <a:pt x="4165" y="11366"/>
                  <a:pt x="4192" y="11410"/>
                </a:cubicBezTo>
                <a:cubicBezTo>
                  <a:pt x="4216" y="11448"/>
                  <a:pt x="4298" y="11493"/>
                  <a:pt x="4341" y="11460"/>
                </a:cubicBezTo>
                <a:cubicBezTo>
                  <a:pt x="4367" y="11440"/>
                  <a:pt x="4412" y="11335"/>
                  <a:pt x="4415" y="11311"/>
                </a:cubicBezTo>
                <a:cubicBezTo>
                  <a:pt x="4427" y="11208"/>
                  <a:pt x="4410" y="11151"/>
                  <a:pt x="4366" y="11063"/>
                </a:cubicBezTo>
                <a:cubicBezTo>
                  <a:pt x="4318" y="10966"/>
                  <a:pt x="4310" y="10970"/>
                  <a:pt x="4217" y="10939"/>
                </a:cubicBezTo>
                <a:cubicBezTo>
                  <a:pt x="4155" y="10918"/>
                  <a:pt x="4157" y="10902"/>
                  <a:pt x="4142" y="10964"/>
                </a:cubicBezTo>
              </a:path>
              <a:path w="4317" h="1862">
                <a:moveTo>
                  <a:pt x="4440" y="10815"/>
                </a:moveTo>
                <a:cubicBezTo>
                  <a:pt x="4427" y="10858"/>
                  <a:pt x="4424" y="10944"/>
                  <a:pt x="4514" y="10914"/>
                </a:cubicBezTo>
                <a:cubicBezTo>
                  <a:pt x="4566" y="10896"/>
                  <a:pt x="4592" y="10798"/>
                  <a:pt x="4539" y="10765"/>
                </a:cubicBezTo>
                <a:cubicBezTo>
                  <a:pt x="4490" y="10765"/>
                  <a:pt x="4473" y="10765"/>
                  <a:pt x="4440" y="10765"/>
                </a:cubicBezTo>
              </a:path>
              <a:path w="4317" h="1862">
                <a:moveTo>
                  <a:pt x="5507" y="11931"/>
                </a:moveTo>
                <a:cubicBezTo>
                  <a:pt x="5546" y="11955"/>
                  <a:pt x="5628" y="11976"/>
                  <a:pt x="5680" y="11956"/>
                </a:cubicBezTo>
                <a:cubicBezTo>
                  <a:pt x="5740" y="11933"/>
                  <a:pt x="5814" y="11928"/>
                  <a:pt x="5879" y="11906"/>
                </a:cubicBezTo>
                <a:cubicBezTo>
                  <a:pt x="5895" y="11898"/>
                  <a:pt x="5912" y="11889"/>
                  <a:pt x="5928" y="11881"/>
                </a:cubicBezTo>
                <a:cubicBezTo>
                  <a:pt x="5919" y="11966"/>
                  <a:pt x="5891" y="12045"/>
                  <a:pt x="5879" y="12129"/>
                </a:cubicBezTo>
                <a:cubicBezTo>
                  <a:pt x="5854" y="12301"/>
                  <a:pt x="5879" y="12775"/>
                  <a:pt x="5879" y="12601"/>
                </a:cubicBezTo>
              </a:path>
              <a:path w="4317" h="1862">
                <a:moveTo>
                  <a:pt x="6251" y="11807"/>
                </a:moveTo>
                <a:cubicBezTo>
                  <a:pt x="6313" y="11798"/>
                  <a:pt x="6369" y="11784"/>
                  <a:pt x="6424" y="11757"/>
                </a:cubicBezTo>
                <a:cubicBezTo>
                  <a:pt x="6465" y="11737"/>
                  <a:pt x="6471" y="11729"/>
                  <a:pt x="6499" y="11733"/>
                </a:cubicBezTo>
              </a:path>
              <a:path w="4317" h="1862">
                <a:moveTo>
                  <a:pt x="6276" y="11757"/>
                </a:moveTo>
                <a:cubicBezTo>
                  <a:pt x="6249" y="11804"/>
                  <a:pt x="6210" y="11860"/>
                  <a:pt x="6201" y="11906"/>
                </a:cubicBezTo>
                <a:cubicBezTo>
                  <a:pt x="6201" y="11951"/>
                  <a:pt x="6198" y="11964"/>
                  <a:pt x="6226" y="11981"/>
                </a:cubicBezTo>
                <a:cubicBezTo>
                  <a:pt x="6281" y="11973"/>
                  <a:pt x="6342" y="11913"/>
                  <a:pt x="6400" y="11931"/>
                </a:cubicBezTo>
                <a:cubicBezTo>
                  <a:pt x="6434" y="11942"/>
                  <a:pt x="6483" y="12049"/>
                  <a:pt x="6499" y="12080"/>
                </a:cubicBezTo>
                <a:cubicBezTo>
                  <a:pt x="6543" y="12163"/>
                  <a:pt x="6577" y="12264"/>
                  <a:pt x="6524" y="12353"/>
                </a:cubicBezTo>
                <a:cubicBezTo>
                  <a:pt x="6486" y="12416"/>
                  <a:pt x="6395" y="12447"/>
                  <a:pt x="6325" y="12427"/>
                </a:cubicBezTo>
                <a:cubicBezTo>
                  <a:pt x="6286" y="12416"/>
                  <a:pt x="6177" y="12380"/>
                  <a:pt x="6201" y="12328"/>
                </a:cubicBezTo>
                <a:cubicBezTo>
                  <a:pt x="6218" y="12311"/>
                  <a:pt x="6234" y="12295"/>
                  <a:pt x="6251" y="12278"/>
                </a:cubicBezTo>
              </a:path>
              <a:path w="4317" h="1862">
                <a:moveTo>
                  <a:pt x="6747" y="12179"/>
                </a:moveTo>
                <a:cubicBezTo>
                  <a:pt x="6747" y="12245"/>
                  <a:pt x="6747" y="12262"/>
                  <a:pt x="6747" y="12303"/>
                </a:cubicBezTo>
                <a:cubicBezTo>
                  <a:pt x="6772" y="12229"/>
                  <a:pt x="6769" y="12148"/>
                  <a:pt x="6796" y="12080"/>
                </a:cubicBezTo>
                <a:cubicBezTo>
                  <a:pt x="6811" y="12042"/>
                  <a:pt x="6915" y="11995"/>
                  <a:pt x="6945" y="12030"/>
                </a:cubicBezTo>
                <a:cubicBezTo>
                  <a:pt x="6989" y="12081"/>
                  <a:pt x="6970" y="12192"/>
                  <a:pt x="6970" y="12254"/>
                </a:cubicBezTo>
                <a:cubicBezTo>
                  <a:pt x="6970" y="12378"/>
                  <a:pt x="6993" y="12181"/>
                  <a:pt x="6995" y="12154"/>
                </a:cubicBezTo>
                <a:cubicBezTo>
                  <a:pt x="6998" y="12099"/>
                  <a:pt x="7021" y="12038"/>
                  <a:pt x="7094" y="12055"/>
                </a:cubicBezTo>
                <a:cubicBezTo>
                  <a:pt x="7201" y="12080"/>
                  <a:pt x="7166" y="12156"/>
                  <a:pt x="7193" y="12229"/>
                </a:cubicBezTo>
                <a:cubicBezTo>
                  <a:pt x="7209" y="12272"/>
                  <a:pt x="7207" y="12365"/>
                  <a:pt x="7243" y="12402"/>
                </a:cubicBezTo>
                <a:cubicBezTo>
                  <a:pt x="7243" y="12394"/>
                  <a:pt x="7243" y="12386"/>
                  <a:pt x="7243" y="12378"/>
                </a:cubicBezTo>
              </a:path>
              <a:path w="4317" h="1862">
                <a:moveTo>
                  <a:pt x="7417" y="12129"/>
                </a:moveTo>
                <a:cubicBezTo>
                  <a:pt x="7421" y="12185"/>
                  <a:pt x="7420" y="12298"/>
                  <a:pt x="7441" y="12353"/>
                </a:cubicBezTo>
                <a:cubicBezTo>
                  <a:pt x="7469" y="12381"/>
                  <a:pt x="7478" y="12385"/>
                  <a:pt x="7466" y="12328"/>
                </a:cubicBezTo>
              </a:path>
              <a:path w="4317" h="1862">
                <a:moveTo>
                  <a:pt x="7392" y="11807"/>
                </a:moveTo>
                <a:cubicBezTo>
                  <a:pt x="7367" y="11832"/>
                  <a:pt x="7359" y="11840"/>
                  <a:pt x="7342" y="11807"/>
                </a:cubicBezTo>
              </a:path>
              <a:path w="4317" h="1862">
                <a:moveTo>
                  <a:pt x="3150" y="11658"/>
                </a:moveTo>
                <a:cubicBezTo>
                  <a:pt x="3150" y="11675"/>
                  <a:pt x="3150" y="11691"/>
                  <a:pt x="3150" y="11708"/>
                </a:cubicBezTo>
                <a:cubicBezTo>
                  <a:pt x="3196" y="11662"/>
                  <a:pt x="3221" y="11650"/>
                  <a:pt x="3225" y="11584"/>
                </a:cubicBezTo>
                <a:cubicBezTo>
                  <a:pt x="3229" y="11513"/>
                  <a:pt x="3171" y="11485"/>
                  <a:pt x="3150" y="11559"/>
                </a:cubicBezTo>
                <a:cubicBezTo>
                  <a:pt x="3150" y="11609"/>
                  <a:pt x="3150" y="11625"/>
                  <a:pt x="3150" y="11658"/>
                </a:cubicBezTo>
                <a:cubicBezTo>
                  <a:pt x="3204" y="11628"/>
                  <a:pt x="3261" y="11600"/>
                  <a:pt x="3200" y="11559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Ink 9"/>
          <p:cNvSpPr/>
          <p:nvPr/>
        </p:nvSpPr>
        <p:spPr>
          <a:xfrm>
            <a:off x="4241880" y="3963960"/>
            <a:ext cx="2357280" cy="716040"/>
          </a:xfrm>
          <a:custGeom>
            <a:avLst/>
            <a:gdLst/>
            <a:ahLst/>
            <a:rect l="l" t="t" r="r" b="b"/>
            <a:pathLst>
              <a:path w="6550" h="1986">
                <a:moveTo>
                  <a:pt x="12179" y="12378"/>
                </a:moveTo>
                <a:cubicBezTo>
                  <a:pt x="12135" y="12325"/>
                  <a:pt x="12097" y="12300"/>
                  <a:pt x="12030" y="12353"/>
                </a:cubicBezTo>
                <a:cubicBezTo>
                  <a:pt x="11964" y="12406"/>
                  <a:pt x="12026" y="12433"/>
                  <a:pt x="12055" y="12477"/>
                </a:cubicBezTo>
                <a:cubicBezTo>
                  <a:pt x="12097" y="12541"/>
                  <a:pt x="12141" y="12601"/>
                  <a:pt x="12204" y="12650"/>
                </a:cubicBezTo>
                <a:cubicBezTo>
                  <a:pt x="12270" y="12701"/>
                  <a:pt x="12333" y="12760"/>
                  <a:pt x="12353" y="12849"/>
                </a:cubicBezTo>
                <a:cubicBezTo>
                  <a:pt x="12365" y="12901"/>
                  <a:pt x="12327" y="12944"/>
                  <a:pt x="12278" y="12948"/>
                </a:cubicBezTo>
                <a:cubicBezTo>
                  <a:pt x="12209" y="12953"/>
                  <a:pt x="12092" y="12926"/>
                  <a:pt x="12030" y="12898"/>
                </a:cubicBezTo>
                <a:cubicBezTo>
                  <a:pt x="11956" y="12865"/>
                  <a:pt x="11999" y="12843"/>
                  <a:pt x="12030" y="12799"/>
                </a:cubicBezTo>
              </a:path>
              <a:path w="6550" h="1986">
                <a:moveTo>
                  <a:pt x="12502" y="12626"/>
                </a:moveTo>
                <a:cubicBezTo>
                  <a:pt x="12531" y="12729"/>
                  <a:pt x="12592" y="13022"/>
                  <a:pt x="12551" y="12923"/>
                </a:cubicBezTo>
                <a:cubicBezTo>
                  <a:pt x="12551" y="12907"/>
                  <a:pt x="12551" y="12890"/>
                  <a:pt x="12551" y="12874"/>
                </a:cubicBezTo>
              </a:path>
              <a:path w="6550" h="1986">
                <a:moveTo>
                  <a:pt x="12502" y="12229"/>
                </a:moveTo>
                <a:cubicBezTo>
                  <a:pt x="12522" y="12188"/>
                  <a:pt x="12530" y="12182"/>
                  <a:pt x="12526" y="12154"/>
                </a:cubicBezTo>
              </a:path>
              <a:path w="6550" h="1986">
                <a:moveTo>
                  <a:pt x="12725" y="12601"/>
                </a:moveTo>
                <a:cubicBezTo>
                  <a:pt x="12725" y="12651"/>
                  <a:pt x="12725" y="12700"/>
                  <a:pt x="12725" y="12750"/>
                </a:cubicBezTo>
                <a:cubicBezTo>
                  <a:pt x="12751" y="12682"/>
                  <a:pt x="12765" y="12641"/>
                  <a:pt x="12799" y="12576"/>
                </a:cubicBezTo>
                <a:cubicBezTo>
                  <a:pt x="12825" y="12527"/>
                  <a:pt x="12855" y="12461"/>
                  <a:pt x="12923" y="12477"/>
                </a:cubicBezTo>
                <a:cubicBezTo>
                  <a:pt x="12974" y="12489"/>
                  <a:pt x="13035" y="12550"/>
                  <a:pt x="13047" y="12601"/>
                </a:cubicBezTo>
                <a:cubicBezTo>
                  <a:pt x="13062" y="12664"/>
                  <a:pt x="13069" y="12736"/>
                  <a:pt x="13072" y="12799"/>
                </a:cubicBezTo>
                <a:cubicBezTo>
                  <a:pt x="13074" y="12844"/>
                  <a:pt x="13062" y="12935"/>
                  <a:pt x="13097" y="12898"/>
                </a:cubicBezTo>
              </a:path>
              <a:path w="6550" h="1986">
                <a:moveTo>
                  <a:pt x="13295" y="12278"/>
                </a:moveTo>
                <a:cubicBezTo>
                  <a:pt x="13286" y="12355"/>
                  <a:pt x="13271" y="12421"/>
                  <a:pt x="13271" y="12502"/>
                </a:cubicBezTo>
                <a:cubicBezTo>
                  <a:pt x="13271" y="12632"/>
                  <a:pt x="13273" y="12679"/>
                  <a:pt x="13345" y="12774"/>
                </a:cubicBezTo>
                <a:cubicBezTo>
                  <a:pt x="13397" y="12843"/>
                  <a:pt x="13404" y="12885"/>
                  <a:pt x="13494" y="12849"/>
                </a:cubicBezTo>
                <a:cubicBezTo>
                  <a:pt x="13554" y="12825"/>
                  <a:pt x="13565" y="12759"/>
                  <a:pt x="13568" y="12700"/>
                </a:cubicBezTo>
                <a:cubicBezTo>
                  <a:pt x="13573" y="12618"/>
                  <a:pt x="13558" y="12619"/>
                  <a:pt x="13494" y="12601"/>
                </a:cubicBezTo>
                <a:cubicBezTo>
                  <a:pt x="13446" y="12660"/>
                  <a:pt x="13430" y="12685"/>
                  <a:pt x="13469" y="12750"/>
                </a:cubicBezTo>
              </a:path>
              <a:path w="6550" h="1986">
                <a:moveTo>
                  <a:pt x="13667" y="12328"/>
                </a:moveTo>
                <a:cubicBezTo>
                  <a:pt x="13676" y="12400"/>
                  <a:pt x="13691" y="12426"/>
                  <a:pt x="13742" y="12477"/>
                </a:cubicBezTo>
                <a:cubicBezTo>
                  <a:pt x="13778" y="12513"/>
                  <a:pt x="13849" y="12512"/>
                  <a:pt x="13866" y="12452"/>
                </a:cubicBezTo>
                <a:cubicBezTo>
                  <a:pt x="13887" y="12379"/>
                  <a:pt x="13891" y="12308"/>
                  <a:pt x="13891" y="12229"/>
                </a:cubicBezTo>
                <a:cubicBezTo>
                  <a:pt x="13891" y="12316"/>
                  <a:pt x="13903" y="12396"/>
                  <a:pt x="13915" y="12477"/>
                </a:cubicBezTo>
                <a:cubicBezTo>
                  <a:pt x="13929" y="12572"/>
                  <a:pt x="13930" y="12679"/>
                  <a:pt x="13940" y="12774"/>
                </a:cubicBezTo>
                <a:cubicBezTo>
                  <a:pt x="13948" y="12849"/>
                  <a:pt x="13908" y="12891"/>
                  <a:pt x="13965" y="12874"/>
                </a:cubicBezTo>
              </a:path>
              <a:path w="6550" h="1986">
                <a:moveTo>
                  <a:pt x="14982" y="11906"/>
                </a:moveTo>
                <a:cubicBezTo>
                  <a:pt x="15200" y="11906"/>
                  <a:pt x="15413" y="11903"/>
                  <a:pt x="15627" y="11881"/>
                </a:cubicBezTo>
                <a:cubicBezTo>
                  <a:pt x="15848" y="11858"/>
                  <a:pt x="16075" y="11821"/>
                  <a:pt x="16297" y="11807"/>
                </a:cubicBezTo>
                <a:cubicBezTo>
                  <a:pt x="16528" y="11792"/>
                  <a:pt x="16759" y="11786"/>
                  <a:pt x="16991" y="11782"/>
                </a:cubicBezTo>
                <a:cubicBezTo>
                  <a:pt x="17165" y="11779"/>
                  <a:pt x="17336" y="11807"/>
                  <a:pt x="17512" y="11807"/>
                </a:cubicBezTo>
                <a:cubicBezTo>
                  <a:pt x="17665" y="11807"/>
                  <a:pt x="17808" y="11827"/>
                  <a:pt x="17959" y="11832"/>
                </a:cubicBezTo>
                <a:cubicBezTo>
                  <a:pt x="18048" y="11835"/>
                  <a:pt x="18121" y="11814"/>
                  <a:pt x="18207" y="11807"/>
                </a:cubicBezTo>
                <a:cubicBezTo>
                  <a:pt x="18344" y="11797"/>
                  <a:pt x="18280" y="11785"/>
                  <a:pt x="18281" y="11782"/>
                </a:cubicBezTo>
              </a:path>
              <a:path w="6550" h="1986">
                <a:moveTo>
                  <a:pt x="16148" y="12526"/>
                </a:moveTo>
                <a:cubicBezTo>
                  <a:pt x="16235" y="12571"/>
                  <a:pt x="16094" y="12461"/>
                  <a:pt x="16073" y="12452"/>
                </a:cubicBezTo>
                <a:cubicBezTo>
                  <a:pt x="16055" y="12445"/>
                  <a:pt x="15890" y="12394"/>
                  <a:pt x="15900" y="12477"/>
                </a:cubicBezTo>
                <a:cubicBezTo>
                  <a:pt x="15906" y="12526"/>
                  <a:pt x="16015" y="12645"/>
                  <a:pt x="16049" y="12675"/>
                </a:cubicBezTo>
                <a:cubicBezTo>
                  <a:pt x="16109" y="12727"/>
                  <a:pt x="16156" y="12775"/>
                  <a:pt x="16197" y="12849"/>
                </a:cubicBezTo>
                <a:cubicBezTo>
                  <a:pt x="16229" y="12907"/>
                  <a:pt x="16238" y="12910"/>
                  <a:pt x="16247" y="12973"/>
                </a:cubicBezTo>
                <a:cubicBezTo>
                  <a:pt x="16209" y="12992"/>
                  <a:pt x="16168" y="12984"/>
                  <a:pt x="16123" y="12948"/>
                </a:cubicBezTo>
                <a:cubicBezTo>
                  <a:pt x="16075" y="12909"/>
                  <a:pt x="16013" y="12855"/>
                  <a:pt x="15999" y="12799"/>
                </a:cubicBezTo>
              </a:path>
              <a:path w="6550" h="1986">
                <a:moveTo>
                  <a:pt x="16396" y="12601"/>
                </a:moveTo>
                <a:cubicBezTo>
                  <a:pt x="16430" y="12686"/>
                  <a:pt x="16431" y="12713"/>
                  <a:pt x="16446" y="12799"/>
                </a:cubicBezTo>
                <a:cubicBezTo>
                  <a:pt x="16466" y="12881"/>
                  <a:pt x="16474" y="12897"/>
                  <a:pt x="16470" y="12948"/>
                </a:cubicBezTo>
              </a:path>
              <a:path w="6550" h="1986">
                <a:moveTo>
                  <a:pt x="16371" y="12229"/>
                </a:moveTo>
                <a:cubicBezTo>
                  <a:pt x="16388" y="12221"/>
                  <a:pt x="16404" y="12212"/>
                  <a:pt x="16421" y="12204"/>
                </a:cubicBezTo>
              </a:path>
              <a:path w="6550" h="1986">
                <a:moveTo>
                  <a:pt x="16644" y="12725"/>
                </a:moveTo>
                <a:cubicBezTo>
                  <a:pt x="16666" y="12832"/>
                  <a:pt x="16674" y="12856"/>
                  <a:pt x="16669" y="12923"/>
                </a:cubicBezTo>
                <a:cubicBezTo>
                  <a:pt x="16669" y="12796"/>
                  <a:pt x="16643" y="12642"/>
                  <a:pt x="16694" y="12526"/>
                </a:cubicBezTo>
                <a:cubicBezTo>
                  <a:pt x="16739" y="12423"/>
                  <a:pt x="16810" y="12498"/>
                  <a:pt x="16867" y="12551"/>
                </a:cubicBezTo>
                <a:cubicBezTo>
                  <a:pt x="16918" y="12598"/>
                  <a:pt x="16928" y="12669"/>
                  <a:pt x="16966" y="12725"/>
                </a:cubicBezTo>
                <a:cubicBezTo>
                  <a:pt x="17007" y="12785"/>
                  <a:pt x="17012" y="12832"/>
                  <a:pt x="17041" y="12898"/>
                </a:cubicBezTo>
                <a:cubicBezTo>
                  <a:pt x="17069" y="12953"/>
                  <a:pt x="17077" y="12964"/>
                  <a:pt x="17066" y="12874"/>
                </a:cubicBezTo>
              </a:path>
              <a:path w="6550" h="1986">
                <a:moveTo>
                  <a:pt x="17165" y="12328"/>
                </a:moveTo>
                <a:cubicBezTo>
                  <a:pt x="17177" y="12357"/>
                  <a:pt x="17183" y="12456"/>
                  <a:pt x="17165" y="12502"/>
                </a:cubicBezTo>
                <a:cubicBezTo>
                  <a:pt x="17141" y="12565"/>
                  <a:pt x="17142" y="12626"/>
                  <a:pt x="17165" y="12700"/>
                </a:cubicBezTo>
                <a:cubicBezTo>
                  <a:pt x="17181" y="12750"/>
                  <a:pt x="17230" y="12811"/>
                  <a:pt x="17264" y="12849"/>
                </a:cubicBezTo>
                <a:cubicBezTo>
                  <a:pt x="17291" y="12879"/>
                  <a:pt x="17393" y="12902"/>
                  <a:pt x="17413" y="12849"/>
                </a:cubicBezTo>
                <a:cubicBezTo>
                  <a:pt x="17437" y="12786"/>
                  <a:pt x="17451" y="12716"/>
                  <a:pt x="17413" y="12650"/>
                </a:cubicBezTo>
                <a:cubicBezTo>
                  <a:pt x="17405" y="12642"/>
                  <a:pt x="17396" y="12634"/>
                  <a:pt x="17388" y="12626"/>
                </a:cubicBezTo>
                <a:cubicBezTo>
                  <a:pt x="17335" y="12663"/>
                  <a:pt x="17267" y="12728"/>
                  <a:pt x="17338" y="12799"/>
                </a:cubicBezTo>
                <a:cubicBezTo>
                  <a:pt x="17346" y="12799"/>
                  <a:pt x="17355" y="12799"/>
                  <a:pt x="17363" y="12799"/>
                </a:cubicBezTo>
              </a:path>
              <a:path w="6550" h="1986">
                <a:moveTo>
                  <a:pt x="17487" y="12204"/>
                </a:moveTo>
                <a:cubicBezTo>
                  <a:pt x="17496" y="12273"/>
                  <a:pt x="17513" y="12324"/>
                  <a:pt x="17562" y="12378"/>
                </a:cubicBezTo>
                <a:cubicBezTo>
                  <a:pt x="17595" y="12414"/>
                  <a:pt x="17661" y="12464"/>
                  <a:pt x="17711" y="12452"/>
                </a:cubicBezTo>
                <a:cubicBezTo>
                  <a:pt x="17762" y="12440"/>
                  <a:pt x="17800" y="12329"/>
                  <a:pt x="17810" y="12278"/>
                </a:cubicBezTo>
                <a:cubicBezTo>
                  <a:pt x="17810" y="12220"/>
                  <a:pt x="17810" y="12195"/>
                  <a:pt x="17810" y="12154"/>
                </a:cubicBezTo>
                <a:cubicBezTo>
                  <a:pt x="17785" y="12222"/>
                  <a:pt x="17770" y="12303"/>
                  <a:pt x="17785" y="12378"/>
                </a:cubicBezTo>
                <a:cubicBezTo>
                  <a:pt x="17804" y="12476"/>
                  <a:pt x="17845" y="12576"/>
                  <a:pt x="17859" y="12675"/>
                </a:cubicBezTo>
                <a:cubicBezTo>
                  <a:pt x="17873" y="12770"/>
                  <a:pt x="17890" y="12831"/>
                  <a:pt x="17859" y="12923"/>
                </a:cubicBezTo>
              </a:path>
              <a:path w="6550" h="1986">
                <a:moveTo>
                  <a:pt x="11782" y="12626"/>
                </a:moveTo>
                <a:cubicBezTo>
                  <a:pt x="11910" y="12607"/>
                  <a:pt x="12007" y="12586"/>
                  <a:pt x="12129" y="12551"/>
                </a:cubicBezTo>
                <a:cubicBezTo>
                  <a:pt x="12261" y="12514"/>
                  <a:pt x="12397" y="12460"/>
                  <a:pt x="12526" y="12427"/>
                </a:cubicBezTo>
                <a:cubicBezTo>
                  <a:pt x="12765" y="12365"/>
                  <a:pt x="13005" y="12314"/>
                  <a:pt x="13246" y="12254"/>
                </a:cubicBezTo>
                <a:cubicBezTo>
                  <a:pt x="13420" y="12210"/>
                  <a:pt x="13621" y="12188"/>
                  <a:pt x="13791" y="12129"/>
                </a:cubicBezTo>
                <a:cubicBezTo>
                  <a:pt x="13905" y="12089"/>
                  <a:pt x="14008" y="12037"/>
                  <a:pt x="14114" y="11981"/>
                </a:cubicBezTo>
                <a:cubicBezTo>
                  <a:pt x="14132" y="11972"/>
                  <a:pt x="14240" y="11911"/>
                  <a:pt x="14238" y="11881"/>
                </a:cubicBezTo>
                <a:cubicBezTo>
                  <a:pt x="14236" y="11849"/>
                  <a:pt x="14175" y="11842"/>
                  <a:pt x="14163" y="11832"/>
                </a:cubicBezTo>
              </a:path>
              <a:path w="6550" h="1986">
                <a:moveTo>
                  <a:pt x="11881" y="11534"/>
                </a:moveTo>
                <a:cubicBezTo>
                  <a:pt x="11984" y="11507"/>
                  <a:pt x="12078" y="11465"/>
                  <a:pt x="12179" y="11435"/>
                </a:cubicBezTo>
                <a:cubicBezTo>
                  <a:pt x="12399" y="11370"/>
                  <a:pt x="12627" y="11316"/>
                  <a:pt x="12849" y="11261"/>
                </a:cubicBezTo>
                <a:cubicBezTo>
                  <a:pt x="13079" y="11204"/>
                  <a:pt x="13282" y="11173"/>
                  <a:pt x="13519" y="11137"/>
                </a:cubicBezTo>
                <a:cubicBezTo>
                  <a:pt x="13645" y="11118"/>
                  <a:pt x="13767" y="11081"/>
                  <a:pt x="13891" y="11063"/>
                </a:cubicBezTo>
                <a:cubicBezTo>
                  <a:pt x="13955" y="11054"/>
                  <a:pt x="13959" y="11045"/>
                  <a:pt x="14015" y="1101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Ink 10"/>
          <p:cNvSpPr/>
          <p:nvPr/>
        </p:nvSpPr>
        <p:spPr>
          <a:xfrm>
            <a:off x="5000760" y="4822920"/>
            <a:ext cx="330120" cy="455400"/>
          </a:xfrm>
          <a:custGeom>
            <a:avLst/>
            <a:gdLst/>
            <a:ahLst/>
            <a:rect l="l" t="t" r="r" b="b"/>
            <a:pathLst>
              <a:path w="918" h="1266">
                <a:moveTo>
                  <a:pt x="13891" y="13395"/>
                </a:moveTo>
                <a:cubicBezTo>
                  <a:pt x="13930" y="13474"/>
                  <a:pt x="13953" y="13555"/>
                  <a:pt x="13965" y="13643"/>
                </a:cubicBezTo>
                <a:cubicBezTo>
                  <a:pt x="14002" y="13923"/>
                  <a:pt x="13965" y="14228"/>
                  <a:pt x="13965" y="14511"/>
                </a:cubicBezTo>
                <a:cubicBezTo>
                  <a:pt x="13990" y="14454"/>
                  <a:pt x="14025" y="14359"/>
                  <a:pt x="14039" y="14288"/>
                </a:cubicBezTo>
                <a:cubicBezTo>
                  <a:pt x="14052" y="14219"/>
                  <a:pt x="14076" y="14152"/>
                  <a:pt x="14114" y="14089"/>
                </a:cubicBezTo>
                <a:cubicBezTo>
                  <a:pt x="14144" y="14059"/>
                  <a:pt x="14155" y="14045"/>
                  <a:pt x="14163" y="14015"/>
                </a:cubicBezTo>
                <a:cubicBezTo>
                  <a:pt x="14216" y="14030"/>
                  <a:pt x="14292" y="14070"/>
                  <a:pt x="14312" y="14139"/>
                </a:cubicBezTo>
                <a:cubicBezTo>
                  <a:pt x="14333" y="14210"/>
                  <a:pt x="14342" y="14292"/>
                  <a:pt x="14362" y="14362"/>
                </a:cubicBezTo>
                <a:cubicBezTo>
                  <a:pt x="14383" y="14435"/>
                  <a:pt x="14408" y="14487"/>
                  <a:pt x="14362" y="14560"/>
                </a:cubicBezTo>
                <a:cubicBezTo>
                  <a:pt x="14335" y="14604"/>
                  <a:pt x="14255" y="14650"/>
                  <a:pt x="14213" y="14660"/>
                </a:cubicBezTo>
                <a:cubicBezTo>
                  <a:pt x="14165" y="14672"/>
                  <a:pt x="14072" y="14637"/>
                  <a:pt x="14039" y="14610"/>
                </a:cubicBezTo>
                <a:cubicBezTo>
                  <a:pt x="14015" y="14585"/>
                  <a:pt x="14007" y="14577"/>
                  <a:pt x="14039" y="14560"/>
                </a:cubicBezTo>
              </a:path>
              <a:path w="918" h="1266">
                <a:moveTo>
                  <a:pt x="14536" y="13990"/>
                </a:moveTo>
                <a:cubicBezTo>
                  <a:pt x="14610" y="13990"/>
                  <a:pt x="14685" y="13990"/>
                  <a:pt x="14759" y="13990"/>
                </a:cubicBezTo>
              </a:path>
              <a:path w="918" h="1266">
                <a:moveTo>
                  <a:pt x="14585" y="14188"/>
                </a:moveTo>
                <a:cubicBezTo>
                  <a:pt x="14659" y="14247"/>
                  <a:pt x="14714" y="14238"/>
                  <a:pt x="14808" y="1423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Ink 11"/>
          <p:cNvSpPr/>
          <p:nvPr/>
        </p:nvSpPr>
        <p:spPr>
          <a:xfrm>
            <a:off x="5510160" y="4875120"/>
            <a:ext cx="696960" cy="358920"/>
          </a:xfrm>
          <a:custGeom>
            <a:avLst/>
            <a:gdLst/>
            <a:ahLst/>
            <a:rect l="l" t="t" r="r" b="b"/>
            <a:pathLst>
              <a:path w="1936" h="994">
                <a:moveTo>
                  <a:pt x="15354" y="13568"/>
                </a:moveTo>
                <a:cubicBezTo>
                  <a:pt x="15346" y="13635"/>
                  <a:pt x="15347" y="13726"/>
                  <a:pt x="15329" y="13791"/>
                </a:cubicBezTo>
                <a:cubicBezTo>
                  <a:pt x="15301" y="13889"/>
                  <a:pt x="15304" y="13985"/>
                  <a:pt x="15304" y="14089"/>
                </a:cubicBezTo>
                <a:cubicBezTo>
                  <a:pt x="15304" y="14188"/>
                  <a:pt x="15304" y="14273"/>
                  <a:pt x="15354" y="14362"/>
                </a:cubicBezTo>
                <a:cubicBezTo>
                  <a:pt x="15382" y="14411"/>
                  <a:pt x="15431" y="14478"/>
                  <a:pt x="15478" y="14511"/>
                </a:cubicBezTo>
                <a:cubicBezTo>
                  <a:pt x="15495" y="14519"/>
                  <a:pt x="15511" y="14528"/>
                  <a:pt x="15528" y="14536"/>
                </a:cubicBezTo>
                <a:cubicBezTo>
                  <a:pt x="15592" y="14472"/>
                  <a:pt x="15659" y="14428"/>
                  <a:pt x="15677" y="14337"/>
                </a:cubicBezTo>
                <a:cubicBezTo>
                  <a:pt x="15694" y="14253"/>
                  <a:pt x="15677" y="14150"/>
                  <a:pt x="15677" y="14064"/>
                </a:cubicBezTo>
                <a:cubicBezTo>
                  <a:pt x="15610" y="14112"/>
                  <a:pt x="15591" y="14162"/>
                  <a:pt x="15577" y="14238"/>
                </a:cubicBezTo>
                <a:cubicBezTo>
                  <a:pt x="15565" y="14300"/>
                  <a:pt x="15614" y="14368"/>
                  <a:pt x="15652" y="14412"/>
                </a:cubicBezTo>
                <a:cubicBezTo>
                  <a:pt x="15660" y="14420"/>
                  <a:pt x="15669" y="14428"/>
                  <a:pt x="15677" y="14436"/>
                </a:cubicBezTo>
              </a:path>
              <a:path w="1936" h="994">
                <a:moveTo>
                  <a:pt x="15900" y="13643"/>
                </a:moveTo>
                <a:cubicBezTo>
                  <a:pt x="15853" y="13700"/>
                  <a:pt x="15854" y="13750"/>
                  <a:pt x="15825" y="13816"/>
                </a:cubicBezTo>
                <a:cubicBezTo>
                  <a:pt x="15793" y="13890"/>
                  <a:pt x="15791" y="13982"/>
                  <a:pt x="15801" y="14064"/>
                </a:cubicBezTo>
                <a:cubicBezTo>
                  <a:pt x="15816" y="14185"/>
                  <a:pt x="15848" y="14279"/>
                  <a:pt x="15900" y="14387"/>
                </a:cubicBezTo>
                <a:cubicBezTo>
                  <a:pt x="15935" y="14459"/>
                  <a:pt x="15963" y="14517"/>
                  <a:pt x="16049" y="14536"/>
                </a:cubicBezTo>
                <a:cubicBezTo>
                  <a:pt x="16135" y="14555"/>
                  <a:pt x="16186" y="14472"/>
                  <a:pt x="16222" y="14412"/>
                </a:cubicBezTo>
                <a:cubicBezTo>
                  <a:pt x="16284" y="14309"/>
                  <a:pt x="16272" y="14180"/>
                  <a:pt x="16272" y="14064"/>
                </a:cubicBezTo>
                <a:cubicBezTo>
                  <a:pt x="16272" y="13995"/>
                  <a:pt x="16281" y="13874"/>
                  <a:pt x="16247" y="13816"/>
                </a:cubicBezTo>
                <a:cubicBezTo>
                  <a:pt x="16200" y="13735"/>
                  <a:pt x="16139" y="13679"/>
                  <a:pt x="16073" y="13618"/>
                </a:cubicBezTo>
                <a:cubicBezTo>
                  <a:pt x="15975" y="13528"/>
                  <a:pt x="15911" y="13704"/>
                  <a:pt x="15900" y="13767"/>
                </a:cubicBezTo>
                <a:cubicBezTo>
                  <a:pt x="15885" y="13851"/>
                  <a:pt x="15900" y="13939"/>
                  <a:pt x="15925" y="14015"/>
                </a:cubicBezTo>
                <a:cubicBezTo>
                  <a:pt x="15949" y="14089"/>
                  <a:pt x="15957" y="14114"/>
                  <a:pt x="15974" y="14163"/>
                </a:cubicBezTo>
              </a:path>
              <a:path w="1936" h="994">
                <a:moveTo>
                  <a:pt x="16470" y="14114"/>
                </a:moveTo>
                <a:cubicBezTo>
                  <a:pt x="16477" y="14200"/>
                  <a:pt x="16495" y="14275"/>
                  <a:pt x="16495" y="14362"/>
                </a:cubicBezTo>
                <a:cubicBezTo>
                  <a:pt x="16495" y="14407"/>
                  <a:pt x="16491" y="14420"/>
                  <a:pt x="16520" y="14436"/>
                </a:cubicBezTo>
                <a:cubicBezTo>
                  <a:pt x="16520" y="14573"/>
                  <a:pt x="16520" y="14317"/>
                  <a:pt x="16520" y="14288"/>
                </a:cubicBezTo>
                <a:cubicBezTo>
                  <a:pt x="16520" y="14226"/>
                  <a:pt x="16546" y="14139"/>
                  <a:pt x="16570" y="14089"/>
                </a:cubicBezTo>
                <a:cubicBezTo>
                  <a:pt x="16594" y="14064"/>
                  <a:pt x="16602" y="14055"/>
                  <a:pt x="16619" y="14039"/>
                </a:cubicBezTo>
                <a:cubicBezTo>
                  <a:pt x="16675" y="14085"/>
                  <a:pt x="16680" y="14140"/>
                  <a:pt x="16694" y="14213"/>
                </a:cubicBezTo>
                <a:cubicBezTo>
                  <a:pt x="16702" y="14258"/>
                  <a:pt x="16694" y="14316"/>
                  <a:pt x="16694" y="14362"/>
                </a:cubicBezTo>
                <a:cubicBezTo>
                  <a:pt x="16725" y="14362"/>
                  <a:pt x="16739" y="14291"/>
                  <a:pt x="16743" y="14213"/>
                </a:cubicBezTo>
                <a:cubicBezTo>
                  <a:pt x="16747" y="14141"/>
                  <a:pt x="16767" y="14059"/>
                  <a:pt x="16793" y="13990"/>
                </a:cubicBezTo>
                <a:cubicBezTo>
                  <a:pt x="16815" y="13946"/>
                  <a:pt x="16818" y="13935"/>
                  <a:pt x="16842" y="13915"/>
                </a:cubicBezTo>
                <a:cubicBezTo>
                  <a:pt x="16886" y="13989"/>
                  <a:pt x="16870" y="14053"/>
                  <a:pt x="16892" y="14139"/>
                </a:cubicBezTo>
                <a:cubicBezTo>
                  <a:pt x="16907" y="14200"/>
                  <a:pt x="16939" y="14307"/>
                  <a:pt x="16966" y="14362"/>
                </a:cubicBezTo>
                <a:cubicBezTo>
                  <a:pt x="16997" y="14425"/>
                  <a:pt x="17001" y="14436"/>
                  <a:pt x="17041" y="14436"/>
                </a:cubicBezTo>
              </a:path>
              <a:path w="1936" h="994">
                <a:moveTo>
                  <a:pt x="17190" y="14039"/>
                </a:moveTo>
                <a:cubicBezTo>
                  <a:pt x="17194" y="14125"/>
                  <a:pt x="17190" y="14251"/>
                  <a:pt x="17214" y="14337"/>
                </a:cubicBezTo>
                <a:cubicBezTo>
                  <a:pt x="17234" y="14378"/>
                  <a:pt x="17243" y="14405"/>
                  <a:pt x="17239" y="14362"/>
                </a:cubicBezTo>
              </a:path>
              <a:path w="1936" h="994">
                <a:moveTo>
                  <a:pt x="17190" y="13618"/>
                </a:moveTo>
                <a:cubicBezTo>
                  <a:pt x="17161" y="13567"/>
                  <a:pt x="17166" y="13556"/>
                  <a:pt x="17115" y="1354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 An A-frame shed is 28 feet wide.  If the roof makes a 42</a:t>
            </a:r>
            <a:r>
              <a:rPr b="0" lang="en-US" sz="40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with the base of the shed on the ground, what is the length of the roof from the ground to its peak?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Ink 3"/>
          <p:cNvSpPr/>
          <p:nvPr/>
        </p:nvSpPr>
        <p:spPr>
          <a:xfrm>
            <a:off x="776160" y="3224160"/>
            <a:ext cx="1420920" cy="1731960"/>
          </a:xfrm>
          <a:custGeom>
            <a:avLst/>
            <a:gdLst/>
            <a:ahLst/>
            <a:rect l="l" t="t" r="r" b="b"/>
            <a:pathLst>
              <a:path w="3945" h="4814">
                <a:moveTo>
                  <a:pt x="3473" y="9029"/>
                </a:moveTo>
                <a:cubicBezTo>
                  <a:pt x="3469" y="9108"/>
                  <a:pt x="3469" y="9176"/>
                  <a:pt x="3448" y="9252"/>
                </a:cubicBezTo>
                <a:cubicBezTo>
                  <a:pt x="3409" y="9394"/>
                  <a:pt x="3361" y="9532"/>
                  <a:pt x="3324" y="9674"/>
                </a:cubicBezTo>
                <a:cubicBezTo>
                  <a:pt x="3277" y="9855"/>
                  <a:pt x="3247" y="10046"/>
                  <a:pt x="3175" y="10220"/>
                </a:cubicBezTo>
                <a:cubicBezTo>
                  <a:pt x="3101" y="10400"/>
                  <a:pt x="3057" y="10575"/>
                  <a:pt x="3001" y="10765"/>
                </a:cubicBezTo>
                <a:cubicBezTo>
                  <a:pt x="2942" y="10965"/>
                  <a:pt x="2880" y="11160"/>
                  <a:pt x="2828" y="11361"/>
                </a:cubicBezTo>
                <a:cubicBezTo>
                  <a:pt x="2772" y="11579"/>
                  <a:pt x="2688" y="11787"/>
                  <a:pt x="2629" y="12005"/>
                </a:cubicBezTo>
                <a:cubicBezTo>
                  <a:pt x="2575" y="12202"/>
                  <a:pt x="2515" y="12407"/>
                  <a:pt x="2456" y="12601"/>
                </a:cubicBezTo>
                <a:cubicBezTo>
                  <a:pt x="2398" y="12790"/>
                  <a:pt x="2329" y="12977"/>
                  <a:pt x="2282" y="13171"/>
                </a:cubicBezTo>
                <a:cubicBezTo>
                  <a:pt x="2252" y="13297"/>
                  <a:pt x="2231" y="13418"/>
                  <a:pt x="2208" y="13543"/>
                </a:cubicBezTo>
                <a:cubicBezTo>
                  <a:pt x="2195" y="13612"/>
                  <a:pt x="2148" y="13697"/>
                  <a:pt x="2158" y="13767"/>
                </a:cubicBezTo>
                <a:cubicBezTo>
                  <a:pt x="2166" y="13750"/>
                  <a:pt x="2175" y="13734"/>
                  <a:pt x="2183" y="13717"/>
                </a:cubicBezTo>
              </a:path>
              <a:path w="3945" h="4814">
                <a:moveTo>
                  <a:pt x="3448" y="9004"/>
                </a:moveTo>
                <a:cubicBezTo>
                  <a:pt x="3473" y="8987"/>
                  <a:pt x="3497" y="8971"/>
                  <a:pt x="3522" y="8954"/>
                </a:cubicBezTo>
                <a:cubicBezTo>
                  <a:pt x="3550" y="9007"/>
                  <a:pt x="3595" y="9052"/>
                  <a:pt x="3621" y="9103"/>
                </a:cubicBezTo>
                <a:cubicBezTo>
                  <a:pt x="3656" y="9171"/>
                  <a:pt x="3656" y="9234"/>
                  <a:pt x="3696" y="9302"/>
                </a:cubicBezTo>
                <a:cubicBezTo>
                  <a:pt x="3738" y="9373"/>
                  <a:pt x="3798" y="9468"/>
                  <a:pt x="3845" y="9550"/>
                </a:cubicBezTo>
                <a:cubicBezTo>
                  <a:pt x="3913" y="9668"/>
                  <a:pt x="3954" y="9780"/>
                  <a:pt x="4018" y="9897"/>
                </a:cubicBezTo>
                <a:cubicBezTo>
                  <a:pt x="4084" y="10017"/>
                  <a:pt x="4123" y="10153"/>
                  <a:pt x="4192" y="10269"/>
                </a:cubicBezTo>
                <a:cubicBezTo>
                  <a:pt x="4290" y="10434"/>
                  <a:pt x="4376" y="10595"/>
                  <a:pt x="4465" y="10765"/>
                </a:cubicBezTo>
                <a:cubicBezTo>
                  <a:pt x="4582" y="10990"/>
                  <a:pt x="4682" y="11200"/>
                  <a:pt x="4787" y="11435"/>
                </a:cubicBezTo>
                <a:cubicBezTo>
                  <a:pt x="4874" y="11631"/>
                  <a:pt x="4979" y="11796"/>
                  <a:pt x="5085" y="11981"/>
                </a:cubicBezTo>
                <a:cubicBezTo>
                  <a:pt x="5187" y="12158"/>
                  <a:pt x="5294" y="12345"/>
                  <a:pt x="5383" y="12526"/>
                </a:cubicBezTo>
                <a:cubicBezTo>
                  <a:pt x="5467" y="12697"/>
                  <a:pt x="5552" y="12866"/>
                  <a:pt x="5655" y="13022"/>
                </a:cubicBezTo>
                <a:cubicBezTo>
                  <a:pt x="5725" y="13129"/>
                  <a:pt x="5788" y="13238"/>
                  <a:pt x="5854" y="13345"/>
                </a:cubicBezTo>
                <a:cubicBezTo>
                  <a:pt x="5896" y="13413"/>
                  <a:pt x="5932" y="13478"/>
                  <a:pt x="5978" y="13543"/>
                </a:cubicBezTo>
                <a:cubicBezTo>
                  <a:pt x="6008" y="13586"/>
                  <a:pt x="6044" y="13627"/>
                  <a:pt x="6077" y="13667"/>
                </a:cubicBezTo>
                <a:cubicBezTo>
                  <a:pt x="6085" y="13675"/>
                  <a:pt x="6094" y="13684"/>
                  <a:pt x="6102" y="13692"/>
                </a:cubicBezTo>
                <a:cubicBezTo>
                  <a:pt x="6055" y="13692"/>
                  <a:pt x="5990" y="13694"/>
                  <a:pt x="5928" y="13692"/>
                </a:cubicBezTo>
                <a:cubicBezTo>
                  <a:pt x="5517" y="13677"/>
                  <a:pt x="5094" y="13680"/>
                  <a:pt x="4688" y="13717"/>
                </a:cubicBezTo>
                <a:cubicBezTo>
                  <a:pt x="4595" y="13725"/>
                  <a:pt x="4507" y="13738"/>
                  <a:pt x="4415" y="13742"/>
                </a:cubicBezTo>
                <a:cubicBezTo>
                  <a:pt x="4125" y="13755"/>
                  <a:pt x="3831" y="13733"/>
                  <a:pt x="3547" y="13717"/>
                </a:cubicBezTo>
                <a:cubicBezTo>
                  <a:pt x="3120" y="13693"/>
                  <a:pt x="2669" y="13742"/>
                  <a:pt x="2257" y="1369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Ink 4"/>
          <p:cNvSpPr/>
          <p:nvPr/>
        </p:nvSpPr>
        <p:spPr>
          <a:xfrm>
            <a:off x="785880" y="3616200"/>
            <a:ext cx="1170000" cy="438120"/>
          </a:xfrm>
          <a:custGeom>
            <a:avLst/>
            <a:gdLst/>
            <a:ahLst/>
            <a:rect l="l" t="t" r="r" b="b"/>
            <a:pathLst>
              <a:path w="3250" h="1216">
                <a:moveTo>
                  <a:pt x="2208" y="10716"/>
                </a:moveTo>
                <a:cubicBezTo>
                  <a:pt x="2251" y="10759"/>
                  <a:pt x="2267" y="10826"/>
                  <a:pt x="2307" y="10864"/>
                </a:cubicBezTo>
                <a:cubicBezTo>
                  <a:pt x="2360" y="10914"/>
                  <a:pt x="2448" y="10941"/>
                  <a:pt x="2505" y="10988"/>
                </a:cubicBezTo>
                <a:cubicBezTo>
                  <a:pt x="2572" y="11044"/>
                  <a:pt x="2632" y="11094"/>
                  <a:pt x="2704" y="11137"/>
                </a:cubicBezTo>
                <a:cubicBezTo>
                  <a:pt x="2747" y="11162"/>
                  <a:pt x="2768" y="11177"/>
                  <a:pt x="2803" y="11212"/>
                </a:cubicBezTo>
                <a:cubicBezTo>
                  <a:pt x="2833" y="11182"/>
                  <a:pt x="2838" y="11168"/>
                  <a:pt x="2803" y="11137"/>
                </a:cubicBezTo>
              </a:path>
              <a:path w="3250" h="1216">
                <a:moveTo>
                  <a:pt x="2580" y="10592"/>
                </a:moveTo>
                <a:cubicBezTo>
                  <a:pt x="2549" y="10653"/>
                  <a:pt x="2511" y="10705"/>
                  <a:pt x="2480" y="10765"/>
                </a:cubicBezTo>
                <a:cubicBezTo>
                  <a:pt x="2438" y="10846"/>
                  <a:pt x="2362" y="10876"/>
                  <a:pt x="2307" y="10939"/>
                </a:cubicBezTo>
                <a:cubicBezTo>
                  <a:pt x="2267" y="10985"/>
                  <a:pt x="2254" y="11043"/>
                  <a:pt x="2208" y="11088"/>
                </a:cubicBezTo>
                <a:cubicBezTo>
                  <a:pt x="2183" y="11112"/>
                  <a:pt x="2175" y="11120"/>
                  <a:pt x="2208" y="11088"/>
                </a:cubicBezTo>
              </a:path>
              <a:path w="3250" h="1216">
                <a:moveTo>
                  <a:pt x="4911" y="10765"/>
                </a:moveTo>
                <a:cubicBezTo>
                  <a:pt x="4953" y="10839"/>
                  <a:pt x="5024" y="10915"/>
                  <a:pt x="5085" y="10964"/>
                </a:cubicBezTo>
                <a:cubicBezTo>
                  <a:pt x="5157" y="11023"/>
                  <a:pt x="5238" y="11072"/>
                  <a:pt x="5308" y="11137"/>
                </a:cubicBezTo>
                <a:cubicBezTo>
                  <a:pt x="5352" y="11178"/>
                  <a:pt x="5375" y="11180"/>
                  <a:pt x="5432" y="11187"/>
                </a:cubicBezTo>
              </a:path>
              <a:path w="3250" h="1216">
                <a:moveTo>
                  <a:pt x="5184" y="10641"/>
                </a:moveTo>
                <a:cubicBezTo>
                  <a:pt x="5157" y="10723"/>
                  <a:pt x="5136" y="10812"/>
                  <a:pt x="5110" y="10889"/>
                </a:cubicBezTo>
                <a:cubicBezTo>
                  <a:pt x="5088" y="10955"/>
                  <a:pt x="5021" y="10994"/>
                  <a:pt x="4986" y="11063"/>
                </a:cubicBezTo>
                <a:cubicBezTo>
                  <a:pt x="4959" y="11117"/>
                  <a:pt x="4918" y="11161"/>
                  <a:pt x="4887" y="11212"/>
                </a:cubicBezTo>
                <a:cubicBezTo>
                  <a:pt x="4879" y="11228"/>
                  <a:pt x="4870" y="11245"/>
                  <a:pt x="4862" y="11261"/>
                </a:cubicBezTo>
              </a:path>
              <a:path w="3250" h="1216">
                <a:moveTo>
                  <a:pt x="3547" y="10344"/>
                </a:moveTo>
                <a:cubicBezTo>
                  <a:pt x="3596" y="10295"/>
                  <a:pt x="3559" y="10256"/>
                  <a:pt x="3547" y="10195"/>
                </a:cubicBezTo>
                <a:cubicBezTo>
                  <a:pt x="3539" y="10156"/>
                  <a:pt x="3514" y="10088"/>
                  <a:pt x="3473" y="10071"/>
                </a:cubicBezTo>
                <a:cubicBezTo>
                  <a:pt x="3456" y="10071"/>
                  <a:pt x="3440" y="10071"/>
                  <a:pt x="3423" y="10071"/>
                </a:cubicBezTo>
                <a:cubicBezTo>
                  <a:pt x="3402" y="10108"/>
                  <a:pt x="3334" y="10177"/>
                  <a:pt x="3324" y="10195"/>
                </a:cubicBezTo>
                <a:cubicBezTo>
                  <a:pt x="3268" y="10301"/>
                  <a:pt x="3301" y="10346"/>
                  <a:pt x="3373" y="10418"/>
                </a:cubicBezTo>
                <a:cubicBezTo>
                  <a:pt x="3404" y="10409"/>
                  <a:pt x="3520" y="10366"/>
                  <a:pt x="3547" y="10344"/>
                </a:cubicBezTo>
                <a:cubicBezTo>
                  <a:pt x="3584" y="10313"/>
                  <a:pt x="3591" y="10261"/>
                  <a:pt x="3597" y="10220"/>
                </a:cubicBezTo>
                <a:cubicBezTo>
                  <a:pt x="3570" y="10138"/>
                  <a:pt x="3580" y="10259"/>
                  <a:pt x="3572" y="10294"/>
                </a:cubicBezTo>
                <a:cubicBezTo>
                  <a:pt x="3549" y="10389"/>
                  <a:pt x="3572" y="10466"/>
                  <a:pt x="3572" y="10567"/>
                </a:cubicBezTo>
                <a:cubicBezTo>
                  <a:pt x="3572" y="10625"/>
                  <a:pt x="3572" y="10682"/>
                  <a:pt x="3572" y="10740"/>
                </a:cubicBezTo>
              </a:path>
              <a:path w="3250" h="1216">
                <a:moveTo>
                  <a:pt x="3820" y="10120"/>
                </a:moveTo>
                <a:cubicBezTo>
                  <a:pt x="3802" y="10203"/>
                  <a:pt x="3790" y="10271"/>
                  <a:pt x="3770" y="10344"/>
                </a:cubicBezTo>
                <a:cubicBezTo>
                  <a:pt x="3750" y="10419"/>
                  <a:pt x="3738" y="10492"/>
                  <a:pt x="3770" y="10567"/>
                </a:cubicBezTo>
                <a:cubicBezTo>
                  <a:pt x="3788" y="10610"/>
                  <a:pt x="3839" y="10656"/>
                  <a:pt x="3870" y="10691"/>
                </a:cubicBezTo>
                <a:cubicBezTo>
                  <a:pt x="3933" y="10653"/>
                  <a:pt x="3990" y="10644"/>
                  <a:pt x="3994" y="10567"/>
                </a:cubicBezTo>
                <a:cubicBezTo>
                  <a:pt x="3997" y="10511"/>
                  <a:pt x="3986" y="10387"/>
                  <a:pt x="3894" y="10418"/>
                </a:cubicBezTo>
                <a:cubicBezTo>
                  <a:pt x="3847" y="10434"/>
                  <a:pt x="3822" y="10529"/>
                  <a:pt x="3820" y="10567"/>
                </a:cubicBezTo>
                <a:cubicBezTo>
                  <a:pt x="3816" y="10657"/>
                  <a:pt x="3828" y="10633"/>
                  <a:pt x="3894" y="10691"/>
                </a:cubicBezTo>
              </a:path>
              <a:path w="3250" h="1216">
                <a:moveTo>
                  <a:pt x="4043" y="10145"/>
                </a:moveTo>
                <a:cubicBezTo>
                  <a:pt x="4012" y="10218"/>
                  <a:pt x="4011" y="10197"/>
                  <a:pt x="4043" y="10269"/>
                </a:cubicBezTo>
                <a:cubicBezTo>
                  <a:pt x="4098" y="10253"/>
                  <a:pt x="4175" y="10206"/>
                  <a:pt x="4142" y="10120"/>
                </a:cubicBezTo>
                <a:cubicBezTo>
                  <a:pt x="4113" y="10045"/>
                  <a:pt x="4077" y="10040"/>
                  <a:pt x="3994" y="10071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Ink 5"/>
          <p:cNvSpPr/>
          <p:nvPr/>
        </p:nvSpPr>
        <p:spPr>
          <a:xfrm>
            <a:off x="2473200" y="3384720"/>
            <a:ext cx="2170080" cy="874440"/>
          </a:xfrm>
          <a:custGeom>
            <a:avLst/>
            <a:gdLst/>
            <a:ahLst/>
            <a:rect l="l" t="t" r="r" b="b"/>
            <a:pathLst>
              <a:path w="6028" h="2432">
                <a:moveTo>
                  <a:pt x="7169" y="9823"/>
                </a:moveTo>
                <a:cubicBezTo>
                  <a:pt x="7197" y="9851"/>
                  <a:pt x="7205" y="9864"/>
                  <a:pt x="7193" y="9897"/>
                </a:cubicBezTo>
                <a:cubicBezTo>
                  <a:pt x="7179" y="9798"/>
                  <a:pt x="7141" y="9823"/>
                  <a:pt x="7045" y="9823"/>
                </a:cubicBezTo>
                <a:cubicBezTo>
                  <a:pt x="7009" y="9823"/>
                  <a:pt x="6913" y="9804"/>
                  <a:pt x="6896" y="9847"/>
                </a:cubicBezTo>
                <a:cubicBezTo>
                  <a:pt x="6852" y="9961"/>
                  <a:pt x="6930" y="9943"/>
                  <a:pt x="6970" y="9996"/>
                </a:cubicBezTo>
                <a:cubicBezTo>
                  <a:pt x="7016" y="10056"/>
                  <a:pt x="7099" y="10089"/>
                  <a:pt x="7169" y="10120"/>
                </a:cubicBezTo>
                <a:cubicBezTo>
                  <a:pt x="7241" y="10152"/>
                  <a:pt x="7323" y="10230"/>
                  <a:pt x="7367" y="10294"/>
                </a:cubicBezTo>
                <a:cubicBezTo>
                  <a:pt x="7414" y="10363"/>
                  <a:pt x="7393" y="10409"/>
                  <a:pt x="7317" y="10418"/>
                </a:cubicBezTo>
                <a:cubicBezTo>
                  <a:pt x="7196" y="10432"/>
                  <a:pt x="7116" y="10413"/>
                  <a:pt x="7020" y="10368"/>
                </a:cubicBezTo>
                <a:cubicBezTo>
                  <a:pt x="6932" y="10326"/>
                  <a:pt x="6892" y="10374"/>
                  <a:pt x="6871" y="10269"/>
                </a:cubicBezTo>
              </a:path>
              <a:path w="6028" h="2432">
                <a:moveTo>
                  <a:pt x="7466" y="9897"/>
                </a:moveTo>
                <a:cubicBezTo>
                  <a:pt x="7466" y="9981"/>
                  <a:pt x="7470" y="10063"/>
                  <a:pt x="7491" y="10145"/>
                </a:cubicBezTo>
                <a:cubicBezTo>
                  <a:pt x="7509" y="10215"/>
                  <a:pt x="7522" y="10275"/>
                  <a:pt x="7541" y="10344"/>
                </a:cubicBezTo>
              </a:path>
              <a:path w="6028" h="2432">
                <a:moveTo>
                  <a:pt x="7516" y="9599"/>
                </a:moveTo>
                <a:lnTo>
                  <a:pt x="7516" y="9599"/>
                </a:lnTo>
              </a:path>
              <a:path w="6028" h="2432">
                <a:moveTo>
                  <a:pt x="7689" y="10120"/>
                </a:moveTo>
                <a:cubicBezTo>
                  <a:pt x="7707" y="10228"/>
                  <a:pt x="7715" y="10235"/>
                  <a:pt x="7714" y="10294"/>
                </a:cubicBezTo>
                <a:cubicBezTo>
                  <a:pt x="7714" y="10226"/>
                  <a:pt x="7728" y="10174"/>
                  <a:pt x="7739" y="10120"/>
                </a:cubicBezTo>
                <a:cubicBezTo>
                  <a:pt x="7751" y="10059"/>
                  <a:pt x="7739" y="9979"/>
                  <a:pt x="7764" y="9922"/>
                </a:cubicBezTo>
                <a:cubicBezTo>
                  <a:pt x="7792" y="9858"/>
                  <a:pt x="7783" y="9828"/>
                  <a:pt x="7863" y="9823"/>
                </a:cubicBezTo>
                <a:cubicBezTo>
                  <a:pt x="7982" y="9816"/>
                  <a:pt x="7936" y="9859"/>
                  <a:pt x="8012" y="9897"/>
                </a:cubicBezTo>
                <a:cubicBezTo>
                  <a:pt x="8076" y="9929"/>
                  <a:pt x="8130" y="9980"/>
                  <a:pt x="8136" y="10071"/>
                </a:cubicBezTo>
                <a:cubicBezTo>
                  <a:pt x="8141" y="10150"/>
                  <a:pt x="8161" y="10213"/>
                  <a:pt x="8161" y="10294"/>
                </a:cubicBezTo>
                <a:cubicBezTo>
                  <a:pt x="8161" y="10335"/>
                  <a:pt x="8161" y="10343"/>
                  <a:pt x="8161" y="10368"/>
                </a:cubicBezTo>
              </a:path>
              <a:path w="6028" h="2432">
                <a:moveTo>
                  <a:pt x="8682" y="9748"/>
                </a:moveTo>
                <a:cubicBezTo>
                  <a:pt x="8677" y="9685"/>
                  <a:pt x="8671" y="9577"/>
                  <a:pt x="8607" y="9550"/>
                </a:cubicBezTo>
                <a:cubicBezTo>
                  <a:pt x="8546" y="9524"/>
                  <a:pt x="8472" y="9577"/>
                  <a:pt x="8434" y="9599"/>
                </a:cubicBezTo>
                <a:cubicBezTo>
                  <a:pt x="8362" y="9641"/>
                  <a:pt x="8379" y="9696"/>
                  <a:pt x="8384" y="9748"/>
                </a:cubicBezTo>
                <a:cubicBezTo>
                  <a:pt x="8398" y="9899"/>
                  <a:pt x="8405" y="9775"/>
                  <a:pt x="8483" y="9847"/>
                </a:cubicBezTo>
                <a:cubicBezTo>
                  <a:pt x="8491" y="9864"/>
                  <a:pt x="8500" y="9880"/>
                  <a:pt x="8508" y="9897"/>
                </a:cubicBezTo>
                <a:cubicBezTo>
                  <a:pt x="8528" y="9882"/>
                  <a:pt x="8650" y="9836"/>
                  <a:pt x="8657" y="9823"/>
                </a:cubicBezTo>
                <a:cubicBezTo>
                  <a:pt x="8670" y="9799"/>
                  <a:pt x="8682" y="9642"/>
                  <a:pt x="8682" y="9699"/>
                </a:cubicBezTo>
                <a:cubicBezTo>
                  <a:pt x="8659" y="9768"/>
                  <a:pt x="8637" y="9848"/>
                  <a:pt x="8632" y="9922"/>
                </a:cubicBezTo>
                <a:cubicBezTo>
                  <a:pt x="8625" y="10027"/>
                  <a:pt x="8640" y="10129"/>
                  <a:pt x="8657" y="10220"/>
                </a:cubicBezTo>
                <a:cubicBezTo>
                  <a:pt x="8657" y="10269"/>
                  <a:pt x="8657" y="10285"/>
                  <a:pt x="8657" y="10220"/>
                </a:cubicBezTo>
              </a:path>
              <a:path w="6028" h="2432">
                <a:moveTo>
                  <a:pt x="8855" y="9599"/>
                </a:moveTo>
                <a:cubicBezTo>
                  <a:pt x="8843" y="9674"/>
                  <a:pt x="8828" y="9750"/>
                  <a:pt x="8806" y="9823"/>
                </a:cubicBezTo>
                <a:cubicBezTo>
                  <a:pt x="8771" y="9938"/>
                  <a:pt x="8785" y="10009"/>
                  <a:pt x="8806" y="10120"/>
                </a:cubicBezTo>
                <a:cubicBezTo>
                  <a:pt x="8816" y="10173"/>
                  <a:pt x="8846" y="10225"/>
                  <a:pt x="8880" y="10269"/>
                </a:cubicBezTo>
                <a:cubicBezTo>
                  <a:pt x="8935" y="10342"/>
                  <a:pt x="8969" y="10344"/>
                  <a:pt x="9054" y="10344"/>
                </a:cubicBezTo>
                <a:cubicBezTo>
                  <a:pt x="9119" y="10344"/>
                  <a:pt x="9166" y="10256"/>
                  <a:pt x="9178" y="10195"/>
                </a:cubicBezTo>
                <a:cubicBezTo>
                  <a:pt x="9195" y="10107"/>
                  <a:pt x="9168" y="10066"/>
                  <a:pt x="9128" y="9996"/>
                </a:cubicBezTo>
                <a:cubicBezTo>
                  <a:pt x="9045" y="10020"/>
                  <a:pt x="9035" y="10033"/>
                  <a:pt x="9029" y="10120"/>
                </a:cubicBezTo>
                <a:cubicBezTo>
                  <a:pt x="9026" y="10165"/>
                  <a:pt x="9054" y="10188"/>
                  <a:pt x="9079" y="10220"/>
                </a:cubicBezTo>
              </a:path>
              <a:path w="6028" h="2432">
                <a:moveTo>
                  <a:pt x="9302" y="9475"/>
                </a:moveTo>
                <a:cubicBezTo>
                  <a:pt x="9250" y="9527"/>
                  <a:pt x="9252" y="9546"/>
                  <a:pt x="9252" y="9624"/>
                </a:cubicBezTo>
                <a:cubicBezTo>
                  <a:pt x="9295" y="9624"/>
                  <a:pt x="9396" y="9631"/>
                  <a:pt x="9426" y="9599"/>
                </a:cubicBezTo>
                <a:cubicBezTo>
                  <a:pt x="9478" y="9543"/>
                  <a:pt x="9444" y="9478"/>
                  <a:pt x="9426" y="9451"/>
                </a:cubicBezTo>
                <a:cubicBezTo>
                  <a:pt x="9365" y="9359"/>
                  <a:pt x="9340" y="9429"/>
                  <a:pt x="9252" y="9451"/>
                </a:cubicBezTo>
              </a:path>
              <a:path w="6028" h="2432">
                <a:moveTo>
                  <a:pt x="7094" y="10592"/>
                </a:moveTo>
                <a:cubicBezTo>
                  <a:pt x="7500" y="10592"/>
                  <a:pt x="7907" y="10595"/>
                  <a:pt x="8310" y="10567"/>
                </a:cubicBezTo>
                <a:cubicBezTo>
                  <a:pt x="8513" y="10553"/>
                  <a:pt x="8686" y="10553"/>
                  <a:pt x="8880" y="10517"/>
                </a:cubicBezTo>
                <a:cubicBezTo>
                  <a:pt x="9006" y="10494"/>
                  <a:pt x="9105" y="10492"/>
                  <a:pt x="9227" y="10443"/>
                </a:cubicBezTo>
                <a:cubicBezTo>
                  <a:pt x="9260" y="10430"/>
                  <a:pt x="9415" y="10418"/>
                  <a:pt x="9302" y="10418"/>
                </a:cubicBezTo>
              </a:path>
              <a:path w="6028" h="2432">
                <a:moveTo>
                  <a:pt x="8186" y="11112"/>
                </a:moveTo>
                <a:cubicBezTo>
                  <a:pt x="8228" y="11070"/>
                  <a:pt x="8257" y="10989"/>
                  <a:pt x="8310" y="10964"/>
                </a:cubicBezTo>
                <a:cubicBezTo>
                  <a:pt x="8423" y="10911"/>
                  <a:pt x="8455" y="11076"/>
                  <a:pt x="8458" y="11137"/>
                </a:cubicBezTo>
                <a:cubicBezTo>
                  <a:pt x="8462" y="11225"/>
                  <a:pt x="8440" y="11285"/>
                  <a:pt x="8409" y="11361"/>
                </a:cubicBezTo>
                <a:cubicBezTo>
                  <a:pt x="8382" y="11427"/>
                  <a:pt x="8341" y="11536"/>
                  <a:pt x="8285" y="11584"/>
                </a:cubicBezTo>
                <a:cubicBezTo>
                  <a:pt x="8247" y="11617"/>
                  <a:pt x="8150" y="11626"/>
                  <a:pt x="8136" y="11559"/>
                </a:cubicBezTo>
                <a:cubicBezTo>
                  <a:pt x="8122" y="11495"/>
                  <a:pt x="8131" y="11411"/>
                  <a:pt x="8161" y="11361"/>
                </a:cubicBezTo>
                <a:cubicBezTo>
                  <a:pt x="8213" y="11368"/>
                  <a:pt x="8275" y="11385"/>
                  <a:pt x="8310" y="11435"/>
                </a:cubicBezTo>
                <a:cubicBezTo>
                  <a:pt x="8343" y="11483"/>
                  <a:pt x="8367" y="11517"/>
                  <a:pt x="8409" y="11559"/>
                </a:cubicBezTo>
                <a:cubicBezTo>
                  <a:pt x="8438" y="11588"/>
                  <a:pt x="8446" y="11600"/>
                  <a:pt x="8483" y="11609"/>
                </a:cubicBezTo>
              </a:path>
              <a:path w="6028" h="2432">
                <a:moveTo>
                  <a:pt x="8855" y="11038"/>
                </a:moveTo>
                <a:cubicBezTo>
                  <a:pt x="8800" y="10983"/>
                  <a:pt x="8748" y="10904"/>
                  <a:pt x="8657" y="10939"/>
                </a:cubicBezTo>
                <a:cubicBezTo>
                  <a:pt x="8595" y="10963"/>
                  <a:pt x="8640" y="11057"/>
                  <a:pt x="8657" y="11088"/>
                </a:cubicBezTo>
                <a:cubicBezTo>
                  <a:pt x="8694" y="11157"/>
                  <a:pt x="8742" y="11217"/>
                  <a:pt x="8781" y="11286"/>
                </a:cubicBezTo>
                <a:cubicBezTo>
                  <a:pt x="8827" y="11367"/>
                  <a:pt x="8910" y="11414"/>
                  <a:pt x="8880" y="11534"/>
                </a:cubicBezTo>
                <a:cubicBezTo>
                  <a:pt x="8862" y="11606"/>
                  <a:pt x="8771" y="11588"/>
                  <a:pt x="8731" y="11559"/>
                </a:cubicBezTo>
                <a:cubicBezTo>
                  <a:pt x="8644" y="11496"/>
                  <a:pt x="8673" y="11359"/>
                  <a:pt x="8731" y="11286"/>
                </a:cubicBezTo>
                <a:cubicBezTo>
                  <a:pt x="8782" y="11221"/>
                  <a:pt x="8840" y="11180"/>
                  <a:pt x="8880" y="11112"/>
                </a:cubicBezTo>
                <a:cubicBezTo>
                  <a:pt x="8888" y="11096"/>
                  <a:pt x="8897" y="11079"/>
                  <a:pt x="8905" y="11063"/>
                </a:cubicBezTo>
              </a:path>
              <a:path w="6028" h="2432">
                <a:moveTo>
                  <a:pt x="9847" y="10567"/>
                </a:moveTo>
                <a:cubicBezTo>
                  <a:pt x="9905" y="10567"/>
                  <a:pt x="9914" y="10567"/>
                  <a:pt x="9947" y="10567"/>
                </a:cubicBezTo>
              </a:path>
              <a:path w="6028" h="2432">
                <a:moveTo>
                  <a:pt x="9897" y="10691"/>
                </a:moveTo>
                <a:cubicBezTo>
                  <a:pt x="9980" y="10691"/>
                  <a:pt x="9996" y="10691"/>
                  <a:pt x="10046" y="10691"/>
                </a:cubicBezTo>
              </a:path>
              <a:path w="6028" h="2432">
                <a:moveTo>
                  <a:pt x="10765" y="9897"/>
                </a:moveTo>
                <a:cubicBezTo>
                  <a:pt x="10701" y="9869"/>
                  <a:pt x="10571" y="9809"/>
                  <a:pt x="10492" y="9847"/>
                </a:cubicBezTo>
                <a:cubicBezTo>
                  <a:pt x="10476" y="9864"/>
                  <a:pt x="10459" y="9880"/>
                  <a:pt x="10443" y="9897"/>
                </a:cubicBezTo>
                <a:cubicBezTo>
                  <a:pt x="10462" y="9991"/>
                  <a:pt x="10531" y="9994"/>
                  <a:pt x="10592" y="10071"/>
                </a:cubicBezTo>
                <a:cubicBezTo>
                  <a:pt x="10640" y="10132"/>
                  <a:pt x="10728" y="10206"/>
                  <a:pt x="10765" y="10269"/>
                </a:cubicBezTo>
                <a:cubicBezTo>
                  <a:pt x="10809" y="10343"/>
                  <a:pt x="10832" y="10423"/>
                  <a:pt x="10840" y="10492"/>
                </a:cubicBezTo>
                <a:cubicBezTo>
                  <a:pt x="10763" y="10523"/>
                  <a:pt x="10739" y="10478"/>
                  <a:pt x="10666" y="10443"/>
                </a:cubicBezTo>
                <a:cubicBezTo>
                  <a:pt x="10648" y="10434"/>
                  <a:pt x="10467" y="10346"/>
                  <a:pt x="10468" y="10344"/>
                </a:cubicBezTo>
                <a:cubicBezTo>
                  <a:pt x="10484" y="10319"/>
                  <a:pt x="10501" y="10294"/>
                  <a:pt x="10517" y="10269"/>
                </a:cubicBezTo>
              </a:path>
              <a:path w="6028" h="2432">
                <a:moveTo>
                  <a:pt x="10988" y="9996"/>
                </a:moveTo>
                <a:cubicBezTo>
                  <a:pt x="11034" y="10076"/>
                  <a:pt x="11038" y="10098"/>
                  <a:pt x="11038" y="10195"/>
                </a:cubicBezTo>
                <a:cubicBezTo>
                  <a:pt x="11038" y="10243"/>
                  <a:pt x="11066" y="10345"/>
                  <a:pt x="11063" y="10368"/>
                </a:cubicBezTo>
                <a:cubicBezTo>
                  <a:pt x="11055" y="10385"/>
                  <a:pt x="11046" y="10401"/>
                  <a:pt x="11038" y="10418"/>
                </a:cubicBezTo>
              </a:path>
              <a:path w="6028" h="2432">
                <a:moveTo>
                  <a:pt x="10988" y="9823"/>
                </a:moveTo>
                <a:cubicBezTo>
                  <a:pt x="11022" y="9731"/>
                  <a:pt x="11006" y="9722"/>
                  <a:pt x="11088" y="9699"/>
                </a:cubicBezTo>
              </a:path>
              <a:path w="6028" h="2432">
                <a:moveTo>
                  <a:pt x="11261" y="10120"/>
                </a:moveTo>
                <a:cubicBezTo>
                  <a:pt x="11266" y="10196"/>
                  <a:pt x="11286" y="10421"/>
                  <a:pt x="11286" y="10344"/>
                </a:cubicBezTo>
                <a:cubicBezTo>
                  <a:pt x="11286" y="10263"/>
                  <a:pt x="11324" y="10224"/>
                  <a:pt x="11336" y="10145"/>
                </a:cubicBezTo>
                <a:cubicBezTo>
                  <a:pt x="11343" y="10100"/>
                  <a:pt x="11347" y="9993"/>
                  <a:pt x="11410" y="9971"/>
                </a:cubicBezTo>
                <a:cubicBezTo>
                  <a:pt x="11437" y="9962"/>
                  <a:pt x="11547" y="9956"/>
                  <a:pt x="11559" y="9996"/>
                </a:cubicBezTo>
                <a:cubicBezTo>
                  <a:pt x="11584" y="10078"/>
                  <a:pt x="11560" y="10194"/>
                  <a:pt x="11609" y="10269"/>
                </a:cubicBezTo>
                <a:cubicBezTo>
                  <a:pt x="11627" y="10296"/>
                  <a:pt x="11656" y="10329"/>
                  <a:pt x="11683" y="10368"/>
                </a:cubicBezTo>
                <a:cubicBezTo>
                  <a:pt x="11691" y="10385"/>
                  <a:pt x="11700" y="10401"/>
                  <a:pt x="11708" y="10418"/>
                </a:cubicBezTo>
              </a:path>
              <a:path w="6028" h="2432">
                <a:moveTo>
                  <a:pt x="11757" y="9748"/>
                </a:moveTo>
                <a:cubicBezTo>
                  <a:pt x="11769" y="9806"/>
                  <a:pt x="11802" y="9864"/>
                  <a:pt x="11857" y="9897"/>
                </a:cubicBezTo>
                <a:cubicBezTo>
                  <a:pt x="11897" y="9921"/>
                  <a:pt x="11913" y="9928"/>
                  <a:pt x="11956" y="9971"/>
                </a:cubicBezTo>
                <a:cubicBezTo>
                  <a:pt x="12000" y="9927"/>
                  <a:pt x="12010" y="9910"/>
                  <a:pt x="12055" y="9922"/>
                </a:cubicBezTo>
              </a:path>
              <a:path w="6028" h="2432">
                <a:moveTo>
                  <a:pt x="12105" y="9599"/>
                </a:moveTo>
                <a:cubicBezTo>
                  <a:pt x="12048" y="9671"/>
                  <a:pt x="12033" y="9731"/>
                  <a:pt x="12030" y="9823"/>
                </a:cubicBezTo>
                <a:cubicBezTo>
                  <a:pt x="12026" y="9942"/>
                  <a:pt x="12063" y="10011"/>
                  <a:pt x="12080" y="10120"/>
                </a:cubicBezTo>
                <a:cubicBezTo>
                  <a:pt x="12086" y="10159"/>
                  <a:pt x="12105" y="10422"/>
                  <a:pt x="12105" y="10294"/>
                </a:cubicBezTo>
              </a:path>
              <a:path w="6028" h="2432">
                <a:moveTo>
                  <a:pt x="12204" y="9823"/>
                </a:moveTo>
                <a:cubicBezTo>
                  <a:pt x="12244" y="9755"/>
                  <a:pt x="12274" y="9652"/>
                  <a:pt x="12353" y="9624"/>
                </a:cubicBezTo>
                <a:cubicBezTo>
                  <a:pt x="12403" y="9606"/>
                  <a:pt x="12494" y="9640"/>
                  <a:pt x="12502" y="9674"/>
                </a:cubicBezTo>
                <a:cubicBezTo>
                  <a:pt x="12514" y="9722"/>
                  <a:pt x="12534" y="9851"/>
                  <a:pt x="12526" y="9897"/>
                </a:cubicBezTo>
                <a:cubicBezTo>
                  <a:pt x="12512" y="9978"/>
                  <a:pt x="12490" y="10075"/>
                  <a:pt x="12477" y="10145"/>
                </a:cubicBezTo>
                <a:cubicBezTo>
                  <a:pt x="12470" y="10180"/>
                  <a:pt x="12465" y="10308"/>
                  <a:pt x="12402" y="10294"/>
                </a:cubicBezTo>
                <a:cubicBezTo>
                  <a:pt x="12394" y="10286"/>
                  <a:pt x="12386" y="10277"/>
                  <a:pt x="12378" y="10269"/>
                </a:cubicBezTo>
                <a:cubicBezTo>
                  <a:pt x="12391" y="10179"/>
                  <a:pt x="12414" y="10195"/>
                  <a:pt x="12502" y="10195"/>
                </a:cubicBezTo>
                <a:cubicBezTo>
                  <a:pt x="12553" y="10195"/>
                  <a:pt x="12572" y="10196"/>
                  <a:pt x="12601" y="10220"/>
                </a:cubicBezTo>
              </a:path>
              <a:path w="6028" h="2432">
                <a:moveTo>
                  <a:pt x="12898" y="10492"/>
                </a:moveTo>
                <a:cubicBezTo>
                  <a:pt x="12744" y="10600"/>
                  <a:pt x="12756" y="10553"/>
                  <a:pt x="12601" y="10517"/>
                </a:cubicBezTo>
                <a:cubicBezTo>
                  <a:pt x="12485" y="10490"/>
                  <a:pt x="12324" y="10503"/>
                  <a:pt x="12204" y="10492"/>
                </a:cubicBezTo>
                <a:cubicBezTo>
                  <a:pt x="12113" y="10484"/>
                  <a:pt x="11919" y="10493"/>
                  <a:pt x="11832" y="10517"/>
                </a:cubicBezTo>
                <a:cubicBezTo>
                  <a:pt x="11669" y="10563"/>
                  <a:pt x="11566" y="10567"/>
                  <a:pt x="11385" y="10567"/>
                </a:cubicBezTo>
                <a:cubicBezTo>
                  <a:pt x="11281" y="10567"/>
                  <a:pt x="11190" y="10589"/>
                  <a:pt x="11088" y="10592"/>
                </a:cubicBezTo>
                <a:cubicBezTo>
                  <a:pt x="10959" y="10596"/>
                  <a:pt x="10905" y="10610"/>
                  <a:pt x="10790" y="10641"/>
                </a:cubicBezTo>
                <a:cubicBezTo>
                  <a:pt x="10734" y="10656"/>
                  <a:pt x="10650" y="10641"/>
                  <a:pt x="10592" y="10641"/>
                </a:cubicBezTo>
              </a:path>
              <a:path w="6028" h="2432">
                <a:moveTo>
                  <a:pt x="11410" y="10964"/>
                </a:moveTo>
                <a:cubicBezTo>
                  <a:pt x="11459" y="11019"/>
                  <a:pt x="11485" y="11084"/>
                  <a:pt x="11534" y="11137"/>
                </a:cubicBezTo>
                <a:cubicBezTo>
                  <a:pt x="11698" y="11312"/>
                  <a:pt x="11874" y="11478"/>
                  <a:pt x="12055" y="11633"/>
                </a:cubicBezTo>
                <a:cubicBezTo>
                  <a:pt x="12109" y="11687"/>
                  <a:pt x="12131" y="11708"/>
                  <a:pt x="12179" y="11733"/>
                </a:cubicBezTo>
              </a:path>
              <a:path w="6028" h="2432">
                <a:moveTo>
                  <a:pt x="11931" y="10964"/>
                </a:moveTo>
                <a:cubicBezTo>
                  <a:pt x="11859" y="11035"/>
                  <a:pt x="11802" y="11114"/>
                  <a:pt x="11733" y="11187"/>
                </a:cubicBezTo>
                <a:cubicBezTo>
                  <a:pt x="11655" y="11269"/>
                  <a:pt x="11612" y="11365"/>
                  <a:pt x="11559" y="11460"/>
                </a:cubicBezTo>
                <a:cubicBezTo>
                  <a:pt x="11500" y="11567"/>
                  <a:pt x="11426" y="11657"/>
                  <a:pt x="11361" y="11757"/>
                </a:cubicBezTo>
                <a:cubicBezTo>
                  <a:pt x="11344" y="11782"/>
                  <a:pt x="11328" y="11807"/>
                  <a:pt x="11311" y="1183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Ink 6"/>
          <p:cNvSpPr/>
          <p:nvPr/>
        </p:nvSpPr>
        <p:spPr>
          <a:xfrm>
            <a:off x="3036960" y="4357800"/>
            <a:ext cx="963720" cy="401400"/>
          </a:xfrm>
          <a:custGeom>
            <a:avLst/>
            <a:gdLst/>
            <a:ahLst/>
            <a:rect l="l" t="t" r="r" b="b"/>
            <a:pathLst>
              <a:path w="2679" h="1117">
                <a:moveTo>
                  <a:pt x="8434" y="12402"/>
                </a:moveTo>
                <a:lnTo>
                  <a:pt x="8434" y="12402"/>
                </a:lnTo>
              </a:path>
              <a:path w="2679" h="1117">
                <a:moveTo>
                  <a:pt x="8458" y="12576"/>
                </a:moveTo>
                <a:cubicBezTo>
                  <a:pt x="8519" y="12679"/>
                  <a:pt x="8594" y="12735"/>
                  <a:pt x="8657" y="12824"/>
                </a:cubicBezTo>
                <a:cubicBezTo>
                  <a:pt x="8766" y="12979"/>
                  <a:pt x="8896" y="13073"/>
                  <a:pt x="9054" y="13196"/>
                </a:cubicBezTo>
                <a:cubicBezTo>
                  <a:pt x="9082" y="13224"/>
                  <a:pt x="9095" y="13233"/>
                  <a:pt x="9128" y="13221"/>
                </a:cubicBezTo>
              </a:path>
              <a:path w="2679" h="1117">
                <a:moveTo>
                  <a:pt x="8855" y="12353"/>
                </a:moveTo>
                <a:cubicBezTo>
                  <a:pt x="8787" y="12396"/>
                  <a:pt x="8743" y="12430"/>
                  <a:pt x="8706" y="12502"/>
                </a:cubicBezTo>
                <a:cubicBezTo>
                  <a:pt x="8671" y="12570"/>
                  <a:pt x="8656" y="12631"/>
                  <a:pt x="8632" y="12700"/>
                </a:cubicBezTo>
                <a:cubicBezTo>
                  <a:pt x="8594" y="12809"/>
                  <a:pt x="8526" y="12885"/>
                  <a:pt x="8508" y="12998"/>
                </a:cubicBezTo>
                <a:cubicBezTo>
                  <a:pt x="8498" y="13062"/>
                  <a:pt x="8483" y="13100"/>
                  <a:pt x="8483" y="13171"/>
                </a:cubicBezTo>
                <a:cubicBezTo>
                  <a:pt x="8483" y="13179"/>
                  <a:pt x="8483" y="13188"/>
                  <a:pt x="8483" y="13196"/>
                </a:cubicBezTo>
              </a:path>
              <a:path w="2679" h="1117">
                <a:moveTo>
                  <a:pt x="9029" y="12675"/>
                </a:moveTo>
                <a:cubicBezTo>
                  <a:pt x="9090" y="12675"/>
                  <a:pt x="9128" y="12675"/>
                  <a:pt x="9178" y="12650"/>
                </a:cubicBezTo>
              </a:path>
              <a:path w="2679" h="1117">
                <a:moveTo>
                  <a:pt x="9029" y="12799"/>
                </a:moveTo>
                <a:cubicBezTo>
                  <a:pt x="9124" y="12841"/>
                  <a:pt x="9157" y="12836"/>
                  <a:pt x="9252" y="12824"/>
                </a:cubicBezTo>
              </a:path>
              <a:path w="2679" h="1117">
                <a:moveTo>
                  <a:pt x="9475" y="12353"/>
                </a:moveTo>
                <a:cubicBezTo>
                  <a:pt x="9475" y="12515"/>
                  <a:pt x="9477" y="12667"/>
                  <a:pt x="9500" y="12824"/>
                </a:cubicBezTo>
                <a:cubicBezTo>
                  <a:pt x="9510" y="12891"/>
                  <a:pt x="9539" y="12965"/>
                  <a:pt x="9550" y="13022"/>
                </a:cubicBezTo>
                <a:cubicBezTo>
                  <a:pt x="9561" y="13081"/>
                  <a:pt x="9549" y="13119"/>
                  <a:pt x="9575" y="13171"/>
                </a:cubicBezTo>
              </a:path>
              <a:path w="2679" h="1117">
                <a:moveTo>
                  <a:pt x="9971" y="12576"/>
                </a:moveTo>
                <a:cubicBezTo>
                  <a:pt x="9971" y="12507"/>
                  <a:pt x="9988" y="12444"/>
                  <a:pt x="9922" y="12402"/>
                </a:cubicBezTo>
                <a:cubicBezTo>
                  <a:pt x="9864" y="12365"/>
                  <a:pt x="9831" y="12332"/>
                  <a:pt x="9773" y="12378"/>
                </a:cubicBezTo>
                <a:cubicBezTo>
                  <a:pt x="9726" y="12415"/>
                  <a:pt x="9720" y="12448"/>
                  <a:pt x="9748" y="12502"/>
                </a:cubicBezTo>
                <a:cubicBezTo>
                  <a:pt x="9769" y="12542"/>
                  <a:pt x="9797" y="12593"/>
                  <a:pt x="9823" y="12626"/>
                </a:cubicBezTo>
                <a:cubicBezTo>
                  <a:pt x="9865" y="12679"/>
                  <a:pt x="9898" y="12724"/>
                  <a:pt x="9947" y="12774"/>
                </a:cubicBezTo>
                <a:cubicBezTo>
                  <a:pt x="9988" y="12815"/>
                  <a:pt x="10002" y="12850"/>
                  <a:pt x="10021" y="12898"/>
                </a:cubicBezTo>
                <a:cubicBezTo>
                  <a:pt x="10052" y="12974"/>
                  <a:pt x="10069" y="13081"/>
                  <a:pt x="10021" y="13146"/>
                </a:cubicBezTo>
                <a:cubicBezTo>
                  <a:pt x="9996" y="13171"/>
                  <a:pt x="9988" y="13179"/>
                  <a:pt x="9971" y="13196"/>
                </a:cubicBezTo>
                <a:cubicBezTo>
                  <a:pt x="9913" y="13162"/>
                  <a:pt x="9866" y="13127"/>
                  <a:pt x="9897" y="13047"/>
                </a:cubicBezTo>
                <a:cubicBezTo>
                  <a:pt x="9913" y="13006"/>
                  <a:pt x="9945" y="12930"/>
                  <a:pt x="9971" y="12898"/>
                </a:cubicBezTo>
                <a:cubicBezTo>
                  <a:pt x="10022" y="12835"/>
                  <a:pt x="10014" y="12764"/>
                  <a:pt x="10046" y="12700"/>
                </a:cubicBezTo>
                <a:cubicBezTo>
                  <a:pt x="10082" y="12628"/>
                  <a:pt x="10071" y="12557"/>
                  <a:pt x="10071" y="12477"/>
                </a:cubicBezTo>
              </a:path>
              <a:path w="2679" h="1117">
                <a:moveTo>
                  <a:pt x="10269" y="13122"/>
                </a:moveTo>
                <a:cubicBezTo>
                  <a:pt x="10291" y="13144"/>
                  <a:pt x="10300" y="13155"/>
                  <a:pt x="10294" y="13122"/>
                </a:cubicBezTo>
              </a:path>
              <a:path w="2679" h="1117">
                <a:moveTo>
                  <a:pt x="10616" y="12551"/>
                </a:moveTo>
                <a:cubicBezTo>
                  <a:pt x="10648" y="12467"/>
                  <a:pt x="10652" y="12396"/>
                  <a:pt x="10567" y="12328"/>
                </a:cubicBezTo>
                <a:cubicBezTo>
                  <a:pt x="10525" y="12294"/>
                  <a:pt x="10437" y="12287"/>
                  <a:pt x="10418" y="12353"/>
                </a:cubicBezTo>
                <a:cubicBezTo>
                  <a:pt x="10394" y="12437"/>
                  <a:pt x="10452" y="12457"/>
                  <a:pt x="10468" y="12526"/>
                </a:cubicBezTo>
                <a:cubicBezTo>
                  <a:pt x="10491" y="12624"/>
                  <a:pt x="10545" y="12645"/>
                  <a:pt x="10592" y="12725"/>
                </a:cubicBezTo>
                <a:cubicBezTo>
                  <a:pt x="10633" y="12795"/>
                  <a:pt x="10678" y="12833"/>
                  <a:pt x="10716" y="12898"/>
                </a:cubicBezTo>
                <a:cubicBezTo>
                  <a:pt x="10752" y="12960"/>
                  <a:pt x="10787" y="12998"/>
                  <a:pt x="10790" y="13072"/>
                </a:cubicBezTo>
                <a:cubicBezTo>
                  <a:pt x="10794" y="13160"/>
                  <a:pt x="10773" y="13205"/>
                  <a:pt x="10691" y="13171"/>
                </a:cubicBezTo>
                <a:cubicBezTo>
                  <a:pt x="10603" y="13135"/>
                  <a:pt x="10625" y="13113"/>
                  <a:pt x="10592" y="13047"/>
                </a:cubicBezTo>
                <a:cubicBezTo>
                  <a:pt x="10570" y="13004"/>
                  <a:pt x="10583" y="12928"/>
                  <a:pt x="10616" y="12874"/>
                </a:cubicBezTo>
                <a:cubicBezTo>
                  <a:pt x="10651" y="12817"/>
                  <a:pt x="10708" y="12786"/>
                  <a:pt x="10740" y="12725"/>
                </a:cubicBezTo>
                <a:cubicBezTo>
                  <a:pt x="10773" y="12663"/>
                  <a:pt x="10804" y="12593"/>
                  <a:pt x="10815" y="12526"/>
                </a:cubicBezTo>
                <a:cubicBezTo>
                  <a:pt x="10815" y="12477"/>
                  <a:pt x="10815" y="12460"/>
                  <a:pt x="10815" y="12427"/>
                </a:cubicBezTo>
              </a:path>
              <a:path w="2679" h="1117">
                <a:moveTo>
                  <a:pt x="11112" y="12105"/>
                </a:moveTo>
                <a:cubicBezTo>
                  <a:pt x="11103" y="12181"/>
                  <a:pt x="11073" y="12212"/>
                  <a:pt x="11038" y="12278"/>
                </a:cubicBezTo>
                <a:cubicBezTo>
                  <a:pt x="11018" y="12319"/>
                  <a:pt x="11009" y="12325"/>
                  <a:pt x="11013" y="1235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nk 7"/>
          <p:cNvSpPr/>
          <p:nvPr/>
        </p:nvSpPr>
        <p:spPr>
          <a:xfrm>
            <a:off x="892080" y="4581360"/>
            <a:ext cx="733680" cy="714600"/>
          </a:xfrm>
          <a:custGeom>
            <a:avLst/>
            <a:gdLst/>
            <a:ahLst/>
            <a:rect l="l" t="t" r="r" b="b"/>
            <a:pathLst>
              <a:path w="2035" h="1985">
                <a:moveTo>
                  <a:pt x="3497" y="14064"/>
                </a:moveTo>
                <a:cubicBezTo>
                  <a:pt x="3512" y="14038"/>
                  <a:pt x="3560" y="13946"/>
                  <a:pt x="3597" y="13940"/>
                </a:cubicBezTo>
                <a:cubicBezTo>
                  <a:pt x="3657" y="13930"/>
                  <a:pt x="3762" y="13921"/>
                  <a:pt x="3795" y="13990"/>
                </a:cubicBezTo>
                <a:cubicBezTo>
                  <a:pt x="3832" y="14067"/>
                  <a:pt x="3866" y="14154"/>
                  <a:pt x="3870" y="14238"/>
                </a:cubicBezTo>
                <a:cubicBezTo>
                  <a:pt x="3874" y="14313"/>
                  <a:pt x="3849" y="14365"/>
                  <a:pt x="3845" y="14436"/>
                </a:cubicBezTo>
                <a:cubicBezTo>
                  <a:pt x="3842" y="14495"/>
                  <a:pt x="3806" y="14557"/>
                  <a:pt x="3770" y="14610"/>
                </a:cubicBezTo>
                <a:cubicBezTo>
                  <a:pt x="3736" y="14660"/>
                  <a:pt x="3658" y="14640"/>
                  <a:pt x="3621" y="14610"/>
                </a:cubicBezTo>
                <a:cubicBezTo>
                  <a:pt x="3573" y="14571"/>
                  <a:pt x="3593" y="14482"/>
                  <a:pt x="3621" y="14436"/>
                </a:cubicBezTo>
                <a:cubicBezTo>
                  <a:pt x="3644" y="14399"/>
                  <a:pt x="3699" y="14346"/>
                  <a:pt x="3746" y="14362"/>
                </a:cubicBezTo>
                <a:cubicBezTo>
                  <a:pt x="3804" y="14382"/>
                  <a:pt x="3822" y="14472"/>
                  <a:pt x="3845" y="14511"/>
                </a:cubicBezTo>
                <a:cubicBezTo>
                  <a:pt x="3878" y="14566"/>
                  <a:pt x="3892" y="14634"/>
                  <a:pt x="3944" y="14660"/>
                </a:cubicBezTo>
              </a:path>
              <a:path w="2035" h="1985">
                <a:moveTo>
                  <a:pt x="4242" y="14015"/>
                </a:moveTo>
                <a:cubicBezTo>
                  <a:pt x="4208" y="13956"/>
                  <a:pt x="4173" y="13909"/>
                  <a:pt x="4093" y="13940"/>
                </a:cubicBezTo>
                <a:cubicBezTo>
                  <a:pt x="4043" y="13959"/>
                  <a:pt x="4021" y="14020"/>
                  <a:pt x="4018" y="14064"/>
                </a:cubicBezTo>
                <a:cubicBezTo>
                  <a:pt x="4014" y="14139"/>
                  <a:pt x="4061" y="14176"/>
                  <a:pt x="4093" y="14238"/>
                </a:cubicBezTo>
                <a:cubicBezTo>
                  <a:pt x="4130" y="14309"/>
                  <a:pt x="4170" y="14394"/>
                  <a:pt x="4217" y="14461"/>
                </a:cubicBezTo>
                <a:cubicBezTo>
                  <a:pt x="4250" y="14508"/>
                  <a:pt x="4299" y="14599"/>
                  <a:pt x="4291" y="14660"/>
                </a:cubicBezTo>
                <a:cubicBezTo>
                  <a:pt x="4283" y="14668"/>
                  <a:pt x="4274" y="14676"/>
                  <a:pt x="4266" y="14684"/>
                </a:cubicBezTo>
                <a:cubicBezTo>
                  <a:pt x="4164" y="14714"/>
                  <a:pt x="4150" y="14687"/>
                  <a:pt x="4093" y="14610"/>
                </a:cubicBezTo>
                <a:cubicBezTo>
                  <a:pt x="4066" y="14573"/>
                  <a:pt x="4049" y="14485"/>
                  <a:pt x="4068" y="14436"/>
                </a:cubicBezTo>
                <a:cubicBezTo>
                  <a:pt x="4087" y="14388"/>
                  <a:pt x="4129" y="14301"/>
                  <a:pt x="4167" y="14263"/>
                </a:cubicBezTo>
                <a:cubicBezTo>
                  <a:pt x="4231" y="14199"/>
                  <a:pt x="4254" y="14180"/>
                  <a:pt x="4291" y="14089"/>
                </a:cubicBezTo>
              </a:path>
              <a:path w="2035" h="1985">
                <a:moveTo>
                  <a:pt x="4514" y="13841"/>
                </a:moveTo>
                <a:cubicBezTo>
                  <a:pt x="4514" y="13924"/>
                  <a:pt x="4514" y="14006"/>
                  <a:pt x="4514" y="14089"/>
                </a:cubicBezTo>
              </a:path>
              <a:path w="2035" h="1985">
                <a:moveTo>
                  <a:pt x="2480" y="12998"/>
                </a:moveTo>
                <a:cubicBezTo>
                  <a:pt x="2480" y="13074"/>
                  <a:pt x="2477" y="13093"/>
                  <a:pt x="2530" y="13146"/>
                </a:cubicBezTo>
                <a:cubicBezTo>
                  <a:pt x="2593" y="13208"/>
                  <a:pt x="2628" y="13199"/>
                  <a:pt x="2704" y="13171"/>
                </a:cubicBezTo>
              </a:path>
              <a:path w="2035" h="1985">
                <a:moveTo>
                  <a:pt x="2729" y="12799"/>
                </a:moveTo>
                <a:cubicBezTo>
                  <a:pt x="2729" y="12873"/>
                  <a:pt x="2708" y="12927"/>
                  <a:pt x="2704" y="12998"/>
                </a:cubicBezTo>
                <a:cubicBezTo>
                  <a:pt x="2700" y="13073"/>
                  <a:pt x="2723" y="13129"/>
                  <a:pt x="2729" y="13196"/>
                </a:cubicBezTo>
                <a:cubicBezTo>
                  <a:pt x="2737" y="13291"/>
                  <a:pt x="2738" y="13378"/>
                  <a:pt x="2753" y="13469"/>
                </a:cubicBezTo>
                <a:cubicBezTo>
                  <a:pt x="2761" y="13517"/>
                  <a:pt x="2768" y="13527"/>
                  <a:pt x="2778" y="13568"/>
                </a:cubicBezTo>
              </a:path>
              <a:path w="2035" h="1985">
                <a:moveTo>
                  <a:pt x="2853" y="13072"/>
                </a:moveTo>
                <a:cubicBezTo>
                  <a:pt x="2899" y="13025"/>
                  <a:pt x="2910" y="13002"/>
                  <a:pt x="2977" y="12998"/>
                </a:cubicBezTo>
                <a:cubicBezTo>
                  <a:pt x="3043" y="12994"/>
                  <a:pt x="3082" y="13057"/>
                  <a:pt x="3076" y="13122"/>
                </a:cubicBezTo>
                <a:cubicBezTo>
                  <a:pt x="3072" y="13164"/>
                  <a:pt x="3067" y="13304"/>
                  <a:pt x="3051" y="13345"/>
                </a:cubicBezTo>
                <a:cubicBezTo>
                  <a:pt x="3037" y="13381"/>
                  <a:pt x="3021" y="13448"/>
                  <a:pt x="2977" y="13469"/>
                </a:cubicBezTo>
                <a:cubicBezTo>
                  <a:pt x="2923" y="13495"/>
                  <a:pt x="2823" y="13488"/>
                  <a:pt x="2853" y="13395"/>
                </a:cubicBezTo>
                <a:cubicBezTo>
                  <a:pt x="2876" y="13324"/>
                  <a:pt x="2958" y="13338"/>
                  <a:pt x="3001" y="13370"/>
                </a:cubicBezTo>
                <a:cubicBezTo>
                  <a:pt x="3046" y="13403"/>
                  <a:pt x="3068" y="13453"/>
                  <a:pt x="3101" y="13494"/>
                </a:cubicBezTo>
              </a:path>
              <a:path w="2035" h="1985">
                <a:moveTo>
                  <a:pt x="3175" y="12824"/>
                </a:moveTo>
                <a:cubicBezTo>
                  <a:pt x="3169" y="12846"/>
                  <a:pt x="3156" y="12953"/>
                  <a:pt x="3225" y="12948"/>
                </a:cubicBezTo>
                <a:cubicBezTo>
                  <a:pt x="3302" y="12942"/>
                  <a:pt x="3366" y="12866"/>
                  <a:pt x="3299" y="12799"/>
                </a:cubicBezTo>
                <a:cubicBezTo>
                  <a:pt x="3265" y="12765"/>
                  <a:pt x="3195" y="12734"/>
                  <a:pt x="3150" y="12725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Ink 8"/>
          <p:cNvSpPr/>
          <p:nvPr/>
        </p:nvSpPr>
        <p:spPr>
          <a:xfrm>
            <a:off x="1820880" y="4653000"/>
            <a:ext cx="277920" cy="231840"/>
          </a:xfrm>
          <a:custGeom>
            <a:avLst/>
            <a:gdLst/>
            <a:ahLst/>
            <a:rect l="l" t="t" r="r" b="b"/>
            <a:pathLst>
              <a:path w="770" h="646">
                <a:moveTo>
                  <a:pt x="5085" y="12948"/>
                </a:moveTo>
                <a:cubicBezTo>
                  <a:pt x="5076" y="13008"/>
                  <a:pt x="5056" y="13060"/>
                  <a:pt x="5085" y="13122"/>
                </a:cubicBezTo>
                <a:cubicBezTo>
                  <a:pt x="5102" y="13158"/>
                  <a:pt x="5183" y="13249"/>
                  <a:pt x="5209" y="13271"/>
                </a:cubicBezTo>
                <a:cubicBezTo>
                  <a:pt x="5257" y="13294"/>
                  <a:pt x="5272" y="13302"/>
                  <a:pt x="5308" y="13295"/>
                </a:cubicBezTo>
              </a:path>
              <a:path w="770" h="646">
                <a:moveTo>
                  <a:pt x="5283" y="12923"/>
                </a:moveTo>
                <a:cubicBezTo>
                  <a:pt x="5283" y="13068"/>
                  <a:pt x="5286" y="13207"/>
                  <a:pt x="5308" y="13345"/>
                </a:cubicBezTo>
                <a:cubicBezTo>
                  <a:pt x="5312" y="13371"/>
                  <a:pt x="5333" y="13567"/>
                  <a:pt x="5333" y="13568"/>
                </a:cubicBezTo>
                <a:cubicBezTo>
                  <a:pt x="5325" y="13568"/>
                  <a:pt x="5316" y="13568"/>
                  <a:pt x="5308" y="13568"/>
                </a:cubicBezTo>
              </a:path>
              <a:path w="770" h="646">
                <a:moveTo>
                  <a:pt x="5482" y="13022"/>
                </a:moveTo>
                <a:cubicBezTo>
                  <a:pt x="5592" y="13006"/>
                  <a:pt x="5630" y="12993"/>
                  <a:pt x="5655" y="13122"/>
                </a:cubicBezTo>
                <a:cubicBezTo>
                  <a:pt x="5669" y="13195"/>
                  <a:pt x="5621" y="13317"/>
                  <a:pt x="5581" y="13370"/>
                </a:cubicBezTo>
                <a:cubicBezTo>
                  <a:pt x="5547" y="13415"/>
                  <a:pt x="5535" y="13412"/>
                  <a:pt x="5482" y="13419"/>
                </a:cubicBezTo>
                <a:cubicBezTo>
                  <a:pt x="5444" y="13326"/>
                  <a:pt x="5515" y="13345"/>
                  <a:pt x="5581" y="13395"/>
                </a:cubicBezTo>
                <a:cubicBezTo>
                  <a:pt x="5631" y="13433"/>
                  <a:pt x="5651" y="13467"/>
                  <a:pt x="5680" y="13519"/>
                </a:cubicBezTo>
              </a:path>
              <a:path w="770" h="646">
                <a:moveTo>
                  <a:pt x="5730" y="13072"/>
                </a:moveTo>
                <a:cubicBezTo>
                  <a:pt x="5736" y="13116"/>
                  <a:pt x="5829" y="13237"/>
                  <a:pt x="5829" y="13146"/>
                </a:cubicBezTo>
                <a:cubicBezTo>
                  <a:pt x="5821" y="13138"/>
                  <a:pt x="5812" y="13130"/>
                  <a:pt x="5804" y="1312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4.  The angles of elevation to a plane from two points A and B on level ground are 55</a:t>
            </a:r>
            <a:r>
              <a:rPr b="0" lang="en-US" sz="35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 and 72</a:t>
            </a:r>
            <a:r>
              <a:rPr b="0" lang="en-US" sz="3500" spc="-1" strike="noStrike">
                <a:solidFill>
                  <a:srgbClr val="ccffff"/>
                </a:solidFill>
                <a:latin typeface="Symbol"/>
                <a:ea typeface="Symbol"/>
              </a:rPr>
              <a:t></a:t>
            </a:r>
            <a:r>
              <a:rPr b="0" lang="en-US" sz="3500" spc="-1" strike="noStrike">
                <a:solidFill>
                  <a:srgbClr val="ccffff"/>
                </a:solidFill>
                <a:latin typeface="Arial"/>
              </a:rPr>
              <a:t> respectively.  A and B are 2.2 miles apart and the plane is east of both points.  How far is the plane from point B?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Ink 3"/>
          <p:cNvSpPr/>
          <p:nvPr/>
        </p:nvSpPr>
        <p:spPr>
          <a:xfrm>
            <a:off x="366840" y="3089160"/>
            <a:ext cx="704880" cy="339840"/>
          </a:xfrm>
          <a:custGeom>
            <a:avLst/>
            <a:gdLst/>
            <a:ahLst/>
            <a:rect l="l" t="t" r="r" b="b"/>
            <a:pathLst>
              <a:path w="1961" h="944">
                <a:moveTo>
                  <a:pt x="1364" y="9178"/>
                </a:moveTo>
                <a:cubicBezTo>
                  <a:pt x="1376" y="9108"/>
                  <a:pt x="1391" y="9071"/>
                  <a:pt x="1364" y="9004"/>
                </a:cubicBezTo>
                <a:cubicBezTo>
                  <a:pt x="1334" y="8928"/>
                  <a:pt x="1243" y="8903"/>
                  <a:pt x="1166" y="8930"/>
                </a:cubicBezTo>
                <a:cubicBezTo>
                  <a:pt x="1121" y="8946"/>
                  <a:pt x="1058" y="9004"/>
                  <a:pt x="1017" y="9029"/>
                </a:cubicBezTo>
                <a:cubicBezTo>
                  <a:pt x="1027" y="9095"/>
                  <a:pt x="1045" y="9116"/>
                  <a:pt x="1091" y="9153"/>
                </a:cubicBezTo>
                <a:cubicBezTo>
                  <a:pt x="1154" y="9203"/>
                  <a:pt x="1205" y="9209"/>
                  <a:pt x="1265" y="9252"/>
                </a:cubicBezTo>
                <a:cubicBezTo>
                  <a:pt x="1314" y="9287"/>
                  <a:pt x="1359" y="9351"/>
                  <a:pt x="1389" y="9401"/>
                </a:cubicBezTo>
                <a:cubicBezTo>
                  <a:pt x="1424" y="9459"/>
                  <a:pt x="1422" y="9456"/>
                  <a:pt x="1389" y="9500"/>
                </a:cubicBezTo>
                <a:cubicBezTo>
                  <a:pt x="1311" y="9516"/>
                  <a:pt x="1217" y="9521"/>
                  <a:pt x="1141" y="9475"/>
                </a:cubicBezTo>
                <a:cubicBezTo>
                  <a:pt x="1060" y="9426"/>
                  <a:pt x="1091" y="9485"/>
                  <a:pt x="1067" y="9376"/>
                </a:cubicBezTo>
              </a:path>
              <a:path w="1961" h="944">
                <a:moveTo>
                  <a:pt x="1538" y="9079"/>
                </a:moveTo>
                <a:cubicBezTo>
                  <a:pt x="1543" y="9183"/>
                  <a:pt x="1563" y="9274"/>
                  <a:pt x="1563" y="9376"/>
                </a:cubicBezTo>
              </a:path>
              <a:path w="1961" h="944">
                <a:moveTo>
                  <a:pt x="1563" y="8806"/>
                </a:moveTo>
                <a:cubicBezTo>
                  <a:pt x="1563" y="8798"/>
                  <a:pt x="1563" y="8789"/>
                  <a:pt x="1563" y="8781"/>
                </a:cubicBezTo>
              </a:path>
              <a:path w="1961" h="944">
                <a:moveTo>
                  <a:pt x="1712" y="9178"/>
                </a:moveTo>
                <a:cubicBezTo>
                  <a:pt x="1741" y="9267"/>
                  <a:pt x="1749" y="9307"/>
                  <a:pt x="1736" y="9376"/>
                </a:cubicBezTo>
                <a:cubicBezTo>
                  <a:pt x="1736" y="9439"/>
                  <a:pt x="1736" y="9322"/>
                  <a:pt x="1736" y="9302"/>
                </a:cubicBezTo>
                <a:cubicBezTo>
                  <a:pt x="1736" y="9249"/>
                  <a:pt x="1744" y="9110"/>
                  <a:pt x="1786" y="9079"/>
                </a:cubicBezTo>
                <a:cubicBezTo>
                  <a:pt x="1829" y="9047"/>
                  <a:pt x="1857" y="9024"/>
                  <a:pt x="1910" y="9004"/>
                </a:cubicBezTo>
                <a:cubicBezTo>
                  <a:pt x="1955" y="9029"/>
                  <a:pt x="2014" y="9106"/>
                  <a:pt x="2034" y="9178"/>
                </a:cubicBezTo>
                <a:cubicBezTo>
                  <a:pt x="2052" y="9246"/>
                  <a:pt x="2059" y="9297"/>
                  <a:pt x="2059" y="9376"/>
                </a:cubicBezTo>
                <a:cubicBezTo>
                  <a:pt x="2059" y="9412"/>
                  <a:pt x="2077" y="9441"/>
                  <a:pt x="2084" y="9475"/>
                </a:cubicBezTo>
              </a:path>
              <a:path w="1961" h="944">
                <a:moveTo>
                  <a:pt x="2208" y="8930"/>
                </a:moveTo>
                <a:cubicBezTo>
                  <a:pt x="2267" y="9004"/>
                  <a:pt x="2257" y="9060"/>
                  <a:pt x="2257" y="9153"/>
                </a:cubicBezTo>
                <a:cubicBezTo>
                  <a:pt x="2257" y="9247"/>
                  <a:pt x="2217" y="9466"/>
                  <a:pt x="2282" y="9401"/>
                </a:cubicBezTo>
              </a:path>
              <a:path w="1961" h="944">
                <a:moveTo>
                  <a:pt x="2356" y="8855"/>
                </a:moveTo>
                <a:cubicBezTo>
                  <a:pt x="2474" y="8855"/>
                  <a:pt x="2632" y="8890"/>
                  <a:pt x="2704" y="8806"/>
                </a:cubicBezTo>
                <a:cubicBezTo>
                  <a:pt x="2704" y="8883"/>
                  <a:pt x="2682" y="8936"/>
                  <a:pt x="2679" y="9004"/>
                </a:cubicBezTo>
                <a:cubicBezTo>
                  <a:pt x="2673" y="9128"/>
                  <a:pt x="2690" y="9292"/>
                  <a:pt x="2704" y="9376"/>
                </a:cubicBezTo>
                <a:cubicBezTo>
                  <a:pt x="2710" y="9411"/>
                  <a:pt x="2704" y="9462"/>
                  <a:pt x="2704" y="9500"/>
                </a:cubicBezTo>
              </a:path>
              <a:path w="1961" h="944">
                <a:moveTo>
                  <a:pt x="2853" y="8632"/>
                </a:moveTo>
                <a:cubicBezTo>
                  <a:pt x="2853" y="8657"/>
                  <a:pt x="2853" y="8681"/>
                  <a:pt x="2853" y="8706"/>
                </a:cubicBezTo>
                <a:cubicBezTo>
                  <a:pt x="2912" y="8706"/>
                  <a:pt x="2988" y="8733"/>
                  <a:pt x="2977" y="8632"/>
                </a:cubicBezTo>
                <a:cubicBezTo>
                  <a:pt x="2969" y="8565"/>
                  <a:pt x="2908" y="8617"/>
                  <a:pt x="2877" y="863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Ink 4"/>
          <p:cNvSpPr/>
          <p:nvPr/>
        </p:nvSpPr>
        <p:spPr>
          <a:xfrm>
            <a:off x="303120" y="3116160"/>
            <a:ext cx="1805040" cy="642960"/>
          </a:xfrm>
          <a:custGeom>
            <a:avLst/>
            <a:gdLst/>
            <a:ahLst/>
            <a:rect l="l" t="t" r="r" b="b"/>
            <a:pathLst>
              <a:path w="5012" h="1787">
                <a:moveTo>
                  <a:pt x="843" y="9599"/>
                </a:moveTo>
                <a:cubicBezTo>
                  <a:pt x="947" y="9599"/>
                  <a:pt x="1041" y="9615"/>
                  <a:pt x="1141" y="9624"/>
                </a:cubicBezTo>
                <a:cubicBezTo>
                  <a:pt x="1494" y="9657"/>
                  <a:pt x="1884" y="9634"/>
                  <a:pt x="2232" y="9599"/>
                </a:cubicBezTo>
                <a:cubicBezTo>
                  <a:pt x="2349" y="9587"/>
                  <a:pt x="2648" y="9477"/>
                  <a:pt x="2555" y="9550"/>
                </a:cubicBezTo>
                <a:cubicBezTo>
                  <a:pt x="2510" y="9594"/>
                  <a:pt x="2500" y="9610"/>
                  <a:pt x="2456" y="9599"/>
                </a:cubicBezTo>
              </a:path>
              <a:path w="5012" h="1787">
                <a:moveTo>
                  <a:pt x="1513" y="9897"/>
                </a:moveTo>
                <a:cubicBezTo>
                  <a:pt x="1496" y="9922"/>
                  <a:pt x="1480" y="9946"/>
                  <a:pt x="1463" y="9971"/>
                </a:cubicBezTo>
                <a:cubicBezTo>
                  <a:pt x="1487" y="9916"/>
                  <a:pt x="1507" y="9874"/>
                  <a:pt x="1538" y="9823"/>
                </a:cubicBezTo>
                <a:cubicBezTo>
                  <a:pt x="1546" y="9806"/>
                  <a:pt x="1555" y="9790"/>
                  <a:pt x="1563" y="9773"/>
                </a:cubicBezTo>
                <a:cubicBezTo>
                  <a:pt x="1591" y="9781"/>
                  <a:pt x="1676" y="9810"/>
                  <a:pt x="1687" y="9847"/>
                </a:cubicBezTo>
                <a:cubicBezTo>
                  <a:pt x="1711" y="9924"/>
                  <a:pt x="1704" y="9965"/>
                  <a:pt x="1687" y="10046"/>
                </a:cubicBezTo>
                <a:cubicBezTo>
                  <a:pt x="1673" y="10111"/>
                  <a:pt x="1681" y="10136"/>
                  <a:pt x="1637" y="10195"/>
                </a:cubicBezTo>
                <a:cubicBezTo>
                  <a:pt x="1609" y="10232"/>
                  <a:pt x="1573" y="10317"/>
                  <a:pt x="1538" y="10344"/>
                </a:cubicBezTo>
                <a:cubicBezTo>
                  <a:pt x="1494" y="10378"/>
                  <a:pt x="1422" y="10405"/>
                  <a:pt x="1364" y="10418"/>
                </a:cubicBezTo>
                <a:cubicBezTo>
                  <a:pt x="1341" y="10365"/>
                  <a:pt x="1320" y="10307"/>
                  <a:pt x="1389" y="10269"/>
                </a:cubicBezTo>
                <a:cubicBezTo>
                  <a:pt x="1421" y="10251"/>
                  <a:pt x="1493" y="10265"/>
                  <a:pt x="1513" y="10294"/>
                </a:cubicBezTo>
                <a:cubicBezTo>
                  <a:pt x="1557" y="10357"/>
                  <a:pt x="1563" y="10354"/>
                  <a:pt x="1563" y="10443"/>
                </a:cubicBezTo>
              </a:path>
              <a:path w="5012" h="1787">
                <a:moveTo>
                  <a:pt x="1712" y="10344"/>
                </a:moveTo>
                <a:cubicBezTo>
                  <a:pt x="1720" y="10344"/>
                  <a:pt x="1728" y="10344"/>
                  <a:pt x="1736" y="10344"/>
                </a:cubicBezTo>
              </a:path>
              <a:path w="5012" h="1787">
                <a:moveTo>
                  <a:pt x="1935" y="9897"/>
                </a:moveTo>
                <a:cubicBezTo>
                  <a:pt x="1955" y="9842"/>
                  <a:pt x="1965" y="9753"/>
                  <a:pt x="2034" y="9748"/>
                </a:cubicBezTo>
                <a:cubicBezTo>
                  <a:pt x="2079" y="9745"/>
                  <a:pt x="2154" y="9731"/>
                  <a:pt x="2183" y="9773"/>
                </a:cubicBezTo>
                <a:cubicBezTo>
                  <a:pt x="2242" y="9858"/>
                  <a:pt x="2232" y="9948"/>
                  <a:pt x="2232" y="10046"/>
                </a:cubicBezTo>
                <a:cubicBezTo>
                  <a:pt x="2232" y="10136"/>
                  <a:pt x="2202" y="10148"/>
                  <a:pt x="2158" y="10220"/>
                </a:cubicBezTo>
                <a:cubicBezTo>
                  <a:pt x="2119" y="10284"/>
                  <a:pt x="2108" y="10335"/>
                  <a:pt x="2034" y="10344"/>
                </a:cubicBezTo>
                <a:cubicBezTo>
                  <a:pt x="1984" y="10344"/>
                  <a:pt x="1968" y="10344"/>
                  <a:pt x="1935" y="10344"/>
                </a:cubicBezTo>
                <a:cubicBezTo>
                  <a:pt x="1927" y="10276"/>
                  <a:pt x="1902" y="10256"/>
                  <a:pt x="1935" y="10195"/>
                </a:cubicBezTo>
                <a:cubicBezTo>
                  <a:pt x="1967" y="10137"/>
                  <a:pt x="2049" y="10068"/>
                  <a:pt x="2108" y="10145"/>
                </a:cubicBezTo>
                <a:cubicBezTo>
                  <a:pt x="2133" y="10178"/>
                  <a:pt x="2173" y="10242"/>
                  <a:pt x="2208" y="10269"/>
                </a:cubicBezTo>
                <a:cubicBezTo>
                  <a:pt x="2269" y="10317"/>
                  <a:pt x="2222" y="10369"/>
                  <a:pt x="2257" y="10418"/>
                </a:cubicBezTo>
                <a:cubicBezTo>
                  <a:pt x="2265" y="10418"/>
                  <a:pt x="2274" y="10418"/>
                  <a:pt x="2282" y="10418"/>
                </a:cubicBezTo>
              </a:path>
              <a:path w="5012" h="1787">
                <a:moveTo>
                  <a:pt x="2877" y="9500"/>
                </a:moveTo>
                <a:cubicBezTo>
                  <a:pt x="2929" y="9448"/>
                  <a:pt x="2949" y="9451"/>
                  <a:pt x="3026" y="9451"/>
                </a:cubicBezTo>
                <a:cubicBezTo>
                  <a:pt x="3076" y="9451"/>
                  <a:pt x="3092" y="9451"/>
                  <a:pt x="3125" y="9451"/>
                </a:cubicBezTo>
              </a:path>
              <a:path w="5012" h="1787">
                <a:moveTo>
                  <a:pt x="2877" y="9599"/>
                </a:moveTo>
                <a:cubicBezTo>
                  <a:pt x="2943" y="9599"/>
                  <a:pt x="3010" y="9599"/>
                  <a:pt x="3076" y="9599"/>
                </a:cubicBezTo>
              </a:path>
              <a:path w="5012" h="1787">
                <a:moveTo>
                  <a:pt x="3770" y="9004"/>
                </a:moveTo>
                <a:cubicBezTo>
                  <a:pt x="3749" y="8966"/>
                  <a:pt x="3677" y="8871"/>
                  <a:pt x="3621" y="8880"/>
                </a:cubicBezTo>
                <a:cubicBezTo>
                  <a:pt x="3585" y="8886"/>
                  <a:pt x="3417" y="8936"/>
                  <a:pt x="3423" y="9004"/>
                </a:cubicBezTo>
                <a:cubicBezTo>
                  <a:pt x="3430" y="9091"/>
                  <a:pt x="3529" y="9061"/>
                  <a:pt x="3572" y="9103"/>
                </a:cubicBezTo>
                <a:cubicBezTo>
                  <a:pt x="3603" y="9134"/>
                  <a:pt x="3669" y="9206"/>
                  <a:pt x="3721" y="9227"/>
                </a:cubicBezTo>
                <a:cubicBezTo>
                  <a:pt x="3788" y="9254"/>
                  <a:pt x="3848" y="9265"/>
                  <a:pt x="3820" y="9376"/>
                </a:cubicBezTo>
                <a:cubicBezTo>
                  <a:pt x="3807" y="9428"/>
                  <a:pt x="3627" y="9388"/>
                  <a:pt x="3597" y="9376"/>
                </a:cubicBezTo>
                <a:cubicBezTo>
                  <a:pt x="3528" y="9347"/>
                  <a:pt x="3459" y="9306"/>
                  <a:pt x="3423" y="9252"/>
                </a:cubicBezTo>
              </a:path>
              <a:path w="5012" h="1787">
                <a:moveTo>
                  <a:pt x="4043" y="9004"/>
                </a:moveTo>
                <a:cubicBezTo>
                  <a:pt x="4065" y="9092"/>
                  <a:pt x="4068" y="9161"/>
                  <a:pt x="4068" y="9252"/>
                </a:cubicBezTo>
                <a:cubicBezTo>
                  <a:pt x="4068" y="9287"/>
                  <a:pt x="4068" y="9351"/>
                  <a:pt x="4043" y="9302"/>
                </a:cubicBezTo>
              </a:path>
              <a:path w="5012" h="1787">
                <a:moveTo>
                  <a:pt x="4093" y="8706"/>
                </a:moveTo>
                <a:cubicBezTo>
                  <a:pt x="4113" y="8666"/>
                  <a:pt x="4111" y="8650"/>
                  <a:pt x="4142" y="8657"/>
                </a:cubicBezTo>
              </a:path>
              <a:path w="5012" h="1787">
                <a:moveTo>
                  <a:pt x="4291" y="9004"/>
                </a:moveTo>
                <a:cubicBezTo>
                  <a:pt x="4297" y="9048"/>
                  <a:pt x="4288" y="9380"/>
                  <a:pt x="4316" y="9252"/>
                </a:cubicBezTo>
                <a:cubicBezTo>
                  <a:pt x="4322" y="9224"/>
                  <a:pt x="4331" y="9099"/>
                  <a:pt x="4341" y="9079"/>
                </a:cubicBezTo>
                <a:cubicBezTo>
                  <a:pt x="4351" y="9060"/>
                  <a:pt x="4372" y="8976"/>
                  <a:pt x="4390" y="8930"/>
                </a:cubicBezTo>
                <a:cubicBezTo>
                  <a:pt x="4412" y="8876"/>
                  <a:pt x="4462" y="8811"/>
                  <a:pt x="4514" y="8880"/>
                </a:cubicBezTo>
                <a:cubicBezTo>
                  <a:pt x="4557" y="8936"/>
                  <a:pt x="4581" y="9009"/>
                  <a:pt x="4589" y="9079"/>
                </a:cubicBezTo>
                <a:cubicBezTo>
                  <a:pt x="4598" y="9155"/>
                  <a:pt x="4579" y="9247"/>
                  <a:pt x="4614" y="9302"/>
                </a:cubicBezTo>
                <a:cubicBezTo>
                  <a:pt x="4638" y="9302"/>
                  <a:pt x="4647" y="9302"/>
                  <a:pt x="4663" y="9302"/>
                </a:cubicBezTo>
              </a:path>
              <a:path w="5012" h="1787">
                <a:moveTo>
                  <a:pt x="4812" y="8806"/>
                </a:moveTo>
                <a:cubicBezTo>
                  <a:pt x="4891" y="8779"/>
                  <a:pt x="4959" y="8743"/>
                  <a:pt x="5035" y="8731"/>
                </a:cubicBezTo>
                <a:cubicBezTo>
                  <a:pt x="5043" y="8731"/>
                  <a:pt x="5052" y="8731"/>
                  <a:pt x="5060" y="8731"/>
                </a:cubicBezTo>
              </a:path>
              <a:path w="5012" h="1787">
                <a:moveTo>
                  <a:pt x="4837" y="8781"/>
                </a:moveTo>
                <a:cubicBezTo>
                  <a:pt x="4787" y="8852"/>
                  <a:pt x="4732" y="8909"/>
                  <a:pt x="4762" y="9004"/>
                </a:cubicBezTo>
                <a:cubicBezTo>
                  <a:pt x="4770" y="9012"/>
                  <a:pt x="4779" y="9021"/>
                  <a:pt x="4787" y="9029"/>
                </a:cubicBezTo>
                <a:cubicBezTo>
                  <a:pt x="4813" y="9026"/>
                  <a:pt x="4946" y="9019"/>
                  <a:pt x="4961" y="9004"/>
                </a:cubicBezTo>
                <a:cubicBezTo>
                  <a:pt x="4969" y="8987"/>
                  <a:pt x="4978" y="8971"/>
                  <a:pt x="4986" y="8954"/>
                </a:cubicBezTo>
                <a:cubicBezTo>
                  <a:pt x="5034" y="8991"/>
                  <a:pt x="5124" y="9005"/>
                  <a:pt x="5135" y="9079"/>
                </a:cubicBezTo>
                <a:cubicBezTo>
                  <a:pt x="5147" y="9162"/>
                  <a:pt x="5129" y="9267"/>
                  <a:pt x="5060" y="9302"/>
                </a:cubicBezTo>
                <a:cubicBezTo>
                  <a:pt x="4960" y="9353"/>
                  <a:pt x="4969" y="9376"/>
                  <a:pt x="4837" y="9376"/>
                </a:cubicBezTo>
                <a:cubicBezTo>
                  <a:pt x="4753" y="9376"/>
                  <a:pt x="4764" y="9365"/>
                  <a:pt x="4713" y="9302"/>
                </a:cubicBezTo>
              </a:path>
              <a:path w="5012" h="1787">
                <a:moveTo>
                  <a:pt x="5209" y="8806"/>
                </a:moveTo>
                <a:cubicBezTo>
                  <a:pt x="5325" y="8801"/>
                  <a:pt x="5419" y="8792"/>
                  <a:pt x="5531" y="8781"/>
                </a:cubicBezTo>
              </a:path>
              <a:path w="5012" h="1787">
                <a:moveTo>
                  <a:pt x="5308" y="8781"/>
                </a:moveTo>
                <a:cubicBezTo>
                  <a:pt x="5273" y="8826"/>
                  <a:pt x="5192" y="8887"/>
                  <a:pt x="5209" y="8954"/>
                </a:cubicBezTo>
                <a:cubicBezTo>
                  <a:pt x="5228" y="9030"/>
                  <a:pt x="5295" y="9004"/>
                  <a:pt x="5358" y="9004"/>
                </a:cubicBezTo>
                <a:cubicBezTo>
                  <a:pt x="5466" y="9004"/>
                  <a:pt x="5468" y="9031"/>
                  <a:pt x="5556" y="9079"/>
                </a:cubicBezTo>
                <a:cubicBezTo>
                  <a:pt x="5606" y="9106"/>
                  <a:pt x="5661" y="9145"/>
                  <a:pt x="5631" y="9227"/>
                </a:cubicBezTo>
                <a:cubicBezTo>
                  <a:pt x="5622" y="9250"/>
                  <a:pt x="5513" y="9299"/>
                  <a:pt x="5482" y="9302"/>
                </a:cubicBezTo>
                <a:cubicBezTo>
                  <a:pt x="5428" y="9307"/>
                  <a:pt x="5315" y="9269"/>
                  <a:pt x="5283" y="9227"/>
                </a:cubicBezTo>
                <a:cubicBezTo>
                  <a:pt x="5275" y="9211"/>
                  <a:pt x="5267" y="9194"/>
                  <a:pt x="5259" y="9178"/>
                </a:cubicBezTo>
              </a:path>
              <a:path w="5012" h="1787">
                <a:moveTo>
                  <a:pt x="5680" y="8657"/>
                </a:moveTo>
                <a:cubicBezTo>
                  <a:pt x="5680" y="8727"/>
                  <a:pt x="5673" y="8753"/>
                  <a:pt x="5705" y="8806"/>
                </a:cubicBezTo>
                <a:cubicBezTo>
                  <a:pt x="5748" y="8800"/>
                  <a:pt x="5854" y="8795"/>
                  <a:pt x="5854" y="8731"/>
                </a:cubicBezTo>
                <a:cubicBezTo>
                  <a:pt x="5846" y="8723"/>
                  <a:pt x="5837" y="8714"/>
                  <a:pt x="5829" y="8706"/>
                </a:cubicBezTo>
                <a:cubicBezTo>
                  <a:pt x="5757" y="8706"/>
                  <a:pt x="5720" y="8678"/>
                  <a:pt x="5655" y="8657"/>
                </a:cubicBezTo>
              </a:path>
              <a:path w="5012" h="1787">
                <a:moveTo>
                  <a:pt x="3373" y="9525"/>
                </a:moveTo>
                <a:cubicBezTo>
                  <a:pt x="3456" y="9575"/>
                  <a:pt x="3521" y="9536"/>
                  <a:pt x="3621" y="9525"/>
                </a:cubicBezTo>
                <a:cubicBezTo>
                  <a:pt x="3775" y="9508"/>
                  <a:pt x="3939" y="9513"/>
                  <a:pt x="4093" y="9500"/>
                </a:cubicBezTo>
                <a:cubicBezTo>
                  <a:pt x="4257" y="9486"/>
                  <a:pt x="4429" y="9487"/>
                  <a:pt x="4589" y="9475"/>
                </a:cubicBezTo>
                <a:cubicBezTo>
                  <a:pt x="4713" y="9465"/>
                  <a:pt x="4842" y="9464"/>
                  <a:pt x="4961" y="9451"/>
                </a:cubicBezTo>
                <a:cubicBezTo>
                  <a:pt x="5121" y="9433"/>
                  <a:pt x="5295" y="9451"/>
                  <a:pt x="5457" y="9451"/>
                </a:cubicBezTo>
              </a:path>
              <a:path w="5012" h="1787">
                <a:moveTo>
                  <a:pt x="4341" y="9674"/>
                </a:moveTo>
                <a:cubicBezTo>
                  <a:pt x="4341" y="9779"/>
                  <a:pt x="4354" y="9809"/>
                  <a:pt x="4390" y="9897"/>
                </a:cubicBezTo>
                <a:cubicBezTo>
                  <a:pt x="4417" y="9964"/>
                  <a:pt x="4455" y="10061"/>
                  <a:pt x="4514" y="10120"/>
                </a:cubicBezTo>
                <a:cubicBezTo>
                  <a:pt x="4571" y="10177"/>
                  <a:pt x="4627" y="10239"/>
                  <a:pt x="4688" y="10294"/>
                </a:cubicBezTo>
                <a:cubicBezTo>
                  <a:pt x="4785" y="10380"/>
                  <a:pt x="4750" y="10403"/>
                  <a:pt x="4887" y="10418"/>
                </a:cubicBezTo>
                <a:cubicBezTo>
                  <a:pt x="4895" y="10418"/>
                  <a:pt x="4903" y="10418"/>
                  <a:pt x="4911" y="10418"/>
                </a:cubicBezTo>
              </a:path>
              <a:path w="5012" h="1787">
                <a:moveTo>
                  <a:pt x="4713" y="9748"/>
                </a:moveTo>
                <a:cubicBezTo>
                  <a:pt x="4625" y="9756"/>
                  <a:pt x="4483" y="9788"/>
                  <a:pt x="4415" y="9847"/>
                </a:cubicBezTo>
                <a:cubicBezTo>
                  <a:pt x="4313" y="9936"/>
                  <a:pt x="4220" y="10058"/>
                  <a:pt x="4118" y="10145"/>
                </a:cubicBezTo>
                <a:cubicBezTo>
                  <a:pt x="4040" y="10212"/>
                  <a:pt x="3961" y="10305"/>
                  <a:pt x="3870" y="10344"/>
                </a:cubicBezTo>
                <a:cubicBezTo>
                  <a:pt x="3812" y="10344"/>
                  <a:pt x="3787" y="10344"/>
                  <a:pt x="3746" y="10344"/>
                </a:cubicBezTo>
              </a:path>
              <a:path w="5012" h="1787">
                <a:moveTo>
                  <a:pt x="3398" y="9227"/>
                </a:moveTo>
                <a:cubicBezTo>
                  <a:pt x="3343" y="9262"/>
                  <a:pt x="3271" y="9354"/>
                  <a:pt x="3225" y="9376"/>
                </a:cubicBezTo>
                <a:cubicBezTo>
                  <a:pt x="3114" y="9429"/>
                  <a:pt x="3033" y="9552"/>
                  <a:pt x="2927" y="9599"/>
                </a:cubicBezTo>
                <a:cubicBezTo>
                  <a:pt x="2857" y="9630"/>
                  <a:pt x="2714" y="9694"/>
                  <a:pt x="2654" y="9748"/>
                </a:cubicBezTo>
                <a:cubicBezTo>
                  <a:pt x="2624" y="9775"/>
                  <a:pt x="2423" y="9981"/>
                  <a:pt x="2381" y="9971"/>
                </a:cubicBezTo>
                <a:cubicBezTo>
                  <a:pt x="2373" y="9955"/>
                  <a:pt x="2364" y="9938"/>
                  <a:pt x="2356" y="9922"/>
                </a:cubicBezTo>
              </a:path>
              <a:path w="5012" h="1787">
                <a:moveTo>
                  <a:pt x="2753" y="9252"/>
                </a:moveTo>
                <a:cubicBezTo>
                  <a:pt x="2870" y="9382"/>
                  <a:pt x="2961" y="9419"/>
                  <a:pt x="3076" y="9525"/>
                </a:cubicBezTo>
                <a:cubicBezTo>
                  <a:pt x="3155" y="9597"/>
                  <a:pt x="3294" y="9698"/>
                  <a:pt x="3398" y="9748"/>
                </a:cubicBezTo>
                <a:cubicBezTo>
                  <a:pt x="3489" y="9791"/>
                  <a:pt x="3588" y="9860"/>
                  <a:pt x="3671" y="9897"/>
                </a:cubicBezTo>
                <a:cubicBezTo>
                  <a:pt x="3730" y="9923"/>
                  <a:pt x="3786" y="9942"/>
                  <a:pt x="3845" y="9971"/>
                </a:cubicBezTo>
                <a:cubicBezTo>
                  <a:pt x="3853" y="9979"/>
                  <a:pt x="3862" y="9988"/>
                  <a:pt x="3870" y="9996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Ink 5"/>
          <p:cNvSpPr/>
          <p:nvPr/>
        </p:nvSpPr>
        <p:spPr>
          <a:xfrm>
            <a:off x="392040" y="3848040"/>
            <a:ext cx="706680" cy="260280"/>
          </a:xfrm>
          <a:custGeom>
            <a:avLst/>
            <a:gdLst/>
            <a:ahLst/>
            <a:rect l="l" t="t" r="r" b="b"/>
            <a:pathLst>
              <a:path w="1961" h="720">
                <a:moveTo>
                  <a:pt x="1166" y="10716"/>
                </a:moveTo>
                <a:cubicBezTo>
                  <a:pt x="1144" y="10797"/>
                  <a:pt x="1108" y="10884"/>
                  <a:pt x="1091" y="10964"/>
                </a:cubicBezTo>
                <a:cubicBezTo>
                  <a:pt x="1076" y="11036"/>
                  <a:pt x="1089" y="11123"/>
                  <a:pt x="1116" y="11187"/>
                </a:cubicBezTo>
                <a:cubicBezTo>
                  <a:pt x="1141" y="11247"/>
                  <a:pt x="1209" y="11293"/>
                  <a:pt x="1265" y="11286"/>
                </a:cubicBezTo>
                <a:cubicBezTo>
                  <a:pt x="1323" y="11279"/>
                  <a:pt x="1400" y="11220"/>
                  <a:pt x="1414" y="11162"/>
                </a:cubicBezTo>
                <a:cubicBezTo>
                  <a:pt x="1421" y="11134"/>
                  <a:pt x="1420" y="11009"/>
                  <a:pt x="1364" y="11013"/>
                </a:cubicBezTo>
                <a:cubicBezTo>
                  <a:pt x="1268" y="11020"/>
                  <a:pt x="1246" y="11107"/>
                  <a:pt x="1265" y="11187"/>
                </a:cubicBezTo>
                <a:cubicBezTo>
                  <a:pt x="1285" y="11227"/>
                  <a:pt x="1294" y="11234"/>
                  <a:pt x="1290" y="11261"/>
                </a:cubicBezTo>
              </a:path>
              <a:path w="1961" h="720">
                <a:moveTo>
                  <a:pt x="1612" y="11261"/>
                </a:moveTo>
                <a:cubicBezTo>
                  <a:pt x="1612" y="11245"/>
                  <a:pt x="1612" y="11228"/>
                  <a:pt x="1612" y="11212"/>
                </a:cubicBezTo>
              </a:path>
              <a:path w="1961" h="720">
                <a:moveTo>
                  <a:pt x="1687" y="10840"/>
                </a:moveTo>
                <a:cubicBezTo>
                  <a:pt x="1721" y="10747"/>
                  <a:pt x="1737" y="10667"/>
                  <a:pt x="1860" y="10691"/>
                </a:cubicBezTo>
                <a:cubicBezTo>
                  <a:pt x="1970" y="10712"/>
                  <a:pt x="1960" y="10772"/>
                  <a:pt x="1960" y="10864"/>
                </a:cubicBezTo>
                <a:cubicBezTo>
                  <a:pt x="1960" y="10927"/>
                  <a:pt x="1945" y="11007"/>
                  <a:pt x="1910" y="11063"/>
                </a:cubicBezTo>
                <a:cubicBezTo>
                  <a:pt x="1879" y="11113"/>
                  <a:pt x="1860" y="11140"/>
                  <a:pt x="1836" y="11187"/>
                </a:cubicBezTo>
                <a:cubicBezTo>
                  <a:pt x="1817" y="11226"/>
                  <a:pt x="1749" y="11286"/>
                  <a:pt x="1836" y="11311"/>
                </a:cubicBezTo>
                <a:cubicBezTo>
                  <a:pt x="1893" y="11327"/>
                  <a:pt x="1966" y="11312"/>
                  <a:pt x="2009" y="11286"/>
                </a:cubicBezTo>
              </a:path>
              <a:path w="1961" h="720">
                <a:moveTo>
                  <a:pt x="2183" y="10964"/>
                </a:moveTo>
                <a:cubicBezTo>
                  <a:pt x="2251" y="10938"/>
                  <a:pt x="2280" y="10939"/>
                  <a:pt x="2356" y="10939"/>
                </a:cubicBezTo>
              </a:path>
              <a:path w="1961" h="720">
                <a:moveTo>
                  <a:pt x="2257" y="11088"/>
                </a:moveTo>
                <a:cubicBezTo>
                  <a:pt x="2318" y="11123"/>
                  <a:pt x="2368" y="11119"/>
                  <a:pt x="2431" y="11088"/>
                </a:cubicBezTo>
              </a:path>
              <a:path w="1961" h="720">
                <a:moveTo>
                  <a:pt x="2604" y="10864"/>
                </a:moveTo>
                <a:cubicBezTo>
                  <a:pt x="2652" y="10936"/>
                  <a:pt x="2679" y="11006"/>
                  <a:pt x="2753" y="11063"/>
                </a:cubicBezTo>
                <a:cubicBezTo>
                  <a:pt x="2808" y="11106"/>
                  <a:pt x="2887" y="11188"/>
                  <a:pt x="2952" y="11212"/>
                </a:cubicBezTo>
                <a:cubicBezTo>
                  <a:pt x="2985" y="11220"/>
                  <a:pt x="3018" y="11229"/>
                  <a:pt x="3051" y="11237"/>
                </a:cubicBezTo>
              </a:path>
              <a:path w="1961" h="720">
                <a:moveTo>
                  <a:pt x="2927" y="10765"/>
                </a:moveTo>
                <a:cubicBezTo>
                  <a:pt x="2835" y="10869"/>
                  <a:pt x="2733" y="10949"/>
                  <a:pt x="2654" y="11063"/>
                </a:cubicBezTo>
                <a:cubicBezTo>
                  <a:pt x="2605" y="11133"/>
                  <a:pt x="2509" y="11234"/>
                  <a:pt x="2480" y="11311"/>
                </a:cubicBezTo>
                <a:cubicBezTo>
                  <a:pt x="2472" y="11344"/>
                  <a:pt x="2464" y="11377"/>
                  <a:pt x="2456" y="11410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Ink 6"/>
          <p:cNvSpPr/>
          <p:nvPr/>
        </p:nvSpPr>
        <p:spPr>
          <a:xfrm>
            <a:off x="2384280" y="3803760"/>
            <a:ext cx="258840" cy="26028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6648" y="10740"/>
                </a:moveTo>
                <a:cubicBezTo>
                  <a:pt x="6638" y="10826"/>
                  <a:pt x="6623" y="10899"/>
                  <a:pt x="6623" y="10988"/>
                </a:cubicBezTo>
                <a:cubicBezTo>
                  <a:pt x="6623" y="11087"/>
                  <a:pt x="6623" y="11187"/>
                  <a:pt x="6623" y="11286"/>
                </a:cubicBezTo>
              </a:path>
              <a:path w="720" h="720">
                <a:moveTo>
                  <a:pt x="6796" y="10815"/>
                </a:moveTo>
                <a:cubicBezTo>
                  <a:pt x="6861" y="10791"/>
                  <a:pt x="6935" y="10813"/>
                  <a:pt x="6995" y="10790"/>
                </a:cubicBezTo>
                <a:cubicBezTo>
                  <a:pt x="7003" y="10782"/>
                  <a:pt x="7012" y="10773"/>
                  <a:pt x="7020" y="10765"/>
                </a:cubicBezTo>
                <a:cubicBezTo>
                  <a:pt x="7011" y="10828"/>
                  <a:pt x="6981" y="10874"/>
                  <a:pt x="6970" y="10939"/>
                </a:cubicBezTo>
                <a:cubicBezTo>
                  <a:pt x="6955" y="11026"/>
                  <a:pt x="6977" y="11108"/>
                  <a:pt x="6995" y="11187"/>
                </a:cubicBezTo>
                <a:cubicBezTo>
                  <a:pt x="6995" y="11195"/>
                  <a:pt x="6995" y="11204"/>
                  <a:pt x="6995" y="11212"/>
                </a:cubicBezTo>
              </a:path>
              <a:path w="720" h="720">
                <a:moveTo>
                  <a:pt x="7169" y="10641"/>
                </a:moveTo>
                <a:cubicBezTo>
                  <a:pt x="7176" y="10720"/>
                  <a:pt x="7181" y="10809"/>
                  <a:pt x="7293" y="10765"/>
                </a:cubicBezTo>
                <a:cubicBezTo>
                  <a:pt x="7395" y="10725"/>
                  <a:pt x="7305" y="10632"/>
                  <a:pt x="7268" y="10592"/>
                </a:cubicBezTo>
                <a:cubicBezTo>
                  <a:pt x="7240" y="10564"/>
                  <a:pt x="7226" y="10555"/>
                  <a:pt x="7193" y="10567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Ink 7"/>
          <p:cNvSpPr/>
          <p:nvPr/>
        </p:nvSpPr>
        <p:spPr>
          <a:xfrm>
            <a:off x="965160" y="4626000"/>
            <a:ext cx="320760" cy="204840"/>
          </a:xfrm>
          <a:custGeom>
            <a:avLst/>
            <a:gdLst/>
            <a:ahLst/>
            <a:rect l="l" t="t" r="r" b="b"/>
            <a:pathLst>
              <a:path w="894" h="571">
                <a:moveTo>
                  <a:pt x="2902" y="13072"/>
                </a:moveTo>
                <a:cubicBezTo>
                  <a:pt x="2961" y="13056"/>
                  <a:pt x="3005" y="13050"/>
                  <a:pt x="3051" y="13022"/>
                </a:cubicBezTo>
              </a:path>
              <a:path w="894" h="571">
                <a:moveTo>
                  <a:pt x="2927" y="13022"/>
                </a:moveTo>
                <a:cubicBezTo>
                  <a:pt x="2886" y="13063"/>
                  <a:pt x="2845" y="13105"/>
                  <a:pt x="2803" y="13146"/>
                </a:cubicBezTo>
                <a:cubicBezTo>
                  <a:pt x="2867" y="13146"/>
                  <a:pt x="2913" y="13136"/>
                  <a:pt x="2952" y="13196"/>
                </a:cubicBezTo>
                <a:cubicBezTo>
                  <a:pt x="3013" y="13291"/>
                  <a:pt x="2971" y="13339"/>
                  <a:pt x="2902" y="13395"/>
                </a:cubicBezTo>
                <a:cubicBezTo>
                  <a:pt x="2859" y="13430"/>
                  <a:pt x="2778" y="13418"/>
                  <a:pt x="2729" y="13395"/>
                </a:cubicBezTo>
                <a:cubicBezTo>
                  <a:pt x="2704" y="13370"/>
                  <a:pt x="2696" y="13362"/>
                  <a:pt x="2679" y="13345"/>
                </a:cubicBezTo>
              </a:path>
              <a:path w="894" h="571">
                <a:moveTo>
                  <a:pt x="3175" y="12998"/>
                </a:moveTo>
                <a:cubicBezTo>
                  <a:pt x="3230" y="12965"/>
                  <a:pt x="3281" y="12973"/>
                  <a:pt x="3349" y="12973"/>
                </a:cubicBezTo>
              </a:path>
              <a:path w="894" h="571">
                <a:moveTo>
                  <a:pt x="3200" y="12973"/>
                </a:moveTo>
                <a:cubicBezTo>
                  <a:pt x="3174" y="12999"/>
                  <a:pt x="3119" y="13067"/>
                  <a:pt x="3125" y="13097"/>
                </a:cubicBezTo>
                <a:cubicBezTo>
                  <a:pt x="3135" y="13145"/>
                  <a:pt x="3245" y="13155"/>
                  <a:pt x="3274" y="13196"/>
                </a:cubicBezTo>
                <a:cubicBezTo>
                  <a:pt x="3318" y="13258"/>
                  <a:pt x="3313" y="13328"/>
                  <a:pt x="3249" y="13370"/>
                </a:cubicBezTo>
                <a:cubicBezTo>
                  <a:pt x="3208" y="13397"/>
                  <a:pt x="3109" y="13423"/>
                  <a:pt x="3076" y="13370"/>
                </a:cubicBezTo>
                <a:cubicBezTo>
                  <a:pt x="3076" y="13362"/>
                  <a:pt x="3076" y="13353"/>
                  <a:pt x="3076" y="13345"/>
                </a:cubicBezTo>
              </a:path>
              <a:path w="894" h="571">
                <a:moveTo>
                  <a:pt x="3497" y="12923"/>
                </a:moveTo>
                <a:cubicBezTo>
                  <a:pt x="3489" y="12931"/>
                  <a:pt x="3481" y="12940"/>
                  <a:pt x="3473" y="12948"/>
                </a:cubicBezTo>
                <a:cubicBezTo>
                  <a:pt x="3524" y="12969"/>
                  <a:pt x="3523" y="12963"/>
                  <a:pt x="3572" y="12923"/>
                </a:cubicBezTo>
                <a:cubicBezTo>
                  <a:pt x="3542" y="12893"/>
                  <a:pt x="3531" y="12879"/>
                  <a:pt x="3522" y="12849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Ink 8"/>
          <p:cNvSpPr/>
          <p:nvPr/>
        </p:nvSpPr>
        <p:spPr>
          <a:xfrm>
            <a:off x="1839960" y="4187880"/>
            <a:ext cx="1928880" cy="706320"/>
          </a:xfrm>
          <a:custGeom>
            <a:avLst/>
            <a:gdLst/>
            <a:ahLst/>
            <a:rect l="l" t="t" r="r" b="b"/>
            <a:pathLst>
              <a:path w="5359" h="1961">
                <a:moveTo>
                  <a:pt x="5928" y="13494"/>
                </a:moveTo>
                <a:cubicBezTo>
                  <a:pt x="5987" y="13507"/>
                  <a:pt x="6058" y="13509"/>
                  <a:pt x="6127" y="13519"/>
                </a:cubicBezTo>
                <a:cubicBezTo>
                  <a:pt x="6194" y="13529"/>
                  <a:pt x="6252" y="13541"/>
                  <a:pt x="6325" y="13543"/>
                </a:cubicBezTo>
                <a:cubicBezTo>
                  <a:pt x="6527" y="13548"/>
                  <a:pt x="6723" y="13551"/>
                  <a:pt x="6921" y="13568"/>
                </a:cubicBezTo>
                <a:cubicBezTo>
                  <a:pt x="7092" y="13583"/>
                  <a:pt x="7270" y="13589"/>
                  <a:pt x="7441" y="13593"/>
                </a:cubicBezTo>
                <a:cubicBezTo>
                  <a:pt x="7854" y="13602"/>
                  <a:pt x="8274" y="13602"/>
                  <a:pt x="8682" y="13568"/>
                </a:cubicBezTo>
                <a:cubicBezTo>
                  <a:pt x="8807" y="13557"/>
                  <a:pt x="8930" y="13558"/>
                  <a:pt x="9054" y="13543"/>
                </a:cubicBezTo>
                <a:cubicBezTo>
                  <a:pt x="9164" y="13530"/>
                  <a:pt x="9273" y="13520"/>
                  <a:pt x="9376" y="13494"/>
                </a:cubicBezTo>
                <a:cubicBezTo>
                  <a:pt x="9485" y="13467"/>
                  <a:pt x="9449" y="13446"/>
                  <a:pt x="9451" y="13444"/>
                </a:cubicBezTo>
              </a:path>
              <a:path w="5359" h="1961">
                <a:moveTo>
                  <a:pt x="6276" y="12874"/>
                </a:moveTo>
                <a:cubicBezTo>
                  <a:pt x="6355" y="12884"/>
                  <a:pt x="6416" y="12898"/>
                  <a:pt x="6499" y="12898"/>
                </a:cubicBezTo>
                <a:cubicBezTo>
                  <a:pt x="6551" y="12898"/>
                  <a:pt x="6654" y="12880"/>
                  <a:pt x="6623" y="12973"/>
                </a:cubicBezTo>
                <a:cubicBezTo>
                  <a:pt x="6602" y="13036"/>
                  <a:pt x="6596" y="13131"/>
                  <a:pt x="6573" y="13196"/>
                </a:cubicBezTo>
                <a:cubicBezTo>
                  <a:pt x="6552" y="13254"/>
                  <a:pt x="6548" y="13300"/>
                  <a:pt x="6548" y="13370"/>
                </a:cubicBezTo>
                <a:cubicBezTo>
                  <a:pt x="6548" y="13378"/>
                  <a:pt x="6548" y="13387"/>
                  <a:pt x="6548" y="13395"/>
                </a:cubicBezTo>
              </a:path>
              <a:path w="5359" h="1961">
                <a:moveTo>
                  <a:pt x="6796" y="12948"/>
                </a:moveTo>
                <a:cubicBezTo>
                  <a:pt x="6885" y="12926"/>
                  <a:pt x="6912" y="12935"/>
                  <a:pt x="6970" y="12998"/>
                </a:cubicBezTo>
                <a:cubicBezTo>
                  <a:pt x="7030" y="13063"/>
                  <a:pt x="7021" y="13105"/>
                  <a:pt x="6995" y="13171"/>
                </a:cubicBezTo>
                <a:cubicBezTo>
                  <a:pt x="6963" y="13251"/>
                  <a:pt x="6946" y="13301"/>
                  <a:pt x="6871" y="13345"/>
                </a:cubicBezTo>
                <a:cubicBezTo>
                  <a:pt x="6823" y="13369"/>
                  <a:pt x="6809" y="13377"/>
                  <a:pt x="6772" y="13370"/>
                </a:cubicBezTo>
                <a:cubicBezTo>
                  <a:pt x="6785" y="13263"/>
                  <a:pt x="6795" y="13284"/>
                  <a:pt x="6871" y="13246"/>
                </a:cubicBezTo>
                <a:cubicBezTo>
                  <a:pt x="6944" y="13210"/>
                  <a:pt x="6919" y="13268"/>
                  <a:pt x="6945" y="13320"/>
                </a:cubicBezTo>
                <a:cubicBezTo>
                  <a:pt x="6964" y="13358"/>
                  <a:pt x="6970" y="13378"/>
                  <a:pt x="6995" y="13395"/>
                </a:cubicBezTo>
              </a:path>
              <a:path w="5359" h="1961">
                <a:moveTo>
                  <a:pt x="7193" y="12874"/>
                </a:moveTo>
                <a:cubicBezTo>
                  <a:pt x="7205" y="12959"/>
                  <a:pt x="7231" y="12962"/>
                  <a:pt x="7317" y="12973"/>
                </a:cubicBezTo>
                <a:cubicBezTo>
                  <a:pt x="7346" y="12885"/>
                  <a:pt x="7307" y="12882"/>
                  <a:pt x="7243" y="12824"/>
                </a:cubicBezTo>
                <a:cubicBezTo>
                  <a:pt x="7235" y="12816"/>
                  <a:pt x="7226" y="12807"/>
                  <a:pt x="7218" y="12799"/>
                </a:cubicBezTo>
              </a:path>
              <a:path w="5359" h="1961">
                <a:moveTo>
                  <a:pt x="7193" y="11708"/>
                </a:moveTo>
                <a:cubicBezTo>
                  <a:pt x="7218" y="11782"/>
                  <a:pt x="7219" y="11841"/>
                  <a:pt x="7268" y="11906"/>
                </a:cubicBezTo>
                <a:cubicBezTo>
                  <a:pt x="7307" y="11958"/>
                  <a:pt x="7333" y="12024"/>
                  <a:pt x="7367" y="12080"/>
                </a:cubicBezTo>
                <a:cubicBezTo>
                  <a:pt x="7410" y="12151"/>
                  <a:pt x="7457" y="12176"/>
                  <a:pt x="7516" y="12229"/>
                </a:cubicBezTo>
                <a:cubicBezTo>
                  <a:pt x="7524" y="12237"/>
                  <a:pt x="7533" y="12246"/>
                  <a:pt x="7541" y="12254"/>
                </a:cubicBezTo>
              </a:path>
              <a:path w="5359" h="1961">
                <a:moveTo>
                  <a:pt x="7565" y="11658"/>
                </a:moveTo>
                <a:cubicBezTo>
                  <a:pt x="7526" y="11698"/>
                  <a:pt x="7471" y="11744"/>
                  <a:pt x="7441" y="11782"/>
                </a:cubicBezTo>
                <a:cubicBezTo>
                  <a:pt x="7391" y="11845"/>
                  <a:pt x="7346" y="11919"/>
                  <a:pt x="7293" y="11981"/>
                </a:cubicBezTo>
                <a:cubicBezTo>
                  <a:pt x="7247" y="12035"/>
                  <a:pt x="7194" y="12060"/>
                  <a:pt x="7144" y="12105"/>
                </a:cubicBezTo>
                <a:cubicBezTo>
                  <a:pt x="7099" y="12145"/>
                  <a:pt x="7079" y="12183"/>
                  <a:pt x="7045" y="12229"/>
                </a:cubicBezTo>
                <a:cubicBezTo>
                  <a:pt x="6998" y="12292"/>
                  <a:pt x="7040" y="12225"/>
                  <a:pt x="7045" y="12204"/>
                </a:cubicBezTo>
              </a:path>
              <a:path w="5359" h="1961">
                <a:moveTo>
                  <a:pt x="5110" y="12799"/>
                </a:moveTo>
                <a:cubicBezTo>
                  <a:pt x="5120" y="12878"/>
                  <a:pt x="5135" y="12938"/>
                  <a:pt x="5135" y="13022"/>
                </a:cubicBezTo>
                <a:cubicBezTo>
                  <a:pt x="5135" y="13108"/>
                  <a:pt x="5113" y="13361"/>
                  <a:pt x="5159" y="13345"/>
                </a:cubicBezTo>
              </a:path>
              <a:path w="5359" h="1961">
                <a:moveTo>
                  <a:pt x="5333" y="12973"/>
                </a:moveTo>
                <a:cubicBezTo>
                  <a:pt x="5355" y="13029"/>
                  <a:pt x="5307" y="13100"/>
                  <a:pt x="5333" y="13171"/>
                </a:cubicBezTo>
                <a:cubicBezTo>
                  <a:pt x="5349" y="13215"/>
                  <a:pt x="5399" y="13290"/>
                  <a:pt x="5457" y="13271"/>
                </a:cubicBezTo>
                <a:cubicBezTo>
                  <a:pt x="5518" y="13251"/>
                  <a:pt x="5512" y="13183"/>
                  <a:pt x="5531" y="13146"/>
                </a:cubicBezTo>
                <a:cubicBezTo>
                  <a:pt x="5570" y="13070"/>
                  <a:pt x="5545" y="13021"/>
                  <a:pt x="5531" y="12948"/>
                </a:cubicBezTo>
                <a:cubicBezTo>
                  <a:pt x="5524" y="12912"/>
                  <a:pt x="5508" y="12813"/>
                  <a:pt x="5457" y="12799"/>
                </a:cubicBezTo>
                <a:cubicBezTo>
                  <a:pt x="5370" y="12776"/>
                  <a:pt x="5339" y="12800"/>
                  <a:pt x="5333" y="12874"/>
                </a:cubicBezTo>
                <a:cubicBezTo>
                  <a:pt x="5333" y="12882"/>
                  <a:pt x="5333" y="12890"/>
                  <a:pt x="5333" y="12898"/>
                </a:cubicBezTo>
              </a:path>
              <a:path w="5359" h="1961">
                <a:moveTo>
                  <a:pt x="5755" y="12849"/>
                </a:moveTo>
                <a:cubicBezTo>
                  <a:pt x="5710" y="12804"/>
                  <a:pt x="5700" y="12787"/>
                  <a:pt x="5655" y="12799"/>
                </a:cubicBezTo>
                <a:cubicBezTo>
                  <a:pt x="5612" y="12874"/>
                  <a:pt x="5650" y="12918"/>
                  <a:pt x="5680" y="12998"/>
                </a:cubicBezTo>
                <a:cubicBezTo>
                  <a:pt x="5709" y="13075"/>
                  <a:pt x="5705" y="13140"/>
                  <a:pt x="5705" y="13221"/>
                </a:cubicBezTo>
                <a:cubicBezTo>
                  <a:pt x="5633" y="13211"/>
                  <a:pt x="5611" y="13200"/>
                  <a:pt x="5606" y="13122"/>
                </a:cubicBezTo>
                <a:cubicBezTo>
                  <a:pt x="5602" y="13047"/>
                  <a:pt x="5612" y="12986"/>
                  <a:pt x="5655" y="12923"/>
                </a:cubicBezTo>
                <a:cubicBezTo>
                  <a:pt x="5680" y="12898"/>
                  <a:pt x="5688" y="12890"/>
                  <a:pt x="5705" y="12874"/>
                </a:cubicBezTo>
              </a:path>
              <a:path w="5359" h="1961">
                <a:moveTo>
                  <a:pt x="5854" y="12700"/>
                </a:moveTo>
                <a:cubicBezTo>
                  <a:pt x="5841" y="12791"/>
                  <a:pt x="5826" y="12798"/>
                  <a:pt x="5928" y="12824"/>
                </a:cubicBezTo>
                <a:cubicBezTo>
                  <a:pt x="5956" y="12754"/>
                  <a:pt x="5918" y="12721"/>
                  <a:pt x="5854" y="12675"/>
                </a:cubicBezTo>
              </a:path>
              <a:path w="5359" h="1961">
                <a:moveTo>
                  <a:pt x="6796" y="13295"/>
                </a:moveTo>
                <a:cubicBezTo>
                  <a:pt x="6788" y="13287"/>
                  <a:pt x="6780" y="13279"/>
                  <a:pt x="6772" y="13271"/>
                </a:cubicBezTo>
              </a:path>
              <a:path w="5359" h="1961">
                <a:moveTo>
                  <a:pt x="5556" y="13271"/>
                </a:moveTo>
                <a:lnTo>
                  <a:pt x="5556" y="13271"/>
                </a:lnTo>
              </a:path>
              <a:path w="5359" h="1961">
                <a:moveTo>
                  <a:pt x="5680" y="13221"/>
                </a:moveTo>
                <a:cubicBezTo>
                  <a:pt x="5672" y="13213"/>
                  <a:pt x="5663" y="13204"/>
                  <a:pt x="5655" y="13196"/>
                </a:cubicBezTo>
              </a:path>
              <a:path w="5359" h="1961">
                <a:moveTo>
                  <a:pt x="7813" y="11832"/>
                </a:moveTo>
                <a:cubicBezTo>
                  <a:pt x="7896" y="11832"/>
                  <a:pt x="7979" y="11832"/>
                  <a:pt x="8062" y="11832"/>
                </a:cubicBezTo>
              </a:path>
              <a:path w="5359" h="1961">
                <a:moveTo>
                  <a:pt x="7913" y="12005"/>
                </a:moveTo>
                <a:cubicBezTo>
                  <a:pt x="7983" y="12014"/>
                  <a:pt x="8038" y="12030"/>
                  <a:pt x="8111" y="12030"/>
                </a:cubicBezTo>
              </a:path>
              <a:path w="5359" h="1961">
                <a:moveTo>
                  <a:pt x="8533" y="11633"/>
                </a:moveTo>
                <a:cubicBezTo>
                  <a:pt x="8500" y="11707"/>
                  <a:pt x="8463" y="11782"/>
                  <a:pt x="8434" y="11857"/>
                </a:cubicBezTo>
                <a:cubicBezTo>
                  <a:pt x="8414" y="11909"/>
                  <a:pt x="8387" y="12022"/>
                  <a:pt x="8409" y="12080"/>
                </a:cubicBezTo>
                <a:cubicBezTo>
                  <a:pt x="8445" y="12174"/>
                  <a:pt x="8509" y="12234"/>
                  <a:pt x="8607" y="12254"/>
                </a:cubicBezTo>
                <a:cubicBezTo>
                  <a:pt x="8716" y="12277"/>
                  <a:pt x="8745" y="12216"/>
                  <a:pt x="8781" y="12154"/>
                </a:cubicBezTo>
                <a:cubicBezTo>
                  <a:pt x="8817" y="12092"/>
                  <a:pt x="8812" y="12050"/>
                  <a:pt x="8781" y="11981"/>
                </a:cubicBezTo>
                <a:cubicBezTo>
                  <a:pt x="8759" y="11937"/>
                  <a:pt x="8756" y="11925"/>
                  <a:pt x="8731" y="11906"/>
                </a:cubicBezTo>
                <a:cubicBezTo>
                  <a:pt x="8672" y="11926"/>
                  <a:pt x="8662" y="11954"/>
                  <a:pt x="8657" y="12030"/>
                </a:cubicBezTo>
                <a:cubicBezTo>
                  <a:pt x="8654" y="12084"/>
                  <a:pt x="8675" y="12126"/>
                  <a:pt x="8682" y="12179"/>
                </a:cubicBezTo>
              </a:path>
              <a:path w="5359" h="1961">
                <a:moveTo>
                  <a:pt x="8905" y="12254"/>
                </a:moveTo>
                <a:cubicBezTo>
                  <a:pt x="8930" y="12229"/>
                  <a:pt x="8938" y="12221"/>
                  <a:pt x="8954" y="12204"/>
                </a:cubicBezTo>
              </a:path>
              <a:path w="5359" h="1961">
                <a:moveTo>
                  <a:pt x="9128" y="11757"/>
                </a:moveTo>
                <a:cubicBezTo>
                  <a:pt x="9231" y="11693"/>
                  <a:pt x="9261" y="11669"/>
                  <a:pt x="9376" y="11708"/>
                </a:cubicBezTo>
                <a:cubicBezTo>
                  <a:pt x="9517" y="11755"/>
                  <a:pt x="9434" y="11752"/>
                  <a:pt x="9475" y="11857"/>
                </a:cubicBezTo>
                <a:cubicBezTo>
                  <a:pt x="9490" y="11895"/>
                  <a:pt x="9491" y="12022"/>
                  <a:pt x="9475" y="12080"/>
                </a:cubicBezTo>
                <a:cubicBezTo>
                  <a:pt x="9465" y="12114"/>
                  <a:pt x="9392" y="12242"/>
                  <a:pt x="9351" y="12254"/>
                </a:cubicBezTo>
                <a:cubicBezTo>
                  <a:pt x="9276" y="12276"/>
                  <a:pt x="9220" y="12193"/>
                  <a:pt x="9227" y="12129"/>
                </a:cubicBezTo>
                <a:cubicBezTo>
                  <a:pt x="9235" y="12113"/>
                  <a:pt x="9244" y="12096"/>
                  <a:pt x="9252" y="12080"/>
                </a:cubicBezTo>
                <a:cubicBezTo>
                  <a:pt x="9314" y="12089"/>
                  <a:pt x="9351" y="12109"/>
                  <a:pt x="9401" y="12154"/>
                </a:cubicBezTo>
                <a:cubicBezTo>
                  <a:pt x="9465" y="12212"/>
                  <a:pt x="9453" y="12246"/>
                  <a:pt x="9550" y="12254"/>
                </a:cubicBezTo>
                <a:cubicBezTo>
                  <a:pt x="9558" y="12254"/>
                  <a:pt x="9567" y="12254"/>
                  <a:pt x="9575" y="12254"/>
                </a:cubicBezTo>
              </a:path>
              <a:path w="5359" h="1961">
                <a:moveTo>
                  <a:pt x="9773" y="11981"/>
                </a:moveTo>
                <a:cubicBezTo>
                  <a:pt x="9790" y="12060"/>
                  <a:pt x="9798" y="12102"/>
                  <a:pt x="9798" y="12179"/>
                </a:cubicBezTo>
                <a:cubicBezTo>
                  <a:pt x="9831" y="12125"/>
                  <a:pt x="9827" y="12066"/>
                  <a:pt x="9847" y="12005"/>
                </a:cubicBezTo>
                <a:cubicBezTo>
                  <a:pt x="9855" y="11989"/>
                  <a:pt x="9864" y="11972"/>
                  <a:pt x="9872" y="11956"/>
                </a:cubicBezTo>
                <a:cubicBezTo>
                  <a:pt x="9942" y="11966"/>
                  <a:pt x="9993" y="12000"/>
                  <a:pt x="10021" y="12080"/>
                </a:cubicBezTo>
                <a:cubicBezTo>
                  <a:pt x="10021" y="12124"/>
                  <a:pt x="10018" y="12138"/>
                  <a:pt x="10046" y="12154"/>
                </a:cubicBezTo>
                <a:cubicBezTo>
                  <a:pt x="10057" y="12067"/>
                  <a:pt x="10074" y="12031"/>
                  <a:pt x="10145" y="11981"/>
                </a:cubicBezTo>
                <a:cubicBezTo>
                  <a:pt x="10182" y="12017"/>
                  <a:pt x="10232" y="12052"/>
                  <a:pt x="10244" y="12105"/>
                </a:cubicBezTo>
                <a:cubicBezTo>
                  <a:pt x="10257" y="12161"/>
                  <a:pt x="10256" y="12181"/>
                  <a:pt x="10294" y="12229"/>
                </a:cubicBezTo>
              </a:path>
              <a:path w="5359" h="1961">
                <a:moveTo>
                  <a:pt x="10418" y="12055"/>
                </a:moveTo>
                <a:cubicBezTo>
                  <a:pt x="10442" y="12120"/>
                  <a:pt x="10456" y="12185"/>
                  <a:pt x="10468" y="12254"/>
                </a:cubicBezTo>
              </a:path>
              <a:path w="5359" h="1961">
                <a:moveTo>
                  <a:pt x="10443" y="11683"/>
                </a:moveTo>
                <a:cubicBezTo>
                  <a:pt x="10402" y="11632"/>
                  <a:pt x="10409" y="11618"/>
                  <a:pt x="10393" y="1168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Ink 9"/>
          <p:cNvSpPr/>
          <p:nvPr/>
        </p:nvSpPr>
        <p:spPr>
          <a:xfrm>
            <a:off x="677880" y="4840200"/>
            <a:ext cx="1581120" cy="374760"/>
          </a:xfrm>
          <a:custGeom>
            <a:avLst/>
            <a:gdLst/>
            <a:ahLst/>
            <a:rect l="l" t="t" r="r" b="b"/>
            <a:pathLst>
              <a:path w="4392" h="1043">
                <a:moveTo>
                  <a:pt x="2084" y="13519"/>
                </a:moveTo>
                <a:cubicBezTo>
                  <a:pt x="2138" y="13601"/>
                  <a:pt x="2079" y="13600"/>
                  <a:pt x="2133" y="13519"/>
                </a:cubicBezTo>
                <a:cubicBezTo>
                  <a:pt x="2108" y="13569"/>
                  <a:pt x="2030" y="13534"/>
                  <a:pt x="2084" y="13519"/>
                </a:cubicBezTo>
                <a:cubicBezTo>
                  <a:pt x="2240" y="13475"/>
                  <a:pt x="2452" y="13532"/>
                  <a:pt x="2604" y="13543"/>
                </a:cubicBezTo>
                <a:cubicBezTo>
                  <a:pt x="3058" y="13575"/>
                  <a:pt x="3518" y="13530"/>
                  <a:pt x="3969" y="13568"/>
                </a:cubicBezTo>
                <a:cubicBezTo>
                  <a:pt x="4094" y="13578"/>
                  <a:pt x="4218" y="13570"/>
                  <a:pt x="4341" y="13593"/>
                </a:cubicBezTo>
                <a:cubicBezTo>
                  <a:pt x="4513" y="13626"/>
                  <a:pt x="4688" y="13671"/>
                  <a:pt x="4862" y="13692"/>
                </a:cubicBezTo>
                <a:cubicBezTo>
                  <a:pt x="5113" y="13722"/>
                  <a:pt x="5385" y="13685"/>
                  <a:pt x="5631" y="13667"/>
                </a:cubicBezTo>
                <a:cubicBezTo>
                  <a:pt x="5744" y="13659"/>
                  <a:pt x="5818" y="13644"/>
                  <a:pt x="5928" y="13618"/>
                </a:cubicBezTo>
                <a:cubicBezTo>
                  <a:pt x="5993" y="13603"/>
                  <a:pt x="6045" y="13580"/>
                  <a:pt x="6102" y="13543"/>
                </a:cubicBezTo>
                <a:cubicBezTo>
                  <a:pt x="6110" y="13535"/>
                  <a:pt x="6119" y="13527"/>
                  <a:pt x="6127" y="13519"/>
                </a:cubicBezTo>
                <a:cubicBezTo>
                  <a:pt x="6047" y="13530"/>
                  <a:pt x="6041" y="13518"/>
                  <a:pt x="5978" y="13568"/>
                </a:cubicBezTo>
                <a:cubicBezTo>
                  <a:pt x="5953" y="13593"/>
                  <a:pt x="5945" y="13601"/>
                  <a:pt x="5928" y="13618"/>
                </a:cubicBezTo>
                <a:cubicBezTo>
                  <a:pt x="5944" y="13619"/>
                  <a:pt x="6067" y="13667"/>
                  <a:pt x="6077" y="13593"/>
                </a:cubicBezTo>
                <a:cubicBezTo>
                  <a:pt x="6080" y="13572"/>
                  <a:pt x="6055" y="13507"/>
                  <a:pt x="6052" y="13494"/>
                </a:cubicBezTo>
                <a:cubicBezTo>
                  <a:pt x="6044" y="13477"/>
                  <a:pt x="6036" y="13461"/>
                  <a:pt x="6028" y="13444"/>
                </a:cubicBezTo>
              </a:path>
              <a:path w="4392" h="1043">
                <a:moveTo>
                  <a:pt x="2034" y="13816"/>
                </a:moveTo>
                <a:cubicBezTo>
                  <a:pt x="2034" y="13904"/>
                  <a:pt x="2038" y="13978"/>
                  <a:pt x="2009" y="14064"/>
                </a:cubicBezTo>
                <a:cubicBezTo>
                  <a:pt x="1985" y="14134"/>
                  <a:pt x="1972" y="14199"/>
                  <a:pt x="1935" y="14263"/>
                </a:cubicBezTo>
                <a:cubicBezTo>
                  <a:pt x="1910" y="14312"/>
                  <a:pt x="1901" y="14329"/>
                  <a:pt x="1885" y="14362"/>
                </a:cubicBezTo>
                <a:cubicBezTo>
                  <a:pt x="1913" y="14288"/>
                  <a:pt x="1913" y="14235"/>
                  <a:pt x="1935" y="14163"/>
                </a:cubicBezTo>
                <a:cubicBezTo>
                  <a:pt x="1961" y="14076"/>
                  <a:pt x="1994" y="13979"/>
                  <a:pt x="2009" y="13891"/>
                </a:cubicBezTo>
                <a:cubicBezTo>
                  <a:pt x="2021" y="13819"/>
                  <a:pt x="2027" y="13752"/>
                  <a:pt x="2059" y="13692"/>
                </a:cubicBezTo>
                <a:cubicBezTo>
                  <a:pt x="2081" y="13649"/>
                  <a:pt x="2085" y="13638"/>
                  <a:pt x="2108" y="13618"/>
                </a:cubicBezTo>
                <a:cubicBezTo>
                  <a:pt x="2181" y="13690"/>
                  <a:pt x="2189" y="13693"/>
                  <a:pt x="2208" y="13816"/>
                </a:cubicBezTo>
                <a:cubicBezTo>
                  <a:pt x="2219" y="13886"/>
                  <a:pt x="2214" y="13971"/>
                  <a:pt x="2232" y="14039"/>
                </a:cubicBezTo>
                <a:cubicBezTo>
                  <a:pt x="2250" y="14107"/>
                  <a:pt x="2271" y="14154"/>
                  <a:pt x="2307" y="14213"/>
                </a:cubicBezTo>
                <a:cubicBezTo>
                  <a:pt x="2315" y="14230"/>
                  <a:pt x="2324" y="14246"/>
                  <a:pt x="2332" y="14263"/>
                </a:cubicBezTo>
              </a:path>
              <a:path w="4392" h="1043">
                <a:moveTo>
                  <a:pt x="2059" y="13940"/>
                </a:moveTo>
                <a:cubicBezTo>
                  <a:pt x="2125" y="13990"/>
                  <a:pt x="2197" y="14006"/>
                  <a:pt x="2282" y="14015"/>
                </a:cubicBezTo>
                <a:cubicBezTo>
                  <a:pt x="2315" y="14015"/>
                  <a:pt x="2348" y="14015"/>
                  <a:pt x="2381" y="14015"/>
                </a:cubicBezTo>
              </a:path>
              <a:path w="4392" h="1043">
                <a:moveTo>
                  <a:pt x="5978" y="14039"/>
                </a:moveTo>
                <a:cubicBezTo>
                  <a:pt x="5978" y="14149"/>
                  <a:pt x="5939" y="14317"/>
                  <a:pt x="5953" y="14412"/>
                </a:cubicBezTo>
                <a:cubicBezTo>
                  <a:pt x="5982" y="14440"/>
                  <a:pt x="5990" y="14453"/>
                  <a:pt x="5978" y="14486"/>
                </a:cubicBezTo>
                <a:cubicBezTo>
                  <a:pt x="5978" y="14371"/>
                  <a:pt x="6011" y="14303"/>
                  <a:pt x="6028" y="14188"/>
                </a:cubicBezTo>
                <a:cubicBezTo>
                  <a:pt x="6037" y="14127"/>
                  <a:pt x="6035" y="14049"/>
                  <a:pt x="6052" y="13990"/>
                </a:cubicBezTo>
                <a:cubicBezTo>
                  <a:pt x="6077" y="13902"/>
                  <a:pt x="6117" y="13864"/>
                  <a:pt x="6201" y="13915"/>
                </a:cubicBezTo>
                <a:cubicBezTo>
                  <a:pt x="6261" y="13952"/>
                  <a:pt x="6291" y="14077"/>
                  <a:pt x="6276" y="14139"/>
                </a:cubicBezTo>
                <a:cubicBezTo>
                  <a:pt x="6261" y="14202"/>
                  <a:pt x="6170" y="14188"/>
                  <a:pt x="6127" y="14188"/>
                </a:cubicBezTo>
                <a:cubicBezTo>
                  <a:pt x="6067" y="14188"/>
                  <a:pt x="6068" y="14179"/>
                  <a:pt x="6028" y="14139"/>
                </a:cubicBezTo>
                <a:cubicBezTo>
                  <a:pt x="6098" y="14148"/>
                  <a:pt x="6147" y="14164"/>
                  <a:pt x="6201" y="14213"/>
                </a:cubicBezTo>
                <a:cubicBezTo>
                  <a:pt x="6245" y="14252"/>
                  <a:pt x="6252" y="14338"/>
                  <a:pt x="6226" y="14387"/>
                </a:cubicBezTo>
                <a:cubicBezTo>
                  <a:pt x="6192" y="14449"/>
                  <a:pt x="6109" y="14436"/>
                  <a:pt x="6052" y="14436"/>
                </a:cubicBezTo>
                <a:cubicBezTo>
                  <a:pt x="5983" y="14436"/>
                  <a:pt x="5947" y="14430"/>
                  <a:pt x="5879" y="14412"/>
                </a:cubicBezTo>
              </a:path>
              <a:path w="4392" h="1043">
                <a:moveTo>
                  <a:pt x="3497" y="13866"/>
                </a:moveTo>
                <a:cubicBezTo>
                  <a:pt x="3544" y="13773"/>
                  <a:pt x="3539" y="13747"/>
                  <a:pt x="3646" y="13742"/>
                </a:cubicBezTo>
                <a:cubicBezTo>
                  <a:pt x="3741" y="13737"/>
                  <a:pt x="3717" y="13782"/>
                  <a:pt x="3746" y="13841"/>
                </a:cubicBezTo>
                <a:cubicBezTo>
                  <a:pt x="3776" y="13904"/>
                  <a:pt x="3786" y="13969"/>
                  <a:pt x="3746" y="14039"/>
                </a:cubicBezTo>
                <a:cubicBezTo>
                  <a:pt x="3694" y="14130"/>
                  <a:pt x="3646" y="14110"/>
                  <a:pt x="3572" y="14139"/>
                </a:cubicBezTo>
                <a:cubicBezTo>
                  <a:pt x="3556" y="14145"/>
                  <a:pt x="3469" y="14145"/>
                  <a:pt x="3473" y="14089"/>
                </a:cubicBezTo>
                <a:cubicBezTo>
                  <a:pt x="3476" y="14046"/>
                  <a:pt x="3522" y="13996"/>
                  <a:pt x="3547" y="13965"/>
                </a:cubicBezTo>
                <a:cubicBezTo>
                  <a:pt x="3607" y="14000"/>
                  <a:pt x="3654" y="14040"/>
                  <a:pt x="3671" y="14114"/>
                </a:cubicBezTo>
                <a:cubicBezTo>
                  <a:pt x="3683" y="14168"/>
                  <a:pt x="3685" y="14214"/>
                  <a:pt x="3721" y="14238"/>
                </a:cubicBezTo>
              </a:path>
              <a:path w="4392" h="1043">
                <a:moveTo>
                  <a:pt x="3919" y="14188"/>
                </a:moveTo>
                <a:lnTo>
                  <a:pt x="3919" y="14188"/>
                </a:lnTo>
              </a:path>
              <a:path w="4392" h="1043">
                <a:moveTo>
                  <a:pt x="4142" y="13791"/>
                </a:moveTo>
                <a:cubicBezTo>
                  <a:pt x="4176" y="13733"/>
                  <a:pt x="4211" y="13686"/>
                  <a:pt x="4291" y="13717"/>
                </a:cubicBezTo>
                <a:cubicBezTo>
                  <a:pt x="4346" y="13739"/>
                  <a:pt x="4374" y="13866"/>
                  <a:pt x="4366" y="13915"/>
                </a:cubicBezTo>
                <a:cubicBezTo>
                  <a:pt x="4357" y="13969"/>
                  <a:pt x="4322" y="14075"/>
                  <a:pt x="4291" y="14114"/>
                </a:cubicBezTo>
                <a:cubicBezTo>
                  <a:pt x="4268" y="14142"/>
                  <a:pt x="4193" y="14193"/>
                  <a:pt x="4167" y="14188"/>
                </a:cubicBezTo>
                <a:cubicBezTo>
                  <a:pt x="4098" y="14174"/>
                  <a:pt x="4123" y="14098"/>
                  <a:pt x="4142" y="14064"/>
                </a:cubicBezTo>
                <a:cubicBezTo>
                  <a:pt x="4188" y="14110"/>
                  <a:pt x="4227" y="14141"/>
                  <a:pt x="4266" y="14188"/>
                </a:cubicBezTo>
                <a:cubicBezTo>
                  <a:pt x="4303" y="14233"/>
                  <a:pt x="4329" y="14252"/>
                  <a:pt x="4341" y="1431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Ink 10"/>
          <p:cNvSpPr/>
          <p:nvPr/>
        </p:nvSpPr>
        <p:spPr>
          <a:xfrm>
            <a:off x="3071880" y="3375000"/>
            <a:ext cx="465120" cy="295200"/>
          </a:xfrm>
          <a:custGeom>
            <a:avLst/>
            <a:gdLst/>
            <a:ahLst/>
            <a:rect l="l" t="t" r="r" b="b"/>
            <a:pathLst>
              <a:path w="1291" h="820">
                <a:moveTo>
                  <a:pt x="8607" y="9897"/>
                </a:moveTo>
                <a:cubicBezTo>
                  <a:pt x="8583" y="9992"/>
                  <a:pt x="8564" y="10039"/>
                  <a:pt x="8558" y="10120"/>
                </a:cubicBezTo>
                <a:cubicBezTo>
                  <a:pt x="8546" y="10291"/>
                  <a:pt x="8537" y="10046"/>
                  <a:pt x="8533" y="9996"/>
                </a:cubicBezTo>
                <a:cubicBezTo>
                  <a:pt x="8526" y="9911"/>
                  <a:pt x="8537" y="9795"/>
                  <a:pt x="8558" y="9748"/>
                </a:cubicBezTo>
                <a:cubicBezTo>
                  <a:pt x="8579" y="9683"/>
                  <a:pt x="8578" y="9658"/>
                  <a:pt x="8632" y="9674"/>
                </a:cubicBezTo>
                <a:cubicBezTo>
                  <a:pt x="8728" y="9715"/>
                  <a:pt x="8706" y="9786"/>
                  <a:pt x="8706" y="9897"/>
                </a:cubicBezTo>
                <a:cubicBezTo>
                  <a:pt x="8706" y="9954"/>
                  <a:pt x="8680" y="9984"/>
                  <a:pt x="8632" y="9996"/>
                </a:cubicBezTo>
              </a:path>
              <a:path w="1291" h="820">
                <a:moveTo>
                  <a:pt x="8855" y="9376"/>
                </a:moveTo>
                <a:cubicBezTo>
                  <a:pt x="8855" y="9554"/>
                  <a:pt x="8861" y="9724"/>
                  <a:pt x="8880" y="9897"/>
                </a:cubicBezTo>
                <a:cubicBezTo>
                  <a:pt x="8890" y="9985"/>
                  <a:pt x="8861" y="9971"/>
                  <a:pt x="8930" y="9971"/>
                </a:cubicBezTo>
              </a:path>
              <a:path w="1291" h="820">
                <a:moveTo>
                  <a:pt x="9153" y="9674"/>
                </a:moveTo>
                <a:cubicBezTo>
                  <a:pt x="9086" y="9556"/>
                  <a:pt x="9075" y="9626"/>
                  <a:pt x="8979" y="9674"/>
                </a:cubicBezTo>
                <a:cubicBezTo>
                  <a:pt x="8924" y="9702"/>
                  <a:pt x="8950" y="9749"/>
                  <a:pt x="8954" y="9773"/>
                </a:cubicBezTo>
                <a:cubicBezTo>
                  <a:pt x="8963" y="9832"/>
                  <a:pt x="9010" y="9944"/>
                  <a:pt x="9103" y="9897"/>
                </a:cubicBezTo>
                <a:cubicBezTo>
                  <a:pt x="9154" y="9871"/>
                  <a:pt x="9165" y="9779"/>
                  <a:pt x="9153" y="9748"/>
                </a:cubicBezTo>
                <a:cubicBezTo>
                  <a:pt x="9124" y="9777"/>
                  <a:pt x="9110" y="9833"/>
                  <a:pt x="9178" y="9847"/>
                </a:cubicBezTo>
                <a:cubicBezTo>
                  <a:pt x="9194" y="9847"/>
                  <a:pt x="9211" y="9847"/>
                  <a:pt x="9227" y="9847"/>
                </a:cubicBezTo>
              </a:path>
              <a:path w="1291" h="820">
                <a:moveTo>
                  <a:pt x="9277" y="9624"/>
                </a:moveTo>
                <a:cubicBezTo>
                  <a:pt x="9277" y="9704"/>
                  <a:pt x="9263" y="9783"/>
                  <a:pt x="9302" y="9847"/>
                </a:cubicBezTo>
                <a:cubicBezTo>
                  <a:pt x="9330" y="9792"/>
                  <a:pt x="9327" y="9741"/>
                  <a:pt x="9327" y="9674"/>
                </a:cubicBezTo>
                <a:cubicBezTo>
                  <a:pt x="9327" y="9586"/>
                  <a:pt x="9346" y="9572"/>
                  <a:pt x="9426" y="9550"/>
                </a:cubicBezTo>
                <a:cubicBezTo>
                  <a:pt x="9458" y="9622"/>
                  <a:pt x="9429" y="9675"/>
                  <a:pt x="9451" y="9748"/>
                </a:cubicBezTo>
                <a:cubicBezTo>
                  <a:pt x="9470" y="9811"/>
                  <a:pt x="9515" y="9844"/>
                  <a:pt x="9575" y="9847"/>
                </a:cubicBezTo>
                <a:cubicBezTo>
                  <a:pt x="9647" y="9851"/>
                  <a:pt x="9687" y="9820"/>
                  <a:pt x="9699" y="9748"/>
                </a:cubicBezTo>
                <a:cubicBezTo>
                  <a:pt x="9712" y="9668"/>
                  <a:pt x="9721" y="9673"/>
                  <a:pt x="9699" y="9599"/>
                </a:cubicBezTo>
                <a:cubicBezTo>
                  <a:pt x="9679" y="9539"/>
                  <a:pt x="9680" y="9524"/>
                  <a:pt x="9649" y="9500"/>
                </a:cubicBezTo>
                <a:cubicBezTo>
                  <a:pt x="9613" y="9571"/>
                  <a:pt x="9622" y="9601"/>
                  <a:pt x="9649" y="9674"/>
                </a:cubicBezTo>
                <a:cubicBezTo>
                  <a:pt x="9667" y="9724"/>
                  <a:pt x="9714" y="9858"/>
                  <a:pt x="9748" y="9897"/>
                </a:cubicBezTo>
                <a:cubicBezTo>
                  <a:pt x="9789" y="9943"/>
                  <a:pt x="9809" y="9927"/>
                  <a:pt x="9823" y="9996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Ink 11"/>
          <p:cNvSpPr/>
          <p:nvPr/>
        </p:nvSpPr>
        <p:spPr>
          <a:xfrm>
            <a:off x="2928960" y="3616200"/>
            <a:ext cx="63360" cy="54000"/>
          </a:xfrm>
          <a:custGeom>
            <a:avLst/>
            <a:gdLst/>
            <a:ahLst/>
            <a:rect l="l" t="t" r="r" b="b"/>
            <a:pathLst>
              <a:path w="175" h="150">
                <a:moveTo>
                  <a:pt x="8210" y="10195"/>
                </a:moveTo>
                <a:cubicBezTo>
                  <a:pt x="8270" y="10195"/>
                  <a:pt x="8300" y="10107"/>
                  <a:pt x="8260" y="10071"/>
                </a:cubicBezTo>
                <a:cubicBezTo>
                  <a:pt x="8217" y="10033"/>
                  <a:pt x="8119" y="10081"/>
                  <a:pt x="8136" y="10145"/>
                </a:cubicBezTo>
                <a:cubicBezTo>
                  <a:pt x="8167" y="10262"/>
                  <a:pt x="8225" y="10164"/>
                  <a:pt x="8260" y="10120"/>
                </a:cubicBezTo>
                <a:cubicBezTo>
                  <a:pt x="8248" y="10040"/>
                  <a:pt x="8262" y="10049"/>
                  <a:pt x="8186" y="10071"/>
                </a:cubicBezTo>
                <a:cubicBezTo>
                  <a:pt x="8164" y="10120"/>
                  <a:pt x="8157" y="10241"/>
                  <a:pt x="8260" y="10195"/>
                </a:cubicBezTo>
                <a:cubicBezTo>
                  <a:pt x="8299" y="10156"/>
                  <a:pt x="8316" y="10154"/>
                  <a:pt x="8310" y="10120"/>
                </a:cubicBezTo>
                <a:cubicBezTo>
                  <a:pt x="8264" y="10075"/>
                  <a:pt x="8131" y="10111"/>
                  <a:pt x="8186" y="10145"/>
                </a:cubicBezTo>
                <a:cubicBezTo>
                  <a:pt x="8235" y="10175"/>
                  <a:pt x="8358" y="10118"/>
                  <a:pt x="8285" y="10046"/>
                </a:cubicBezTo>
                <a:cubicBezTo>
                  <a:pt x="8242" y="10004"/>
                  <a:pt x="8156" y="10103"/>
                  <a:pt x="8136" y="10120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Ink 12"/>
          <p:cNvSpPr/>
          <p:nvPr/>
        </p:nvSpPr>
        <p:spPr>
          <a:xfrm>
            <a:off x="768240" y="3616200"/>
            <a:ext cx="2224080" cy="1251000"/>
          </a:xfrm>
          <a:custGeom>
            <a:avLst/>
            <a:gdLst/>
            <a:ahLst/>
            <a:rect l="l" t="t" r="r" b="b"/>
            <a:pathLst>
              <a:path w="6178" h="3474">
                <a:moveTo>
                  <a:pt x="2133" y="13395"/>
                </a:moveTo>
                <a:cubicBezTo>
                  <a:pt x="2176" y="13363"/>
                  <a:pt x="2213" y="13325"/>
                  <a:pt x="2257" y="13295"/>
                </a:cubicBezTo>
                <a:cubicBezTo>
                  <a:pt x="2321" y="13252"/>
                  <a:pt x="2390" y="13233"/>
                  <a:pt x="2456" y="13196"/>
                </a:cubicBezTo>
                <a:cubicBezTo>
                  <a:pt x="2499" y="13172"/>
                  <a:pt x="2534" y="13146"/>
                  <a:pt x="2580" y="13122"/>
                </a:cubicBezTo>
                <a:cubicBezTo>
                  <a:pt x="2652" y="13084"/>
                  <a:pt x="2726" y="13054"/>
                  <a:pt x="2803" y="13022"/>
                </a:cubicBezTo>
                <a:cubicBezTo>
                  <a:pt x="2859" y="12999"/>
                  <a:pt x="2925" y="12973"/>
                  <a:pt x="2977" y="12948"/>
                </a:cubicBezTo>
                <a:cubicBezTo>
                  <a:pt x="3069" y="12903"/>
                  <a:pt x="3165" y="12836"/>
                  <a:pt x="3249" y="12774"/>
                </a:cubicBezTo>
                <a:cubicBezTo>
                  <a:pt x="3340" y="12708"/>
                  <a:pt x="3426" y="12641"/>
                  <a:pt x="3522" y="12576"/>
                </a:cubicBezTo>
                <a:cubicBezTo>
                  <a:pt x="3587" y="12532"/>
                  <a:pt x="3657" y="12498"/>
                  <a:pt x="3721" y="12452"/>
                </a:cubicBezTo>
                <a:cubicBezTo>
                  <a:pt x="3794" y="12399"/>
                  <a:pt x="3878" y="12315"/>
                  <a:pt x="3944" y="12278"/>
                </a:cubicBezTo>
                <a:cubicBezTo>
                  <a:pt x="4044" y="12221"/>
                  <a:pt x="4129" y="12188"/>
                  <a:pt x="4217" y="12129"/>
                </a:cubicBezTo>
                <a:cubicBezTo>
                  <a:pt x="4313" y="12065"/>
                  <a:pt x="4391" y="12033"/>
                  <a:pt x="4490" y="11981"/>
                </a:cubicBezTo>
                <a:cubicBezTo>
                  <a:pt x="4585" y="11931"/>
                  <a:pt x="4671" y="11864"/>
                  <a:pt x="4762" y="11807"/>
                </a:cubicBezTo>
                <a:cubicBezTo>
                  <a:pt x="4838" y="11760"/>
                  <a:pt x="4936" y="11732"/>
                  <a:pt x="5011" y="11683"/>
                </a:cubicBezTo>
                <a:cubicBezTo>
                  <a:pt x="5093" y="11629"/>
                  <a:pt x="5172" y="11582"/>
                  <a:pt x="5259" y="11534"/>
                </a:cubicBezTo>
                <a:cubicBezTo>
                  <a:pt x="5354" y="11481"/>
                  <a:pt x="5439" y="11386"/>
                  <a:pt x="5531" y="11336"/>
                </a:cubicBezTo>
                <a:cubicBezTo>
                  <a:pt x="5649" y="11272"/>
                  <a:pt x="5788" y="11189"/>
                  <a:pt x="5904" y="11137"/>
                </a:cubicBezTo>
                <a:cubicBezTo>
                  <a:pt x="5991" y="11098"/>
                  <a:pt x="6091" y="11080"/>
                  <a:pt x="6176" y="11038"/>
                </a:cubicBezTo>
                <a:cubicBezTo>
                  <a:pt x="6313" y="10970"/>
                  <a:pt x="6454" y="10882"/>
                  <a:pt x="6598" y="10815"/>
                </a:cubicBezTo>
                <a:cubicBezTo>
                  <a:pt x="6711" y="10762"/>
                  <a:pt x="6790" y="10702"/>
                  <a:pt x="6896" y="10641"/>
                </a:cubicBezTo>
                <a:cubicBezTo>
                  <a:pt x="6959" y="10605"/>
                  <a:pt x="7052" y="10597"/>
                  <a:pt x="7119" y="10567"/>
                </a:cubicBezTo>
                <a:cubicBezTo>
                  <a:pt x="7195" y="10533"/>
                  <a:pt x="7266" y="10465"/>
                  <a:pt x="7342" y="10443"/>
                </a:cubicBezTo>
                <a:cubicBezTo>
                  <a:pt x="7447" y="10412"/>
                  <a:pt x="7513" y="10384"/>
                  <a:pt x="7615" y="10344"/>
                </a:cubicBezTo>
                <a:cubicBezTo>
                  <a:pt x="7705" y="10309"/>
                  <a:pt x="7822" y="10302"/>
                  <a:pt x="7913" y="10269"/>
                </a:cubicBezTo>
                <a:cubicBezTo>
                  <a:pt x="7965" y="10250"/>
                  <a:pt x="8046" y="10163"/>
                  <a:pt x="8111" y="10145"/>
                </a:cubicBezTo>
                <a:cubicBezTo>
                  <a:pt x="8178" y="10126"/>
                  <a:pt x="8218" y="10054"/>
                  <a:pt x="8285" y="10071"/>
                </a:cubicBezTo>
                <a:cubicBezTo>
                  <a:pt x="8319" y="10079"/>
                  <a:pt x="8271" y="10066"/>
                  <a:pt x="8235" y="10145"/>
                </a:cubicBezTo>
                <a:cubicBezTo>
                  <a:pt x="8214" y="10192"/>
                  <a:pt x="8152" y="10243"/>
                  <a:pt x="8136" y="10269"/>
                </a:cubicBezTo>
                <a:cubicBezTo>
                  <a:pt x="8106" y="10318"/>
                  <a:pt x="8101" y="10367"/>
                  <a:pt x="8062" y="10418"/>
                </a:cubicBezTo>
                <a:cubicBezTo>
                  <a:pt x="8038" y="10449"/>
                  <a:pt x="7974" y="10504"/>
                  <a:pt x="7938" y="10567"/>
                </a:cubicBezTo>
                <a:cubicBezTo>
                  <a:pt x="7899" y="10634"/>
                  <a:pt x="7820" y="10707"/>
                  <a:pt x="7789" y="10765"/>
                </a:cubicBezTo>
                <a:cubicBezTo>
                  <a:pt x="7719" y="10895"/>
                  <a:pt x="7645" y="10966"/>
                  <a:pt x="7565" y="11088"/>
                </a:cubicBezTo>
                <a:cubicBezTo>
                  <a:pt x="7498" y="11191"/>
                  <a:pt x="7444" y="11289"/>
                  <a:pt x="7367" y="11385"/>
                </a:cubicBezTo>
                <a:cubicBezTo>
                  <a:pt x="7312" y="11454"/>
                  <a:pt x="7258" y="11511"/>
                  <a:pt x="7193" y="11584"/>
                </a:cubicBezTo>
                <a:cubicBezTo>
                  <a:pt x="7145" y="11638"/>
                  <a:pt x="7091" y="11699"/>
                  <a:pt x="7045" y="11757"/>
                </a:cubicBezTo>
                <a:cubicBezTo>
                  <a:pt x="6983" y="11836"/>
                  <a:pt x="6936" y="11928"/>
                  <a:pt x="6871" y="12005"/>
                </a:cubicBezTo>
                <a:cubicBezTo>
                  <a:pt x="6833" y="12050"/>
                  <a:pt x="6788" y="12105"/>
                  <a:pt x="6747" y="12154"/>
                </a:cubicBezTo>
                <a:cubicBezTo>
                  <a:pt x="6703" y="12206"/>
                  <a:pt x="6665" y="12246"/>
                  <a:pt x="6623" y="12303"/>
                </a:cubicBezTo>
                <a:cubicBezTo>
                  <a:pt x="6581" y="12359"/>
                  <a:pt x="6538" y="12419"/>
                  <a:pt x="6499" y="12477"/>
                </a:cubicBezTo>
                <a:cubicBezTo>
                  <a:pt x="6465" y="12527"/>
                  <a:pt x="6435" y="12578"/>
                  <a:pt x="6400" y="12626"/>
                </a:cubicBezTo>
                <a:cubicBezTo>
                  <a:pt x="6369" y="12668"/>
                  <a:pt x="6329" y="12707"/>
                  <a:pt x="6300" y="12750"/>
                </a:cubicBezTo>
                <a:cubicBezTo>
                  <a:pt x="6270" y="12795"/>
                  <a:pt x="6256" y="12872"/>
                  <a:pt x="6226" y="12923"/>
                </a:cubicBezTo>
                <a:cubicBezTo>
                  <a:pt x="6200" y="12968"/>
                  <a:pt x="6180" y="13000"/>
                  <a:pt x="6152" y="13047"/>
                </a:cubicBezTo>
                <a:cubicBezTo>
                  <a:pt x="6117" y="13106"/>
                  <a:pt x="6102" y="13169"/>
                  <a:pt x="6077" y="13221"/>
                </a:cubicBezTo>
                <a:cubicBezTo>
                  <a:pt x="6053" y="13270"/>
                  <a:pt x="6030" y="13327"/>
                  <a:pt x="6003" y="13370"/>
                </a:cubicBezTo>
                <a:cubicBezTo>
                  <a:pt x="5976" y="13413"/>
                  <a:pt x="5929" y="13450"/>
                  <a:pt x="5904" y="13494"/>
                </a:cubicBezTo>
                <a:cubicBezTo>
                  <a:pt x="5904" y="13502"/>
                  <a:pt x="5904" y="13511"/>
                  <a:pt x="5904" y="13519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500" spc="-1" strike="noStrike">
                <a:solidFill>
                  <a:srgbClr val="ccffff"/>
                </a:solidFill>
                <a:latin typeface="Arial"/>
              </a:rPr>
              <a:t>No homework tonight!</a:t>
            </a:r>
            <a:br>
              <a:rPr sz="6500"/>
            </a:br>
            <a:endParaRPr b="0" lang="en-US" sz="6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20:20:41Z</dcterms:created>
  <dc:creator>jnewman</dc:creator>
  <dc:description/>
  <dc:language>en-US</dc:language>
  <cp:lastModifiedBy>abeason</cp:lastModifiedBy>
  <dcterms:modified xsi:type="dcterms:W3CDTF">2010-01-06T15:35:40Z</dcterms:modified>
  <cp:revision>10</cp:revision>
  <dc:subject/>
  <dc:title>Wednesday, December 19th</dc:title>
</cp:coreProperties>
</file>